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25D42-D71C-4205-8F53-F9A5260F0B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34F20-9071-4580-8B84-1EB6F91D23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B5346-97B0-497E-B0A5-730D1C3E02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3A3D5-0A31-4525-A164-965FDED82F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570EA-FFEB-4373-B8A7-B2614D1A00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22DCA-2A30-4559-9F82-18A98459AF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31491-F9F5-4CEC-97D3-080363240E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11C9F-3614-43AA-913E-FFEA577A0E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66E3D-6F39-454D-BD07-9BEE94E6F8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1FFF9-97DF-430B-A189-CDB2A2DE04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00DBE-D70E-4BE1-9354-F7269A5BBF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A2269-CA54-4D32-B83F-34EA0866F2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DB18-6D6A-4F75-90A6-B2EADE81D253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A200-766A-4ADC-8998-05D45EA7F309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6669000"/>
            <a:ext cx="91440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d.:Vía Lác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gradFill rotWithShape="0">
            <a:gsLst>
              <a:gs pos="0">
                <a:srgbClr val="f4fafa"/>
              </a:gs>
              <a:gs pos="100000">
                <a:srgbClr val="ffe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QUILIBRIOS RED –OX                                      Exerc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118728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xusta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187280" y="404640"/>
            <a:ext cx="756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80400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4930920" y="1052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203640" y="2565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250920" y="4791240"/>
            <a:ext cx="81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466560" y="5734080"/>
            <a:ext cx="8137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5 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539640" y="2997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521964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3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2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7500"/>
                            </p:stCondLst>
                            <p:childTnLst>
                              <p:par>
                                <p:cTn id="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5:41:23Z</dcterms:created>
  <dc:creator>PARTICULAR</dc:creator>
  <dc:description/>
  <dc:language>en-US</dc:language>
  <cp:lastModifiedBy>Usuario de Windows</cp:lastModifiedBy>
  <dcterms:modified xsi:type="dcterms:W3CDTF">2018-05-24T11:30:48Z</dcterms:modified>
  <cp:revision>36</cp:revision>
  <dc:subject/>
  <dc:title>Reaccións de oxidación reducción</dc:title>
</cp:coreProperties>
</file>