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FB3CD-6625-4530-968F-4FC76CA84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EEAEE-FC18-4F52-92B5-D8CC2C3F53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41CE-F76C-4E94-BF95-6D755B8C1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C5B64-DC47-459B-8014-8C6B945594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98FD-C1CE-42FA-B2DF-5392636FC4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29A5-6AD9-455B-97E9-C234FF0B6C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A25E-DBB8-47AA-8B7F-A8DA69C22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227E-37E2-4784-99AD-829634F8A8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71E6-6E00-4252-BF66-B792B975F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79033-6CED-4A3C-88B5-AF2A30F14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8505-D7DD-4EE6-AAAA-746970D5D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5686-35EB-4DFE-8E63-80FBF1C51A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D5DD-5F30-46CA-AA20-88C7156C403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F7E0-49E8-44E7-BEAA-C8B624D273C3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118728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xusta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187280" y="404640"/>
            <a:ext cx="756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3203640" y="256536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10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466560" y="5734080"/>
            <a:ext cx="8137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521964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7500"/>
                            </p:stCondLst>
                            <p:childTnLst>
                              <p:par>
                                <p:cTn id="4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Usuario de Windows</cp:lastModifiedBy>
  <dcterms:modified xsi:type="dcterms:W3CDTF">2018-05-24T11:30:48Z</dcterms:modified>
  <cp:revision>36</cp:revision>
  <dc:subject/>
  <dc:title>Reaccións de oxidación reducción</dc:title>
</cp:coreProperties>
</file>