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2F773-E57E-4134-9DA9-958C42C8E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74726-6A44-4AD3-BB6B-6A1D7412A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6D2DF-C9BB-4B03-A80C-BCC277D81B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A6E5C-C286-4F55-8258-B236145EBA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A1007-0E28-4157-8A47-C9510DA31B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BCBF5-BD3C-4EC7-8D2F-B895CE5F1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E10B9-7434-4E9E-AD4C-9FD824C00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6A341-191D-42E7-94B8-7CDE74B4C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C6BAD-B9E5-4302-B660-D2CCC8C248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F7E63-0023-4268-A577-F5D92CB01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154F-E45A-4B56-A52A-0DE9499F5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B58F8-4D22-482C-90CB-5637A05B2A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0EB4-04D6-45F2-B9AB-72551D7AE5F8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CC3B-C6BD-4B6F-9772-894C5F8CBF05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118728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xusta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87280" y="40464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203640" y="2565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66560" y="5734080"/>
            <a:ext cx="8137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521964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Usuario de Windows</cp:lastModifiedBy>
  <dcterms:modified xsi:type="dcterms:W3CDTF">2018-05-24T11:30:48Z</dcterms:modified>
  <cp:revision>36</cp:revision>
  <dc:subject/>
  <dc:title>Reaccións de oxidación reducción</dc:title>
</cp:coreProperties>
</file>