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51.jpeg" ContentType="image/jpeg"/>
  <Override PartName="/ppt/media/image44.png" ContentType="image/png"/>
  <Override PartName="/ppt/media/image13.jpeg" ContentType="image/jpeg"/>
  <Override PartName="/ppt/media/image52.png" ContentType="image/png"/>
  <Override PartName="/ppt/media/image41.png" ContentType="image/png"/>
  <Override PartName="/ppt/media/image53.jpeg" ContentType="image/jpeg"/>
  <Override PartName="/ppt/media/image42.png" ContentType="image/png"/>
  <Override PartName="/ppt/media/image54.png" ContentType="image/png"/>
  <Override PartName="/ppt/media/image56.png" ContentType="image/png"/>
  <Override PartName="/ppt/media/image46.png" ContentType="image/png"/>
  <Override PartName="/ppt/media/image57.jpeg" ContentType="image/jpeg"/>
  <Override PartName="/ppt/media/image36.jpeg" ContentType="image/jpeg"/>
  <Override PartName="/ppt/media/image48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30.png" ContentType="image/png"/>
  <Override PartName="/ppt/media/image23.png" ContentType="image/png"/>
  <Override PartName="/ppt/media/image55.jpeg" ContentType="image/jpe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12.jpeg" ContentType="image/jpe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8EA4-E7D1-463F-B389-6C17FD9EF7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lustración de Quint Buchh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319D-74D8-42A0-BCA9-4CCD3D3C31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tista polifacético e diseñador gráfico e industrial , autor dun libro fundamental “Como nacen los objetos”. Escribía libros para rapaces orixinariamente dirixidos ao seu fillo Alber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FF2-E4B0-45E2-AD3C-D3E98624C8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spectos paratextuais: Formato, edición, deseño da cuberta, das guardas, tipo de letra. Exemplo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rándanos para 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10D-4ABA-4E0E-B510-AF6BA1AD1F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O paseo de Rosalía, A familia C, Que bonito es Panamá; As estacións, La niebla de Milán; Zoom; Só un segundo; Gorila; A historia de Erika; Madlenka; La o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6EA-7597-4606-A818-3C2AEE29BDB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Vamos a cazar un oso; Donde viven los monstru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D244-E1A4-4756-9556-448ED0789BD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s manoplas de Carapuchiña; No bosque; Imaxina animais; Minimaladas; Oda a una estre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6320-EF66-4DFC-A173-C271C8FE673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lgúns precursores: Beatrice Potter; Peter Newell; Jean de Brunhoff. Deseñadores: Paul Rand ; Bruno Muna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8490-7CFE-46A8-87D6-3F1A0AFA5DA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lustración de Quint Buchh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6DA-F343-41BA-8B64-4D60027969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he Naps of Polly Sleepyhead,” publicada semanalmente no New York Herald nos anos 1905 – 19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A82-9BB7-47F5-BAA3-8ACC295F0F0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abar (1931). O texto é orixinal da súa esposa Cecile. Escribiu e ilustrou un total de 6 libros. Despois de 1946 o seu fillo Laurent de Brunhoff continuo escribindo e dibuxando historias de Bab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747-011D-442C-8B1D-1DAE83D6462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añador en dúas ocasións  da Caldecott Medal, o máis prestixioso premio norteamericano para o libro infantil ilustrado. O personaxes do seu libro “Make way for Ducklings” están representados en esculturas no Public Garden de Boston (Massachusett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6AE5-2143-4C5B-8441-5DDE4AD5FD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7D3-0C99-45FA-9E77-A3AC4771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885-E5D0-4EB2-992E-EC8DEB6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6CC-6138-4657-99BF-4A5E099B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A3B-B3BE-4EC0-BD7D-39A1DD34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C252-9210-4825-AC79-C5EC3245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9C3-D573-4361-AD00-B78A0747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0E2-F9CB-4CA4-951D-23906E88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68A-E1B5-4CF7-8167-89DE1FEF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43D-0DAA-4079-8DC3-8F8AB0D1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B275-5F14-4AD6-86FC-F4AFC57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0515-A62F-4DC2-A7EF-5881F45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49C-D6D2-4076-891C-F9F1CF2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2A32-DD3E-45AB-9C75-FDD1B30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FBC4-8569-4D45-AF87-EC6E174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0B8-DB3B-479D-AF80-F69C0D25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9392-3934-44C5-B5A0-5C9A2A8F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CA6F-CC13-41BD-BB47-08AC0BEE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D9-17E5-41D1-A7F2-D5EC8B71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F38-7973-4AB5-8D04-ED1E7F6F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497-A112-4E73-9A8E-A422799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7FD-1633-4631-B9A2-F5CE933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7B7-497A-4B3E-8F33-19189E2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5B1-BFA5-47EF-B7BD-3B20602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314-B3B6-49E6-A474-F9195FA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FCBD-F50C-4D5D-B26A-E384A016BD99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A63-285C-44DA-8A1E-D5FB870B0EB1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 Imagen" descr="30006.jpg"/>
          <p:cNvPicPr/>
          <p:nvPr/>
        </p:nvPicPr>
        <p:blipFill>
          <a:blip r:embed="rId1"/>
          <a:stretch/>
        </p:blipFill>
        <p:spPr>
          <a:xfrm>
            <a:off x="2247840" y="406440"/>
            <a:ext cx="4761000" cy="6191280"/>
          </a:xfrm>
          <a:prstGeom prst="rect">
            <a:avLst/>
          </a:prstGeom>
          <a:ln w="0">
            <a:noFill/>
          </a:ln>
        </p:spPr>
      </p:pic>
      <p:pic>
        <p:nvPicPr>
          <p:cNvPr id="103" name="1 Título" descr=""/>
          <p:cNvPicPr/>
          <p:nvPr/>
        </p:nvPicPr>
        <p:blipFill>
          <a:blip r:embed="rId2"/>
          <a:stretch/>
        </p:blipFill>
        <p:spPr>
          <a:xfrm>
            <a:off x="523800" y="1365120"/>
            <a:ext cx="7364520" cy="1195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880" y="5445000"/>
            <a:ext cx="7854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María Jesús Fernández Fernánd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Bruno Munari (Italia, 1907 – 1998) Premio Andersen 1974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5053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62744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 flipV="1" rot="10800000">
            <a:off x="4427280" y="4148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5 CuadroTexto"/>
          <p:cNvSpPr/>
          <p:nvPr/>
        </p:nvSpPr>
        <p:spPr>
          <a:xfrm>
            <a:off x="6084720" y="59500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7979040" cy="1157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0000"/>
                </a:solidFill>
                <a:latin typeface="Constantia"/>
              </a:rPr>
              <a:t>Sophie Van der Linden (2006):</a:t>
            </a:r>
            <a:r>
              <a:rPr b="0" i="1" lang="es-ES" sz="2200" spc="-1" strike="noStrike">
                <a:solidFill>
                  <a:srgbClr val="220000"/>
                </a:solidFill>
                <a:latin typeface="Constantia"/>
              </a:rPr>
              <a:t>”Forma de expresión que presenta unha interacción entre textos (que poden ser subxacentes) e imaxes (preponderantes) no seo dun soporte libro, caracterizado pola libre organización da páxina, a diversidade das súas realizacións materiais e a </a:t>
            </a:r>
            <a:r>
              <a:rPr b="0" i="1" lang="es-ES" sz="2200" spc="-1" strike="noStrike" u="sng">
                <a:solidFill>
                  <a:srgbClr val="220000"/>
                </a:solidFill>
                <a:uFillTx/>
                <a:latin typeface="Constantia"/>
              </a:rPr>
              <a:t>sucesión fluida e coherente das súas páxinas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1 Título" descr=""/>
          <p:cNvPicPr/>
          <p:nvPr/>
        </p:nvPicPr>
        <p:blipFill>
          <a:blip r:embed="rId1"/>
          <a:stretch/>
        </p:blipFill>
        <p:spPr>
          <a:xfrm>
            <a:off x="103320" y="1231920"/>
            <a:ext cx="7645320" cy="1035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4920" y="2204640"/>
            <a:ext cx="79930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 todo significativo  no  álbum ilustrado,“o texto”. está composto por palabras e imaxes que actúan de forma sinérxic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00000"/>
                </a:solidFill>
                <a:latin typeface="Constantia"/>
              </a:rPr>
              <a:t>Autores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220000"/>
                </a:solidFill>
                <a:latin typeface="Constantia"/>
              </a:rPr>
              <a:t>-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Narrador verb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-Narrador visua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-Responsable de aspectos para textuais (deseñador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 Título" descr=""/>
          <p:cNvPicPr/>
          <p:nvPr/>
        </p:nvPicPr>
        <p:blipFill>
          <a:blip r:embed="rId1"/>
          <a:stretch/>
        </p:blipFill>
        <p:spPr>
          <a:xfrm>
            <a:off x="146160" y="1311120"/>
            <a:ext cx="81626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2704680"/>
            <a:ext cx="7907400" cy="338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Forma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Tipo de pape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Cuberta e contracubert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“Guardas”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Follas preliminares: Portadilla, Contraportada, Portada,            Páxina de crédito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- Tipo de letr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1 Título" descr=""/>
          <p:cNvPicPr/>
          <p:nvPr/>
        </p:nvPicPr>
        <p:blipFill>
          <a:blip r:embed="rId1"/>
          <a:stretch/>
        </p:blipFill>
        <p:spPr>
          <a:xfrm>
            <a:off x="103320" y="871560"/>
            <a:ext cx="8162640" cy="1036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Nova maneira de ler:  Nunha operación de análise e síntese se calibra o que queren dicir as imaxes de acordo co que afirman as palabras, e se deduce o que queren dicir as palabras de acordo co que expresan as ilustració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 Título" descr=""/>
          <p:cNvPicPr/>
          <p:nvPr/>
        </p:nvPicPr>
        <p:blipFill>
          <a:blip r:embed="rId1"/>
          <a:stretch/>
        </p:blipFill>
        <p:spPr>
          <a:xfrm>
            <a:off x="103320" y="609480"/>
            <a:ext cx="8553240" cy="179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mpliació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omplementariedad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ontrapunt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4400" spc="-1" strike="noStrike">
                <a:solidFill>
                  <a:srgbClr val="c00000"/>
                </a:solidFill>
                <a:latin typeface="Calibri"/>
              </a:rPr>
              <a:t>Funcións das imaxes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Secuenciación (Idea de temporalidade   e tratamento do espazo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Creación do mundo ficcional (personaxes, ambiente, ton e rexistro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As imaxes contan a histor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03320" y="-152280"/>
            <a:ext cx="793116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23640" y="263664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As imaxes inciden tamén na creación do ritmo narrativ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 ritmo vén establecido polo tempo que se tarda en pasar páx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pció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Extensión longa de tempo: Dobre páxi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Aceleración de ritmo: Imaxes contiguas na mesma páxina, encabalgamen to de imaxes, ilustración cortada ao límite de páx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Título" descr=""/>
          <p:cNvPicPr/>
          <p:nvPr/>
        </p:nvPicPr>
        <p:blipFill>
          <a:blip r:embed="rId1"/>
          <a:stretch/>
        </p:blipFill>
        <p:spPr>
          <a:xfrm>
            <a:off x="365040" y="1255680"/>
            <a:ext cx="8620200" cy="2011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0560" y="3284280"/>
            <a:ext cx="8064360" cy="3368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narrativos  </a:t>
            </a: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(De carácter realista ou fantástico, orixinal de autor ou procedente da tradición (adaptacións, parodias, utilización de técnicas narrativas…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de carácter poét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tipo catálogo </a:t>
            </a: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(As imaxes se organizan de forma acumulativa e non cunha lóxica secuencia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1 Título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7931160" cy="1798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94920" y="2491920"/>
            <a:ext cx="84978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ebux0 (lapis ou tint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intura (Acuarela, tinta, gouache, ceras, acrílico, oleo, paste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Colaxe e técnica mixt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Fotografí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Model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Técnicas de impresión (madeira e linóleo, serigrafía, augaforte, estampació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eseño asistido por ordenad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 Título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826480" cy="1554120"/>
          </a:xfrm>
          <a:prstGeom prst="rect">
            <a:avLst/>
          </a:prstGeom>
          <a:ln w="0">
            <a:noFill/>
          </a:ln>
        </p:spPr>
      </p:pic>
      <p:sp>
        <p:nvSpPr>
          <p:cNvPr id="160" name="2 CuadroTexto"/>
          <p:cNvSpPr/>
          <p:nvPr/>
        </p:nvSpPr>
        <p:spPr>
          <a:xfrm>
            <a:off x="684360" y="1197000"/>
            <a:ext cx="813564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A  experiencia de lectura dos álbumes ilustrados desenvolve complexas potencias de lectura de maneira case innat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Capacidade de observ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Asociación de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Realización de in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Descubrimento de implíc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Anticip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c00000"/>
                </a:solidFill>
                <a:latin typeface="Calibri"/>
              </a:rPr>
              <a:t>Bibliografía consultada: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Teresa Durán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rendiendo de los álbumes,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ctas do 7º Encontro Nacional de Investigaçao en Leitura, Literatura Infantil e Ilustraçao. Braga, 2008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 Margarida Ramos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ontamentos para unha poética do álbum contemporáneo. O álbum na literatura infantil e xuvenil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. Xerais de Galicia, Vigo, 2011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Denise Escarpit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eer un álbum ¡es fácil! Una manera de interpretar y criticar los álbumes ilustrados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ecilia Silva-Díaz.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a función de la imagen en el álbum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 Título" descr=""/>
          <p:cNvPicPr/>
          <p:nvPr/>
        </p:nvPicPr>
        <p:blipFill>
          <a:blip r:embed="rId1"/>
          <a:stretch/>
        </p:blipFill>
        <p:spPr>
          <a:xfrm>
            <a:off x="212760" y="-152280"/>
            <a:ext cx="804708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3" name="3 Imagen" descr="anthony-browne. Gorila..jpg"/>
          <p:cNvPicPr/>
          <p:nvPr/>
        </p:nvPicPr>
        <p:blipFill>
          <a:blip r:embed="rId2"/>
          <a:stretch/>
        </p:blipFill>
        <p:spPr>
          <a:xfrm>
            <a:off x="395280" y="1916280"/>
            <a:ext cx="5832360" cy="429408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630072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Anthony Brow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Gori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 Título" descr=""/>
          <p:cNvPicPr/>
          <p:nvPr/>
        </p:nvPicPr>
        <p:blipFill>
          <a:blip r:embed="rId1"/>
          <a:stretch/>
        </p:blipFill>
        <p:spPr>
          <a:xfrm>
            <a:off x="523800" y="92160"/>
            <a:ext cx="7785000" cy="1450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7" name="3 Imagen" descr="Desencuentros Jimmy Liao.jpg"/>
          <p:cNvPicPr/>
          <p:nvPr/>
        </p:nvPicPr>
        <p:blipFill>
          <a:blip r:embed="rId2"/>
          <a:stretch/>
        </p:blipFill>
        <p:spPr>
          <a:xfrm>
            <a:off x="179280" y="1557360"/>
            <a:ext cx="4176720" cy="3821040"/>
          </a:xfrm>
          <a:prstGeom prst="rect">
            <a:avLst/>
          </a:prstGeom>
          <a:ln w="0">
            <a:noFill/>
          </a:ln>
        </p:spPr>
      </p:pic>
      <p:pic>
        <p:nvPicPr>
          <p:cNvPr id="168" name="4 Imagen" descr="desencuentros-jimmy-liao-L-3.jpg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Título" descr=""/>
          <p:cNvPicPr/>
          <p:nvPr/>
        </p:nvPicPr>
        <p:blipFill>
          <a:blip r:embed="rId1"/>
          <a:stretch/>
        </p:blipFill>
        <p:spPr>
          <a:xfrm>
            <a:off x="146160" y="469800"/>
            <a:ext cx="8381880" cy="227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 ilustración ten un carácter simbólico xa que non amosa directamente a realidade senón que ten capacidade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alusiva.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Non sempre se representa un feito concreto senón que aparece como unha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 opción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, unha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posibilidad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Mentres que o feito é real e empírico a opción deixa paso á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imaxinació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109440" y="-390600"/>
            <a:ext cx="8358120" cy="2243160"/>
          </a:xfrm>
          <a:prstGeom prst="rect">
            <a:avLst/>
          </a:prstGeom>
          <a:ln w="0">
            <a:noFill/>
          </a:ln>
        </p:spPr>
      </p:pic>
      <p:sp>
        <p:nvSpPr>
          <p:cNvPr id="172" name="4 CuadroTexto"/>
          <p:cNvSpPr/>
          <p:nvPr/>
        </p:nvSpPr>
        <p:spPr>
          <a:xfrm>
            <a:off x="1116000" y="1557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xiste unha gradación de reacció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LOXÍA. Cando existe unha gran similitude entre significante e signifi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PROPIACIÓN: Cando se poden establecer 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nexos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 de similitude entro o novo percibido e o xa coñecido por exper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STRAÑAMENTO: Cando as disimilitudes son superiores as similitudes e isto supón un estímulo para a nosa curios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XEITAMENTO:  Cando  nosa experiencia rexeita aceptar  a insólita proposta all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1 Título" descr=""/>
          <p:cNvPicPr/>
          <p:nvPr/>
        </p:nvPicPr>
        <p:blipFill>
          <a:blip r:embed="rId1"/>
          <a:stretch/>
        </p:blipFill>
        <p:spPr>
          <a:xfrm>
            <a:off x="530280" y="822240"/>
            <a:ext cx="7864560" cy="1158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3 Imagen" descr="Antonio López Mis padres.jpg"/>
          <p:cNvPicPr/>
          <p:nvPr/>
        </p:nvPicPr>
        <p:blipFill>
          <a:blip r:embed="rId2"/>
          <a:stretch/>
        </p:blipFill>
        <p:spPr>
          <a:xfrm>
            <a:off x="1258920" y="2492280"/>
            <a:ext cx="3429000" cy="2927520"/>
          </a:xfrm>
          <a:prstGeom prst="rect">
            <a:avLst/>
          </a:prstGeom>
          <a:ln w="0">
            <a:noFill/>
          </a:ln>
        </p:spPr>
      </p:pic>
      <p:sp>
        <p:nvSpPr>
          <p:cNvPr id="176" name="4 CuadroTexto"/>
          <p:cNvSpPr/>
          <p:nvPr/>
        </p:nvSpPr>
        <p:spPr>
          <a:xfrm>
            <a:off x="5003640" y="306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Antonio López. </a:t>
            </a: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Mis 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1 Título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504200" cy="1035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icasso.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Rapaza diante do espell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3 Imagen" descr="Picasso. Muchacha frente al espejo.jpg"/>
          <p:cNvPicPr/>
          <p:nvPr/>
        </p:nvPicPr>
        <p:blipFill>
          <a:blip r:embed="rId2"/>
          <a:stretch/>
        </p:blipFill>
        <p:spPr>
          <a:xfrm>
            <a:off x="250920" y="1484280"/>
            <a:ext cx="3990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1 Título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180280" cy="841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1700280"/>
            <a:ext cx="78548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3 Imagen" descr="Monet, Claude. Impresión, sol naciente..jpg"/>
          <p:cNvPicPr/>
          <p:nvPr/>
        </p:nvPicPr>
        <p:blipFill>
          <a:blip r:embed="rId2"/>
          <a:stretch/>
        </p:blipFill>
        <p:spPr>
          <a:xfrm>
            <a:off x="468360" y="1773360"/>
            <a:ext cx="5532480" cy="4284720"/>
          </a:xfrm>
          <a:prstGeom prst="rect">
            <a:avLst/>
          </a:prstGeom>
          <a:ln w="0">
            <a:noFill/>
          </a:ln>
        </p:spPr>
      </p:pic>
      <p:sp>
        <p:nvSpPr>
          <p:cNvPr id="183" name="4 CuadroTexto"/>
          <p:cNvSpPr/>
          <p:nvPr/>
        </p:nvSpPr>
        <p:spPr>
          <a:xfrm>
            <a:off x="6084720" y="1916280"/>
            <a:ext cx="27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Claude Mo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Impresión, sol na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Cadro presentado na Exposición do ano 1874 no boulevard des Capuc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Desta exposición chegou a dicir a crítica: “Ao mirar as obras expostas, un pregúntase se se trata dunha mistificación pouco conveniente para o público o do resultado dunha alienación mental que non podemos por menos que deplorar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1 Título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82040" cy="933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33160" y="2060280"/>
            <a:ext cx="78548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uchamp.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Founta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3 Imagen" descr="duchamp fountain.jpg"/>
          <p:cNvPicPr/>
          <p:nvPr/>
        </p:nvPicPr>
        <p:blipFill>
          <a:blip r:embed="rId2"/>
          <a:stretch/>
        </p:blipFill>
        <p:spPr>
          <a:xfrm>
            <a:off x="900000" y="2205000"/>
            <a:ext cx="3621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1 Título" descr=""/>
          <p:cNvPicPr/>
          <p:nvPr/>
        </p:nvPicPr>
        <p:blipFill>
          <a:blip r:embed="rId1"/>
          <a:stretch/>
        </p:blipFill>
        <p:spPr>
          <a:xfrm>
            <a:off x="463680" y="950760"/>
            <a:ext cx="7862760" cy="92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7854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ollock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3 Imagen" descr="pollock.jpg"/>
          <p:cNvPicPr/>
          <p:nvPr/>
        </p:nvPicPr>
        <p:blipFill>
          <a:blip r:embed="rId2"/>
          <a:stretch/>
        </p:blipFill>
        <p:spPr>
          <a:xfrm>
            <a:off x="630360" y="2421000"/>
            <a:ext cx="4213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1 Título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7864560" cy="927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Antonio Saur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Retrato de Rembrand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3 Imagen" descr="Saura, Antonio. Rembrandt.jpg"/>
          <p:cNvPicPr/>
          <p:nvPr/>
        </p:nvPicPr>
        <p:blipFill>
          <a:blip r:embed="rId2"/>
          <a:stretch/>
        </p:blipFill>
        <p:spPr>
          <a:xfrm>
            <a:off x="468360" y="1773360"/>
            <a:ext cx="34686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Título" descr=""/>
          <p:cNvPicPr/>
          <p:nvPr/>
        </p:nvPicPr>
        <p:blipFill>
          <a:blip r:embed="rId1"/>
          <a:stretch/>
        </p:blipFill>
        <p:spPr>
          <a:xfrm>
            <a:off x="-96840" y="476280"/>
            <a:ext cx="8869320" cy="871560"/>
          </a:xfrm>
          <a:prstGeom prst="rect">
            <a:avLst/>
          </a:prstGeom>
          <a:ln w="0">
            <a:noFill/>
          </a:ln>
        </p:spPr>
      </p:pic>
      <p:sp>
        <p:nvSpPr>
          <p:cNvPr id="108" name="2 CuadroTexto"/>
          <p:cNvSpPr/>
          <p:nvPr/>
        </p:nvSpPr>
        <p:spPr>
          <a:xfrm>
            <a:off x="0" y="1268280"/>
            <a:ext cx="8893080" cy="79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Década dos 60 do século X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Causas de tipo tecnolóxico, socio-cultural e pedagó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IMPORTANCIA NO PANORAMA DA LITERA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.David Lewis (1990): O álbum ilustrado é a meirande e máis singular 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achega que a literatura infantil ten realizado á literatura en x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Peter Hunt (2001): “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O álbum ilustrado é a única contribución que a 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literatura infantil ten feito á literatura, os demais xéneros foron 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puramente imitativos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1 Título" descr=""/>
          <p:cNvPicPr/>
          <p:nvPr/>
        </p:nvPicPr>
        <p:blipFill>
          <a:blip r:embed="rId1"/>
          <a:stretch/>
        </p:blipFill>
        <p:spPr>
          <a:xfrm>
            <a:off x="530280" y="907920"/>
            <a:ext cx="8217000" cy="927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Xoang Choi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3 Imagen" descr="Xoang Choi.jpg"/>
          <p:cNvPicPr/>
          <p:nvPr/>
        </p:nvPicPr>
        <p:blipFill>
          <a:blip r:embed="rId2"/>
          <a:stretch/>
        </p:blipFill>
        <p:spPr>
          <a:xfrm>
            <a:off x="826920" y="2492280"/>
            <a:ext cx="4515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1 Título" descr=""/>
          <p:cNvPicPr/>
          <p:nvPr/>
        </p:nvPicPr>
        <p:blipFill>
          <a:blip r:embed="rId1"/>
          <a:stretch/>
        </p:blipFill>
        <p:spPr>
          <a:xfrm>
            <a:off x="171360" y="1023840"/>
            <a:ext cx="7925040" cy="1596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4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O proceso de ensino-aprendizaxe consistiría en leva aos alumnos/as do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rexeitamento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 ao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estrañamento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, propiciando que se produza a curiosidade ante a nova proposta e de aí á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apropiación 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 da mesm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(Vigotsky: “Andamiaxe”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c00000"/>
                </a:solidFill>
                <a:latin typeface="Calibri"/>
              </a:rPr>
              <a:t>Bibliografía consultada: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Teresa Durán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rendiendo de los álbumes,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ctas do 7º Encontro Nacional de Investigaçao en Leitura, Literatura Infantil e Ilustraçao. Braga, 2008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 Margarida Ramos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ontamentos para unha poética do álbum contemporáneo. O álbum na literatura infantil e xuvenil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. Xerais de Galicia, Vigo, 2011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Denise Escarpit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eer un álbum ¡es fácil! Una manera de interpretar y criticar los álbumes ilustrados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ecilia Silva-Díaz.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a función de la imagen en el álbum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2 Imagen" descr="Quint Buchholz  60.jpg"/>
          <p:cNvPicPr/>
          <p:nvPr/>
        </p:nvPicPr>
        <p:blipFill>
          <a:blip r:embed="rId1"/>
          <a:stretch/>
        </p:blipFill>
        <p:spPr>
          <a:xfrm>
            <a:off x="1042920" y="797040"/>
            <a:ext cx="73454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3571920" cy="430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678040" cy="4286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Beatrix Potter (Inglaterra 1866- 1943)</a:t>
            </a:r>
            <a:br>
              <a:rPr sz="4000"/>
            </a:br>
            <a:r>
              <a:rPr b="0" lang="es-ES" sz="2900" spc="-1" strike="noStrike">
                <a:solidFill>
                  <a:srgbClr val="220000"/>
                </a:solidFill>
                <a:latin typeface="Calibri"/>
              </a:rPr>
              <a:t>Peter The Rabbit foi publicado por primeira vez no ano 1902.</a:t>
            </a:r>
            <a:endParaRPr b="0" lang="en-US" sz="2900" spc="-1" strike="noStrike">
              <a:solidFill>
                <a:srgbClr val="eaebde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5 Imagen" descr="PAPLIBROAGU.jpg"/>
          <p:cNvPicPr/>
          <p:nvPr/>
        </p:nvPicPr>
        <p:blipFill>
          <a:blip r:embed="rId1"/>
          <a:stretch/>
        </p:blipFill>
        <p:spPr>
          <a:xfrm>
            <a:off x="6300720" y="285264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1 Título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114" name="2 Imagen" descr="Peter Newell Illustrator.jpg"/>
          <p:cNvPicPr/>
          <p:nvPr/>
        </p:nvPicPr>
        <p:blipFill>
          <a:blip r:embed="rId3"/>
          <a:stretch/>
        </p:blipFill>
        <p:spPr>
          <a:xfrm>
            <a:off x="684360" y="1989000"/>
            <a:ext cx="2778120" cy="4248360"/>
          </a:xfrm>
          <a:prstGeom prst="rect">
            <a:avLst/>
          </a:prstGeom>
          <a:ln w="0">
            <a:noFill/>
          </a:ln>
        </p:spPr>
      </p:pic>
      <p:pic>
        <p:nvPicPr>
          <p:cNvPr id="115" name="3 Imagen" descr="cohete.jpg"/>
          <p:cNvPicPr/>
          <p:nvPr/>
        </p:nvPicPr>
        <p:blipFill>
          <a:blip r:embed="rId4"/>
          <a:stretch/>
        </p:blipFill>
        <p:spPr>
          <a:xfrm>
            <a:off x="3564000" y="1989000"/>
            <a:ext cx="2160360" cy="2637000"/>
          </a:xfrm>
          <a:prstGeom prst="rect">
            <a:avLst/>
          </a:prstGeom>
          <a:ln w="0">
            <a:noFill/>
          </a:ln>
        </p:spPr>
      </p:pic>
      <p:pic>
        <p:nvPicPr>
          <p:cNvPr id="116" name="4 Imagen" descr="imagesCAMYS6LW.jpg"/>
          <p:cNvPicPr/>
          <p:nvPr/>
        </p:nvPicPr>
        <p:blipFill>
          <a:blip r:embed="rId5"/>
          <a:stretch/>
        </p:blipFill>
        <p:spPr>
          <a:xfrm>
            <a:off x="7093080" y="189000"/>
            <a:ext cx="1690560" cy="2663640"/>
          </a:xfrm>
          <a:prstGeom prst="rect">
            <a:avLst/>
          </a:prstGeom>
          <a:ln w="0">
            <a:noFill/>
          </a:ln>
        </p:spPr>
      </p:pic>
      <p:sp>
        <p:nvSpPr>
          <p:cNvPr id="117" name="6 CuadroTexto"/>
          <p:cNvSpPr/>
          <p:nvPr/>
        </p:nvSpPr>
        <p:spPr>
          <a:xfrm>
            <a:off x="399564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702000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6156360" y="191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Precursores: Jean de Brunhoff (Francia, 1899 – 1937)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957400" cy="372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3000600" cy="42256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5867280" y="53053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Precursores: Elsa Beskow</a:t>
            </a:r>
            <a:br>
              <a:rPr sz="4000"/>
            </a:b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(Suecia 1874 – 1953)</a:t>
            </a:r>
            <a:endParaRPr b="0" lang="en-US" sz="40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5" name="9 Marcador de contenido" descr="huevo del sol.jpg"/>
          <p:cNvPicPr/>
          <p:nvPr/>
        </p:nvPicPr>
        <p:blipFill>
          <a:blip r:embed="rId1"/>
          <a:stretch/>
        </p:blipFill>
        <p:spPr>
          <a:xfrm>
            <a:off x="4356000" y="1197000"/>
            <a:ext cx="4035600" cy="3168720"/>
          </a:xfrm>
          <a:prstGeom prst="rect">
            <a:avLst/>
          </a:prstGeom>
          <a:ln w="0">
            <a:noFill/>
          </a:ln>
        </p:spPr>
      </p:pic>
      <p:pic>
        <p:nvPicPr>
          <p:cNvPr id="126" name="8 Marcador de contenido" descr="elsa-beskov-01.jpg"/>
          <p:cNvPicPr/>
          <p:nvPr/>
        </p:nvPicPr>
        <p:blipFill>
          <a:blip r:embed="rId2"/>
          <a:stretch/>
        </p:blipFill>
        <p:spPr>
          <a:xfrm>
            <a:off x="1116000" y="582480"/>
            <a:ext cx="2735280" cy="429588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4427640" y="465300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Robert McCloskey (Norteamérica, 1914 – 2003)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032000" cy="3987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748040" y="1285920"/>
            <a:ext cx="3824640" cy="3143160"/>
          </a:xfrm>
          <a:prstGeom prst="rect">
            <a:avLst/>
          </a:prstGeom>
          <a:ln w="0">
            <a:noFill/>
          </a:ln>
        </p:spPr>
      </p:pic>
      <p:sp>
        <p:nvSpPr>
          <p:cNvPr id="131" name="4 CuadroTexto"/>
          <p:cNvSpPr/>
          <p:nvPr/>
        </p:nvSpPr>
        <p:spPr>
          <a:xfrm>
            <a:off x="5724360" y="4437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522936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alibri"/>
              </a:rPr>
              <a:t>PAUL RAND (Norteamérica 1914 – 1996)</a:t>
            </a:r>
            <a:endParaRPr b="0" lang="en-US" sz="28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92000" y="928800"/>
            <a:ext cx="3494160" cy="407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429080" y="571680"/>
            <a:ext cx="3071880" cy="12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6948360" y="1916280"/>
            <a:ext cx="2000520" cy="2825640"/>
          </a:xfrm>
          <a:prstGeom prst="rect">
            <a:avLst/>
          </a:prstGeom>
          <a:ln w="0">
            <a:noFill/>
          </a:ln>
        </p:spPr>
      </p:pic>
      <p:pic>
        <p:nvPicPr>
          <p:cNvPr id="136" name="5 Imagen" descr="Paul Rand.png"/>
          <p:cNvPicPr/>
          <p:nvPr/>
        </p:nvPicPr>
        <p:blipFill>
          <a:blip r:embed="rId4"/>
          <a:stretch/>
        </p:blipFill>
        <p:spPr>
          <a:xfrm>
            <a:off x="4643280" y="1989000"/>
            <a:ext cx="2194200" cy="266220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5219640" y="494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6:09:02Z</dcterms:created>
  <dc:creator>Usuario</dc:creator>
  <dc:description/>
  <dc:language>en-US</dc:language>
  <cp:lastModifiedBy>Usuario</cp:lastModifiedBy>
  <dcterms:modified xsi:type="dcterms:W3CDTF">2013-04-15T20:10:30Z</dcterms:modified>
  <cp:revision>69</cp:revision>
  <dc:subject/>
  <dc:title>O ÁLBUM ILUSTRADO</dc:title>
</cp:coreProperties>
</file>