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9.png" ContentType="image/png"/>
  <Override PartName="/ppt/media/image45.jpeg" ContentType="image/jpeg"/>
  <Override PartName="/ppt/media/image47.jpeg" ContentType="image/jpeg"/>
  <Override PartName="/ppt/media/image49.jpeg" ContentType="image/jpeg"/>
  <Override PartName="/ppt/media/image50.png" ContentType="image/png"/>
  <Override PartName="/ppt/media/image51.jpeg" ContentType="image/jpeg"/>
  <Override PartName="/ppt/media/image44.png" ContentType="image/png"/>
  <Override PartName="/ppt/media/image13.jpeg" ContentType="image/jpeg"/>
  <Override PartName="/ppt/media/image52.png" ContentType="image/png"/>
  <Override PartName="/ppt/media/image41.png" ContentType="image/png"/>
  <Override PartName="/ppt/media/image53.jpeg" ContentType="image/jpeg"/>
  <Override PartName="/ppt/media/image42.png" ContentType="image/png"/>
  <Override PartName="/ppt/media/image54.png" ContentType="image/png"/>
  <Override PartName="/ppt/media/image56.png" ContentType="image/png"/>
  <Override PartName="/ppt/media/image46.png" ContentType="image/png"/>
  <Override PartName="/ppt/media/image57.jpeg" ContentType="image/jpeg"/>
  <Override PartName="/ppt/media/image36.jpeg" ContentType="image/jpeg"/>
  <Override PartName="/ppt/media/image48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30.png" ContentType="image/png"/>
  <Override PartName="/ppt/media/image23.png" ContentType="image/png"/>
  <Override PartName="/ppt/media/image55.jpeg" ContentType="image/jpe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12.jpeg" ContentType="image/jpe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634-B78D-4841-A2B3-9539367215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lustración de Quint Buchh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ABC-3865-4F66-AFC4-BD30594B143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rtista polifacético e diseñador gráfico e industrial , autor dun libro fundamental “Como nacen los objetos”. Escribía libros para rapaces orixinariamente dirixidos ao seu fillo Alber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ACDC-1898-49B2-9E4A-DD7B0ADD611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spectos paratextuais: Formato, edición, deseño da cuberta, das guardas, tipo de letra. Exemplo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rándanos para S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7BCD-D52C-47FF-8DFB-D2D96351B48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O paseo de Rosalía, A familia C, Que bonito es Panamá; As estacións, La niebla de Milán; Zoom; Só un segundo; Gorila; A historia de Erika; Madlenka; La o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EDD-3908-4F49-B62C-8C33505C432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Vamos a cazar un oso; Donde viven los monstru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AB2-0BB0-40DB-906C-85A4DAB23AA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xemplos a comentar: 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As manoplas de Carapuchiña; No bosque; Imaxina animais; Minimaladas; Oda a una estre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C92C-8801-4A19-920B-D8BB5490DFA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lgúns precursores: Beatrice Potter; Peter Newell; Jean de Brunhoff. Deseñadores: Paul Rand ; Bruno Muna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19F-2488-4FC4-BBC6-FFA5EFC805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Ilustración de Quint Buchhol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C05-A6E6-492D-9C05-A2B23D2F09B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he Naps of Polly Sleepyhead,” publicada semanalmente no New York Herald nos anos 1905 – 19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907-559F-4207-96E7-AFCD0D8573D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abar (1931). O texto é orixinal da súa esposa Cecile. Escribiu e ilustrou un total de 6 libros. Despois de 1946 o seu fillo Laurent de Brunhoff continuo escribindo e dibuxando historias de Bab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5F4E-4403-4250-9917-7F8C0E98523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Gañador en dúas ocasións  da Caldecott Medal, o máis prestixioso premio norteamericano para o libro infantil ilustrado. O personaxes do seu libro “Make way for Ducklings” están representados en esculturas no Public Garden de Boston (Massachusett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4895-E57F-4DF1-8C4F-B0D4B28BBC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79D-1453-4584-B5AA-F456CB58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F2D-93E3-455E-BAC2-8112F0CC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0A8-2A52-47C8-9ED2-4FF44658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567-1AA1-40FF-B366-5B8DF04E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92CA-F6AC-49C3-A164-84ED87B4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6DD-9EC8-46F1-B597-EC06B818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07ED-8BE5-46F0-8855-F548CCB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AA8A-6232-4C43-AE87-D38E1393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1CC-F98D-45F1-B2A3-5D2574C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77E6-437C-478B-88CB-17D611B6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2F81-AF42-4709-9B56-3AB440CF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327-B416-48E0-91BB-8E0C054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C99-3A4A-4BD3-AE62-12DB6FC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9018-3749-4754-BE01-0F3AAC8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7A5A-067A-4671-9CEC-5B12745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CAC7-B3EB-48AE-A572-A055E7A8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56D9-B1C2-46ED-912F-E7ADC24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606-7482-4308-B9E2-EB16F06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69C-029F-46D6-941A-FA3ECC9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A5C-ED32-4AC1-8BAD-F2F42DE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18F-063F-436B-958F-68F7EB3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EF2-4B67-4424-84EF-5CCCA32D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A12-E808-4A4D-A2DF-DF2CF9C9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14F-52A2-4CFA-98B0-D8FA0AFB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37C-5513-444E-A5EA-B69FE7C28B4D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0d4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3E8-7EDA-4CD2-A65C-703D818E31FF}" type="slidenum">
              <a:rPr b="0" lang="es-ES" sz="1200" spc="-1" strike="noStrike">
                <a:solidFill>
                  <a:srgbClr val="dfe0d4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4 Imagen" descr="30006.jpg"/>
          <p:cNvPicPr/>
          <p:nvPr/>
        </p:nvPicPr>
        <p:blipFill>
          <a:blip r:embed="rId1"/>
          <a:stretch/>
        </p:blipFill>
        <p:spPr>
          <a:xfrm>
            <a:off x="2247840" y="406440"/>
            <a:ext cx="4761000" cy="6191280"/>
          </a:xfrm>
          <a:prstGeom prst="rect">
            <a:avLst/>
          </a:prstGeom>
          <a:ln w="0">
            <a:noFill/>
          </a:ln>
        </p:spPr>
      </p:pic>
      <p:pic>
        <p:nvPicPr>
          <p:cNvPr id="103" name="1 Título" descr=""/>
          <p:cNvPicPr/>
          <p:nvPr/>
        </p:nvPicPr>
        <p:blipFill>
          <a:blip r:embed="rId2"/>
          <a:stretch/>
        </p:blipFill>
        <p:spPr>
          <a:xfrm>
            <a:off x="523800" y="1365120"/>
            <a:ext cx="7364520" cy="1195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880" y="5445000"/>
            <a:ext cx="7854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María Jesús Fernández Fernández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Bruno Munari (Italia, 1907 – 1998) Premio Andersen 1974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505320" cy="2857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627440" cy="285732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 flipV="1" rot="10800000">
            <a:off x="4427280" y="414864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5 CuadroTexto"/>
          <p:cNvSpPr/>
          <p:nvPr/>
        </p:nvSpPr>
        <p:spPr>
          <a:xfrm>
            <a:off x="6084720" y="59500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 Título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7979040" cy="1157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0000"/>
                </a:solidFill>
                <a:latin typeface="Constantia"/>
              </a:rPr>
              <a:t>Sophie Van der Linden (2006):</a:t>
            </a:r>
            <a:r>
              <a:rPr b="0" i="1" lang="es-ES" sz="2200" spc="-1" strike="noStrike">
                <a:solidFill>
                  <a:srgbClr val="220000"/>
                </a:solidFill>
                <a:latin typeface="Constantia"/>
              </a:rPr>
              <a:t>”Forma de expresión que presenta unha interacción entre textos (que poden ser subxacentes) e imaxes (preponderantes) no seo dun soporte libro, caracterizado pola libre organización da páxina, a diversidade das súas realizacións materiais e a </a:t>
            </a:r>
            <a:r>
              <a:rPr b="0" i="1" lang="es-ES" sz="2200" spc="-1" strike="noStrike" u="sng">
                <a:solidFill>
                  <a:srgbClr val="220000"/>
                </a:solidFill>
                <a:uFillTx/>
                <a:latin typeface="Constantia"/>
              </a:rPr>
              <a:t>sucesión fluida e coherente das súas páxinas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1 Título" descr=""/>
          <p:cNvPicPr/>
          <p:nvPr/>
        </p:nvPicPr>
        <p:blipFill>
          <a:blip r:embed="rId1"/>
          <a:stretch/>
        </p:blipFill>
        <p:spPr>
          <a:xfrm>
            <a:off x="103320" y="1231920"/>
            <a:ext cx="7645320" cy="1035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94920" y="2204640"/>
            <a:ext cx="7993080" cy="465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 todo significativo  no  álbum ilustrado,“o texto”. está composto por palabras e imaxes que actúan de forma sinérxic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00000"/>
                </a:solidFill>
                <a:latin typeface="Constantia"/>
              </a:rPr>
              <a:t>Autores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220000"/>
                </a:solidFill>
                <a:latin typeface="Constantia"/>
              </a:rPr>
              <a:t>-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Narrador verba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-Narrador visua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-Responsable de aspectos para textuais (deseñador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 Título" descr=""/>
          <p:cNvPicPr/>
          <p:nvPr/>
        </p:nvPicPr>
        <p:blipFill>
          <a:blip r:embed="rId1"/>
          <a:stretch/>
        </p:blipFill>
        <p:spPr>
          <a:xfrm>
            <a:off x="146160" y="1311120"/>
            <a:ext cx="81626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2704680"/>
            <a:ext cx="7907400" cy="338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Forma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Tipo de papel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Cuberta e contracubert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“Guardas”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Follas preliminares: Portadilla, Contraportada, Portada,            Páxina de crédito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8cdd7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- - Tipo de letra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1 Título" descr=""/>
          <p:cNvPicPr/>
          <p:nvPr/>
        </p:nvPicPr>
        <p:blipFill>
          <a:blip r:embed="rId1"/>
          <a:stretch/>
        </p:blipFill>
        <p:spPr>
          <a:xfrm>
            <a:off x="103320" y="871560"/>
            <a:ext cx="8162640" cy="10364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Nova maneira de ler:  Nunha operación de análise e síntese se calibra o que queren dicir as imaxes de acordo co que afirman as palabras, e se deduce o que queren dicir as palabras de acordo co que expresan as ilustració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1 Título" descr=""/>
          <p:cNvPicPr/>
          <p:nvPr/>
        </p:nvPicPr>
        <p:blipFill>
          <a:blip r:embed="rId1"/>
          <a:stretch/>
        </p:blipFill>
        <p:spPr>
          <a:xfrm>
            <a:off x="103320" y="609480"/>
            <a:ext cx="8553240" cy="179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mpliació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omplementariedad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ontrapunto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4400" spc="-1" strike="noStrike">
                <a:solidFill>
                  <a:srgbClr val="c00000"/>
                </a:solidFill>
                <a:latin typeface="Calibri"/>
              </a:rPr>
              <a:t>Funcións das imaxes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Secuenciación (Idea de temporalidade   e tratamento do espazo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Creación do mundo ficcional (personaxes, ambiente, ton e rexistro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As imaxes contan a histori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03320" y="-152280"/>
            <a:ext cx="7931160" cy="2560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23640" y="2636640"/>
            <a:ext cx="8064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As imaxes inciden tamén na creación do ritmo narrativ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 ritmo vén establecido polo tempo que se tarda en pasar páx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Opció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Extensión longa de tempo: Dobre páxin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.Aceleración de ritmo: Imaxes contiguas na mesma páxina, encabalgamen to de imaxes, ilustración cortada ao límite de páxin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 Título" descr=""/>
          <p:cNvPicPr/>
          <p:nvPr/>
        </p:nvPicPr>
        <p:blipFill>
          <a:blip r:embed="rId1"/>
          <a:stretch/>
        </p:blipFill>
        <p:spPr>
          <a:xfrm>
            <a:off x="365040" y="1255680"/>
            <a:ext cx="8620200" cy="2011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0560" y="3284280"/>
            <a:ext cx="8064360" cy="3368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narrativos  </a:t>
            </a: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(De carácter realista ou fantástico, orixinal de autor ou procedente da tradición (adaptacións, parodias, utilización de técnicas narrativas…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de carácter poét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Álbumes tipo catálogo </a:t>
            </a: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(As imaxes se organizan de forma acumulativa e non cunha lóxica secuencia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1 Título" descr=""/>
          <p:cNvPicPr/>
          <p:nvPr/>
        </p:nvPicPr>
        <p:blipFill>
          <a:blip r:embed="rId1"/>
          <a:stretch/>
        </p:blipFill>
        <p:spPr>
          <a:xfrm>
            <a:off x="103320" y="755640"/>
            <a:ext cx="7931160" cy="1798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94920" y="2491920"/>
            <a:ext cx="84978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ebux0 (lapis ou tint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intura (Acuarela, tinta, gouache, ceras, acrílico, oleo, pastel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Colaxe e técnica mixt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Fotografí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Modelad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Técnicas de impresión (madeira e linóleo, serigrafía, augaforte, estampación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eseño asistido por ordenad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1 Título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8826480" cy="1554120"/>
          </a:xfrm>
          <a:prstGeom prst="rect">
            <a:avLst/>
          </a:prstGeom>
          <a:ln w="0">
            <a:noFill/>
          </a:ln>
        </p:spPr>
      </p:pic>
      <p:sp>
        <p:nvSpPr>
          <p:cNvPr id="160" name="2 CuadroTexto"/>
          <p:cNvSpPr/>
          <p:nvPr/>
        </p:nvSpPr>
        <p:spPr>
          <a:xfrm>
            <a:off x="684360" y="1197000"/>
            <a:ext cx="813564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A  experiencia de lectura dos álbumes ilustrados desenvolve complexas potencias de lectura de maneira case innat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Capacidade de observ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Asociación de id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Realización de in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Descubrimento de implíc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Arial"/>
              </a:rPr>
              <a:t>. Anticip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c00000"/>
                </a:solidFill>
                <a:latin typeface="Calibri"/>
              </a:rPr>
              <a:t>Bibliografía consultada: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Teresa Durán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rendiendo de los álbumes,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ctas do 7º Encontro Nacional de Investigaçao en Leitura, Literatura Infantil e Ilustraçao. Braga, 2008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 Margarida Ramos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ontamentos para unha poética do álbum contemporáneo. O álbum na literatura infantil e xuvenil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. Xerais de Galicia, Vigo, 2011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Denise Escarpit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eer un álbum ¡es fácil! Una manera de interpretar y criticar los álbumes ilustrados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ecilia Silva-Díaz.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a función de la imagen en el álbum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 Título" descr=""/>
          <p:cNvPicPr/>
          <p:nvPr/>
        </p:nvPicPr>
        <p:blipFill>
          <a:blip r:embed="rId1"/>
          <a:stretch/>
        </p:blipFill>
        <p:spPr>
          <a:xfrm>
            <a:off x="212760" y="-152280"/>
            <a:ext cx="8047080" cy="1987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3" name="3 Imagen" descr="anthony-browne. Gorila..jpg"/>
          <p:cNvPicPr/>
          <p:nvPr/>
        </p:nvPicPr>
        <p:blipFill>
          <a:blip r:embed="rId2"/>
          <a:stretch/>
        </p:blipFill>
        <p:spPr>
          <a:xfrm>
            <a:off x="395280" y="1916280"/>
            <a:ext cx="5832360" cy="4294080"/>
          </a:xfrm>
          <a:prstGeom prst="rect">
            <a:avLst/>
          </a:prstGeom>
          <a:ln w="0">
            <a:noFill/>
          </a:ln>
        </p:spPr>
      </p:pic>
      <p:sp>
        <p:nvSpPr>
          <p:cNvPr id="164" name="4 CuadroTexto"/>
          <p:cNvSpPr/>
          <p:nvPr/>
        </p:nvSpPr>
        <p:spPr>
          <a:xfrm>
            <a:off x="6300720" y="2133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Anthony Brow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Gori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 Título" descr=""/>
          <p:cNvPicPr/>
          <p:nvPr/>
        </p:nvPicPr>
        <p:blipFill>
          <a:blip r:embed="rId1"/>
          <a:stretch/>
        </p:blipFill>
        <p:spPr>
          <a:xfrm>
            <a:off x="523800" y="92160"/>
            <a:ext cx="7785000" cy="14508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7" name="3 Imagen" descr="Desencuentros Jimmy Liao.jpg"/>
          <p:cNvPicPr/>
          <p:nvPr/>
        </p:nvPicPr>
        <p:blipFill>
          <a:blip r:embed="rId2"/>
          <a:stretch/>
        </p:blipFill>
        <p:spPr>
          <a:xfrm>
            <a:off x="179280" y="1557360"/>
            <a:ext cx="4176720" cy="3821040"/>
          </a:xfrm>
          <a:prstGeom prst="rect">
            <a:avLst/>
          </a:prstGeom>
          <a:ln w="0">
            <a:noFill/>
          </a:ln>
        </p:spPr>
      </p:pic>
      <p:pic>
        <p:nvPicPr>
          <p:cNvPr id="168" name="4 Imagen" descr="desencuentros-jimmy-liao-L-3.jpg"/>
          <p:cNvPicPr/>
          <p:nvPr/>
        </p:nvPicPr>
        <p:blipFill>
          <a:blip r:embed="rId3"/>
          <a:stretch/>
        </p:blipFill>
        <p:spPr>
          <a:xfrm>
            <a:off x="4643280" y="1628640"/>
            <a:ext cx="410544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 Título" descr=""/>
          <p:cNvPicPr/>
          <p:nvPr/>
        </p:nvPicPr>
        <p:blipFill>
          <a:blip r:embed="rId1"/>
          <a:stretch/>
        </p:blipFill>
        <p:spPr>
          <a:xfrm>
            <a:off x="146160" y="469800"/>
            <a:ext cx="8381880" cy="227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 ilustración ten un carácter simbólico xa que non amosa directamente a realidade senón que ten capacidade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alusiva.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Non sempre se representa un feito concreto senón que aparece como unha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 opción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, unha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posibilidad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Mentres que o feito é real e empírico a opción deixa paso á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imaxinació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1 Título" descr=""/>
          <p:cNvPicPr/>
          <p:nvPr/>
        </p:nvPicPr>
        <p:blipFill>
          <a:blip r:embed="rId1"/>
          <a:stretch/>
        </p:blipFill>
        <p:spPr>
          <a:xfrm>
            <a:off x="109440" y="-390600"/>
            <a:ext cx="8358120" cy="2243160"/>
          </a:xfrm>
          <a:prstGeom prst="rect">
            <a:avLst/>
          </a:prstGeom>
          <a:ln w="0">
            <a:noFill/>
          </a:ln>
        </p:spPr>
      </p:pic>
      <p:sp>
        <p:nvSpPr>
          <p:cNvPr id="172" name="4 CuadroTexto"/>
          <p:cNvSpPr/>
          <p:nvPr/>
        </p:nvSpPr>
        <p:spPr>
          <a:xfrm>
            <a:off x="1116000" y="1557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xiste unha gradación de reacció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LOXÍA. Cando existe unha gran similitude entre significante e signifi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PROPIACIÓN: Cando se poden establecer  </a:t>
            </a:r>
            <a:r>
              <a:rPr b="0" lang="es-ES" sz="2400" spc="-1" strike="noStrike" u="sng">
                <a:solidFill>
                  <a:srgbClr val="220000"/>
                </a:solidFill>
                <a:uFillTx/>
                <a:latin typeface="Constantia"/>
              </a:rPr>
              <a:t>nexos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 de similitude entro o novo percibido e o xa coñecido por exper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STRAÑAMENTO: Cando as disimilitudes son superiores as similitudes e isto supón un estímulo para a nosa curiosid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XEITAMENTO:  Cando  nosa experiencia rexeita aceptar  a insólita proposta all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1 Título" descr=""/>
          <p:cNvPicPr/>
          <p:nvPr/>
        </p:nvPicPr>
        <p:blipFill>
          <a:blip r:embed="rId1"/>
          <a:stretch/>
        </p:blipFill>
        <p:spPr>
          <a:xfrm>
            <a:off x="530280" y="822240"/>
            <a:ext cx="7864560" cy="1158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3 Imagen" descr="Antonio López Mis padres.jpg"/>
          <p:cNvPicPr/>
          <p:nvPr/>
        </p:nvPicPr>
        <p:blipFill>
          <a:blip r:embed="rId2"/>
          <a:stretch/>
        </p:blipFill>
        <p:spPr>
          <a:xfrm>
            <a:off x="1258920" y="2492280"/>
            <a:ext cx="3429000" cy="2927520"/>
          </a:xfrm>
          <a:prstGeom prst="rect">
            <a:avLst/>
          </a:prstGeom>
          <a:ln w="0">
            <a:noFill/>
          </a:ln>
        </p:spPr>
      </p:pic>
      <p:sp>
        <p:nvSpPr>
          <p:cNvPr id="176" name="4 CuadroTexto"/>
          <p:cNvSpPr/>
          <p:nvPr/>
        </p:nvSpPr>
        <p:spPr>
          <a:xfrm>
            <a:off x="5003640" y="3068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Antonio López. </a:t>
            </a: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Mis 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1 Título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504200" cy="1035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icasso.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Rapaza diante do espell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3 Imagen" descr="Picasso. Muchacha frente al espejo.jpg"/>
          <p:cNvPicPr/>
          <p:nvPr/>
        </p:nvPicPr>
        <p:blipFill>
          <a:blip r:embed="rId2"/>
          <a:stretch/>
        </p:blipFill>
        <p:spPr>
          <a:xfrm>
            <a:off x="250920" y="1484280"/>
            <a:ext cx="39909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1 Título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180280" cy="841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160" y="1700280"/>
            <a:ext cx="785484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3 Imagen" descr="Monet, Claude. Impresión, sol naciente..jpg"/>
          <p:cNvPicPr/>
          <p:nvPr/>
        </p:nvPicPr>
        <p:blipFill>
          <a:blip r:embed="rId2"/>
          <a:stretch/>
        </p:blipFill>
        <p:spPr>
          <a:xfrm>
            <a:off x="468360" y="1773360"/>
            <a:ext cx="5532480" cy="4284720"/>
          </a:xfrm>
          <a:prstGeom prst="rect">
            <a:avLst/>
          </a:prstGeom>
          <a:ln w="0">
            <a:noFill/>
          </a:ln>
        </p:spPr>
      </p:pic>
      <p:sp>
        <p:nvSpPr>
          <p:cNvPr id="183" name="4 CuadroTexto"/>
          <p:cNvSpPr/>
          <p:nvPr/>
        </p:nvSpPr>
        <p:spPr>
          <a:xfrm>
            <a:off x="6084720" y="1916280"/>
            <a:ext cx="27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Claude Mo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220000"/>
                </a:solidFill>
                <a:latin typeface="Arial"/>
              </a:rPr>
              <a:t>Impresión, sol na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Cadro presentado na Exposición do ano 1874 no boulevard des Capuc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20000"/>
                </a:solidFill>
                <a:latin typeface="Arial"/>
              </a:rPr>
              <a:t>Desta exposición chegou a dicir a crítica: “Ao mirar as obras expostas, un pregúntase se se trata dunha mistificación pouco conveniente para o público o do resultado dunha alienación mental que non podemos por menos que deplorar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1 Título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582040" cy="9331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33160" y="2060280"/>
            <a:ext cx="78548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Duchamp.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Founta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3 Imagen" descr="duchamp fountain.jpg"/>
          <p:cNvPicPr/>
          <p:nvPr/>
        </p:nvPicPr>
        <p:blipFill>
          <a:blip r:embed="rId2"/>
          <a:stretch/>
        </p:blipFill>
        <p:spPr>
          <a:xfrm>
            <a:off x="900000" y="2205000"/>
            <a:ext cx="3621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1 Título" descr=""/>
          <p:cNvPicPr/>
          <p:nvPr/>
        </p:nvPicPr>
        <p:blipFill>
          <a:blip r:embed="rId1"/>
          <a:stretch/>
        </p:blipFill>
        <p:spPr>
          <a:xfrm>
            <a:off x="463680" y="950760"/>
            <a:ext cx="7862760" cy="92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2133720"/>
            <a:ext cx="7854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Pollock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3 Imagen" descr="pollock.jpg"/>
          <p:cNvPicPr/>
          <p:nvPr/>
        </p:nvPicPr>
        <p:blipFill>
          <a:blip r:embed="rId2"/>
          <a:stretch/>
        </p:blipFill>
        <p:spPr>
          <a:xfrm>
            <a:off x="630360" y="2421000"/>
            <a:ext cx="4213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1 Título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7864560" cy="927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Antonio Saur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 </a:t>
            </a:r>
            <a:r>
              <a:rPr b="0" i="1" lang="es-ES" sz="2600" spc="-1" strike="noStrike">
                <a:solidFill>
                  <a:srgbClr val="220000"/>
                </a:solidFill>
                <a:latin typeface="Constantia"/>
              </a:rPr>
              <a:t>Retrato de Rembrand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3 Imagen" descr="Saura, Antonio. Rembrandt.jpg"/>
          <p:cNvPicPr/>
          <p:nvPr/>
        </p:nvPicPr>
        <p:blipFill>
          <a:blip r:embed="rId2"/>
          <a:stretch/>
        </p:blipFill>
        <p:spPr>
          <a:xfrm>
            <a:off x="468360" y="1773360"/>
            <a:ext cx="346860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 Título" descr=""/>
          <p:cNvPicPr/>
          <p:nvPr/>
        </p:nvPicPr>
        <p:blipFill>
          <a:blip r:embed="rId1"/>
          <a:stretch/>
        </p:blipFill>
        <p:spPr>
          <a:xfrm>
            <a:off x="-96840" y="476280"/>
            <a:ext cx="8869320" cy="871560"/>
          </a:xfrm>
          <a:prstGeom prst="rect">
            <a:avLst/>
          </a:prstGeom>
          <a:ln w="0">
            <a:noFill/>
          </a:ln>
        </p:spPr>
      </p:pic>
      <p:sp>
        <p:nvSpPr>
          <p:cNvPr id="108" name="2 CuadroTexto"/>
          <p:cNvSpPr/>
          <p:nvPr/>
        </p:nvSpPr>
        <p:spPr>
          <a:xfrm>
            <a:off x="0" y="1268280"/>
            <a:ext cx="8893080" cy="79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Década dos 60 do século X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Causas de tipo tecnolóxico, socio-cultural e pedagó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IMPORTANCIA NO PANORAMA DA LITERA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.David Lewis (1990): O álbum ilustrado é a meirande e máis singular 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achega que a literatura infantil ten realizado á literatura en x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220000"/>
                </a:solidFill>
                <a:latin typeface="Constantia"/>
              </a:rPr>
              <a:t>Peter Hunt (2001): “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O álbum ilustrado é a única contribución que a 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literatura infantil ten feito á literatura, os demais xéneros foron 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220000"/>
                </a:solidFill>
                <a:latin typeface="Constantia"/>
              </a:rPr>
              <a:t>puramente imitativos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1 Título" descr=""/>
          <p:cNvPicPr/>
          <p:nvPr/>
        </p:nvPicPr>
        <p:blipFill>
          <a:blip r:embed="rId1"/>
          <a:stretch/>
        </p:blipFill>
        <p:spPr>
          <a:xfrm>
            <a:off x="530280" y="907920"/>
            <a:ext cx="8217000" cy="927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20000"/>
                </a:solidFill>
                <a:latin typeface="Constantia"/>
              </a:rPr>
              <a:t>Xoang Choi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3 Imagen" descr="Xoang Choi.jpg"/>
          <p:cNvPicPr/>
          <p:nvPr/>
        </p:nvPicPr>
        <p:blipFill>
          <a:blip r:embed="rId2"/>
          <a:stretch/>
        </p:blipFill>
        <p:spPr>
          <a:xfrm>
            <a:off x="826920" y="2492280"/>
            <a:ext cx="4515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1 Título" descr=""/>
          <p:cNvPicPr/>
          <p:nvPr/>
        </p:nvPicPr>
        <p:blipFill>
          <a:blip r:embed="rId1"/>
          <a:stretch/>
        </p:blipFill>
        <p:spPr>
          <a:xfrm>
            <a:off x="171360" y="1023840"/>
            <a:ext cx="7925040" cy="15969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46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O proceso de ensino-aprendizaxe consistiría en leva aos alumnos/as do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rexeitamento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 ao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estrañamento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, propiciando que se produza a curiosidade ante a nova proposta e de aí á </a:t>
            </a:r>
            <a:r>
              <a:rPr b="0" lang="es-ES" sz="2800" spc="-1" strike="noStrike" u="sng">
                <a:solidFill>
                  <a:srgbClr val="220000"/>
                </a:solidFill>
                <a:uFillTx/>
                <a:latin typeface="Constantia"/>
              </a:rPr>
              <a:t>apropiación </a:t>
            </a: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 da mesm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onstantia"/>
              </a:rPr>
              <a:t>(Vigotsky: “Andamiaxe”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c00000"/>
                </a:solidFill>
                <a:latin typeface="Calibri"/>
              </a:rPr>
              <a:t>Bibliografía consultada:</a:t>
            </a:r>
            <a:endParaRPr b="0" lang="en-US" sz="5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Teresa Durán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rendiendo de los álbumes,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ctas do 7º Encontro Nacional de Investigaçao en Leitura, Literatura Infantil e Ilustraçao. Braga, 2008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Ana Margarida Ramos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Apontamentos para unha poética do álbum contemporáneo. O álbum na literatura infantil e xuvenil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E. Xerais de Galicia, Vigo, 2011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Denise Escarpit,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eer un álbum ¡es fácil! Una manera de interpretar y criticar los álbumes ilustrados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Cecilia Silva-Díaz. </a:t>
            </a:r>
            <a:r>
              <a:rPr b="0" i="1" lang="es-ES" sz="2400" spc="-1" strike="noStrike">
                <a:solidFill>
                  <a:srgbClr val="220000"/>
                </a:solidFill>
                <a:latin typeface="Constantia"/>
              </a:rPr>
              <a:t>La función de la imagen en el álbum. </a:t>
            </a:r>
            <a:r>
              <a:rPr b="0" lang="es-ES" sz="2400" spc="-1" strike="noStrike">
                <a:solidFill>
                  <a:srgbClr val="220000"/>
                </a:solidFill>
                <a:latin typeface="Constantia"/>
              </a:rPr>
              <a:t>Revista Peonza, Nºs 75 e 76, 2006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2 Imagen" descr="Quint Buchholz  60.jpg"/>
          <p:cNvPicPr/>
          <p:nvPr/>
        </p:nvPicPr>
        <p:blipFill>
          <a:blip r:embed="rId1"/>
          <a:stretch/>
        </p:blipFill>
        <p:spPr>
          <a:xfrm>
            <a:off x="1042920" y="797040"/>
            <a:ext cx="73454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3571920" cy="430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678040" cy="4286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Beatrix Potter (Inglaterra 1866- 1943)</a:t>
            </a:r>
            <a:br>
              <a:rPr sz="4000"/>
            </a:br>
            <a:r>
              <a:rPr b="0" lang="es-ES" sz="2900" spc="-1" strike="noStrike">
                <a:solidFill>
                  <a:srgbClr val="220000"/>
                </a:solidFill>
                <a:latin typeface="Calibri"/>
              </a:rPr>
              <a:t>Peter The Rabbit foi publicado por primeira vez no ano 1902.</a:t>
            </a:r>
            <a:endParaRPr b="0" lang="en-US" sz="2900" spc="-1" strike="noStrike">
              <a:solidFill>
                <a:srgbClr val="eaebde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5 Imagen" descr="PAPLIBROAGU.jpg"/>
          <p:cNvPicPr/>
          <p:nvPr/>
        </p:nvPicPr>
        <p:blipFill>
          <a:blip r:embed="rId1"/>
          <a:stretch/>
        </p:blipFill>
        <p:spPr>
          <a:xfrm>
            <a:off x="6300720" y="285264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1 Título" descr=""/>
          <p:cNvPicPr/>
          <p:nvPr/>
        </p:nvPicPr>
        <p:blipFill>
          <a:blip r:embed="rId2"/>
          <a:stretch/>
        </p:blipFill>
        <p:spPr>
          <a:xfrm>
            <a:off x="109440" y="298440"/>
            <a:ext cx="8663040" cy="1554120"/>
          </a:xfrm>
          <a:prstGeom prst="rect">
            <a:avLst/>
          </a:prstGeom>
          <a:ln w="0">
            <a:noFill/>
          </a:ln>
        </p:spPr>
      </p:pic>
      <p:pic>
        <p:nvPicPr>
          <p:cNvPr id="114" name="2 Imagen" descr="Peter Newell Illustrator.jpg"/>
          <p:cNvPicPr/>
          <p:nvPr/>
        </p:nvPicPr>
        <p:blipFill>
          <a:blip r:embed="rId3"/>
          <a:stretch/>
        </p:blipFill>
        <p:spPr>
          <a:xfrm>
            <a:off x="684360" y="1989000"/>
            <a:ext cx="2778120" cy="4248360"/>
          </a:xfrm>
          <a:prstGeom prst="rect">
            <a:avLst/>
          </a:prstGeom>
          <a:ln w="0">
            <a:noFill/>
          </a:ln>
        </p:spPr>
      </p:pic>
      <p:pic>
        <p:nvPicPr>
          <p:cNvPr id="115" name="3 Imagen" descr="cohete.jpg"/>
          <p:cNvPicPr/>
          <p:nvPr/>
        </p:nvPicPr>
        <p:blipFill>
          <a:blip r:embed="rId4"/>
          <a:stretch/>
        </p:blipFill>
        <p:spPr>
          <a:xfrm>
            <a:off x="3564000" y="1989000"/>
            <a:ext cx="2160360" cy="2637000"/>
          </a:xfrm>
          <a:prstGeom prst="rect">
            <a:avLst/>
          </a:prstGeom>
          <a:ln w="0">
            <a:noFill/>
          </a:ln>
        </p:spPr>
      </p:pic>
      <p:pic>
        <p:nvPicPr>
          <p:cNvPr id="116" name="4 Imagen" descr="imagesCAMYS6LW.jpg"/>
          <p:cNvPicPr/>
          <p:nvPr/>
        </p:nvPicPr>
        <p:blipFill>
          <a:blip r:embed="rId5"/>
          <a:stretch/>
        </p:blipFill>
        <p:spPr>
          <a:xfrm>
            <a:off x="7093080" y="189000"/>
            <a:ext cx="1690560" cy="2663640"/>
          </a:xfrm>
          <a:prstGeom prst="rect">
            <a:avLst/>
          </a:prstGeom>
          <a:ln w="0">
            <a:noFill/>
          </a:ln>
        </p:spPr>
      </p:pic>
      <p:sp>
        <p:nvSpPr>
          <p:cNvPr id="117" name="6 CuadroTexto"/>
          <p:cNvSpPr/>
          <p:nvPr/>
        </p:nvSpPr>
        <p:spPr>
          <a:xfrm>
            <a:off x="399564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9 CuadroTexto"/>
          <p:cNvSpPr/>
          <p:nvPr/>
        </p:nvSpPr>
        <p:spPr>
          <a:xfrm>
            <a:off x="702000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6156360" y="1919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Precursores: Jean de Brunhoff (Francia, 1899 – 1937)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1484280"/>
            <a:ext cx="2957400" cy="372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3000600" cy="4225680"/>
          </a:xfrm>
          <a:prstGeom prst="rect">
            <a:avLst/>
          </a:prstGeom>
          <a:ln w="0">
            <a:noFill/>
          </a:ln>
        </p:spPr>
      </p:pic>
      <p:sp>
        <p:nvSpPr>
          <p:cNvPr id="123" name="4 CuadroTexto"/>
          <p:cNvSpPr/>
          <p:nvPr/>
        </p:nvSpPr>
        <p:spPr>
          <a:xfrm>
            <a:off x="5867280" y="53053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Precursores: Elsa Beskow</a:t>
            </a:r>
            <a:br>
              <a:rPr sz="4000"/>
            </a:br>
            <a:r>
              <a:rPr b="0" lang="es-ES" sz="4000" spc="-1" strike="noStrike">
                <a:solidFill>
                  <a:srgbClr val="220000"/>
                </a:solidFill>
                <a:latin typeface="Calibri"/>
              </a:rPr>
              <a:t>(Suecia 1874 – 1953)</a:t>
            </a:r>
            <a:endParaRPr b="0" lang="en-US" sz="40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5" name="9 Marcador de contenido" descr="huevo del sol.jpg"/>
          <p:cNvPicPr/>
          <p:nvPr/>
        </p:nvPicPr>
        <p:blipFill>
          <a:blip r:embed="rId1"/>
          <a:stretch/>
        </p:blipFill>
        <p:spPr>
          <a:xfrm>
            <a:off x="4356000" y="1197000"/>
            <a:ext cx="4035600" cy="3168720"/>
          </a:xfrm>
          <a:prstGeom prst="rect">
            <a:avLst/>
          </a:prstGeom>
          <a:ln w="0">
            <a:noFill/>
          </a:ln>
        </p:spPr>
      </p:pic>
      <p:pic>
        <p:nvPicPr>
          <p:cNvPr id="126" name="8 Marcador de contenido" descr="elsa-beskov-01.jpg"/>
          <p:cNvPicPr/>
          <p:nvPr/>
        </p:nvPicPr>
        <p:blipFill>
          <a:blip r:embed="rId2"/>
          <a:stretch/>
        </p:blipFill>
        <p:spPr>
          <a:xfrm>
            <a:off x="1116000" y="582480"/>
            <a:ext cx="2735280" cy="4295880"/>
          </a:xfrm>
          <a:prstGeom prst="rect">
            <a:avLst/>
          </a:prstGeom>
          <a:ln w="0">
            <a:noFill/>
          </a:ln>
        </p:spPr>
      </p:pic>
      <p:sp>
        <p:nvSpPr>
          <p:cNvPr id="127" name="4 CuadroTexto"/>
          <p:cNvSpPr/>
          <p:nvPr/>
        </p:nvSpPr>
        <p:spPr>
          <a:xfrm>
            <a:off x="4427640" y="465300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220000"/>
                </a:solidFill>
                <a:latin typeface="Calibri"/>
              </a:rPr>
              <a:t>Robert McCloskey (Norteamérica, 1914 – 2003)</a:t>
            </a:r>
            <a:endParaRPr b="0" lang="en-US" sz="45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4032000" cy="3987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748040" y="1285920"/>
            <a:ext cx="3824640" cy="3143160"/>
          </a:xfrm>
          <a:prstGeom prst="rect">
            <a:avLst/>
          </a:prstGeom>
          <a:ln w="0">
            <a:noFill/>
          </a:ln>
        </p:spPr>
      </p:pic>
      <p:sp>
        <p:nvSpPr>
          <p:cNvPr id="131" name="4 CuadroTexto"/>
          <p:cNvSpPr/>
          <p:nvPr/>
        </p:nvSpPr>
        <p:spPr>
          <a:xfrm>
            <a:off x="5724360" y="4437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5229360"/>
            <a:ext cx="8183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0000"/>
                </a:solidFill>
                <a:latin typeface="Calibri"/>
              </a:rPr>
              <a:t>PAUL RAND (Norteamérica 1914 – 1996)</a:t>
            </a:r>
            <a:endParaRPr b="0" lang="en-US" sz="2800" spc="-1" strike="noStrike">
              <a:solidFill>
                <a:srgbClr val="eaebde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92000" y="928800"/>
            <a:ext cx="3494160" cy="407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429080" y="571680"/>
            <a:ext cx="3071880" cy="12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6948360" y="1916280"/>
            <a:ext cx="2000520" cy="2825640"/>
          </a:xfrm>
          <a:prstGeom prst="rect">
            <a:avLst/>
          </a:prstGeom>
          <a:ln w="0">
            <a:noFill/>
          </a:ln>
        </p:spPr>
      </p:pic>
      <p:pic>
        <p:nvPicPr>
          <p:cNvPr id="136" name="5 Imagen" descr="Paul Rand.png"/>
          <p:cNvPicPr/>
          <p:nvPr/>
        </p:nvPicPr>
        <p:blipFill>
          <a:blip r:embed="rId4"/>
          <a:stretch/>
        </p:blipFill>
        <p:spPr>
          <a:xfrm>
            <a:off x="4643280" y="1989000"/>
            <a:ext cx="2194200" cy="266220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5219640" y="4941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16:09:02Z</dcterms:created>
  <dc:creator>Usuario</dc:creator>
  <dc:description/>
  <dc:language>en-US</dc:language>
  <cp:lastModifiedBy>Usuario</cp:lastModifiedBy>
  <dcterms:modified xsi:type="dcterms:W3CDTF">2013-04-15T20:10:30Z</dcterms:modified>
  <cp:revision>69</cp:revision>
  <dc:subject/>
  <dc:title>O ÁLBUM ILUSTRADO</dc:title>
</cp:coreProperties>
</file>