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0625-8A80-4049-B887-CC6A8DB724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A160-EA62-4563-9336-E2ADB11660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1754-DDF1-403A-95BC-0F8B072FDD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2AC2-5FB5-4A4A-875D-8023B51E35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F7DA-C03A-4813-82E0-3E39458330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C731-B9BB-4B95-8CBF-1A366D12FA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8F10-1171-406C-8395-0A1029E163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BA77-4815-43AE-A1F6-BE98183592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383-1D71-4A68-AC0E-F8BBB14B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B28-99F2-4E83-A2F4-70112E1E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FBD-D061-43D6-95F1-F556D72F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5B3-B138-4B60-B8AA-A956A016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2BC-7794-4F17-83BE-E72CA996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604-62C8-49FF-A2E4-3F8F8E3F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237-A325-4440-954F-E91A28FC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913-8349-44B9-8D75-A1A43F68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823-2607-403E-9DA2-126ABF53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327-DDCF-43FB-9824-59E76DE5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20F-2746-4208-9917-1D3760B4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B2E-A235-434B-A84A-60E2FAE2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96CB-1106-4F40-9DCC-968939AA0D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eremarques.blogspot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eremarques.net/propuest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ewey.uab.es/dim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87472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Arial"/>
              </a:rPr>
              <a:t>La magia</a:t>
            </a:r>
            <a:br>
              <a:rPr sz="4800"/>
            </a:br>
            <a:r>
              <a:rPr b="1" lang="es-ES" sz="4800" spc="-1" strike="noStrike">
                <a:solidFill>
                  <a:srgbClr val="ff0000"/>
                </a:solidFill>
                <a:latin typeface="Arial"/>
              </a:rPr>
              <a:t>de la pizarra digital…</a:t>
            </a:r>
            <a:br>
              <a:rPr sz="4800"/>
            </a:br>
            <a:r>
              <a:rPr b="1" lang="es-ES" sz="4800" spc="-1" strike="noStrike">
                <a:solidFill>
                  <a:srgbClr val="ff0000"/>
                </a:solidFill>
                <a:latin typeface="Arial"/>
              </a:rPr>
              <a:t>la pones t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e Marquès (2008). UAB - grupo D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eremarques.blogspo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8360" y="3933720"/>
            <a:ext cx="828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anual para el aprendiz de mago PD</a:t>
            </a:r>
            <a:br>
              <a:rPr sz="36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y si es PDI mej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imnou"/>
          <p:cNvPicPr/>
          <p:nvPr/>
        </p:nvPicPr>
        <p:blipFill>
          <a:blip r:embed="rId2"/>
          <a:stretch/>
        </p:blipFill>
        <p:spPr>
          <a:xfrm>
            <a:off x="7380360" y="5589720"/>
            <a:ext cx="1295280" cy="64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uablogo"/>
          <p:cNvPicPr/>
          <p:nvPr/>
        </p:nvPicPr>
        <p:blipFill>
          <a:blip r:embed="rId3"/>
          <a:stretch/>
        </p:blipFill>
        <p:spPr>
          <a:xfrm>
            <a:off x="468360" y="5734080"/>
            <a:ext cx="143964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MCj02869020000[1]"/>
          <p:cNvPicPr/>
          <p:nvPr/>
        </p:nvPicPr>
        <p:blipFill>
          <a:blip r:embed="rId4"/>
          <a:stretch/>
        </p:blipFill>
        <p:spPr>
          <a:xfrm>
            <a:off x="324000" y="260280"/>
            <a:ext cx="17269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MCj02869020000[1]"/>
          <p:cNvPicPr/>
          <p:nvPr/>
        </p:nvPicPr>
        <p:blipFill>
          <a:blip r:embed="rId1"/>
          <a:stretch/>
        </p:blipFill>
        <p:spPr>
          <a:xfrm>
            <a:off x="7236000" y="5184720"/>
            <a:ext cx="1800000" cy="1673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El profesor explica y hace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Realizar síntesis en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Realizar ejercicios “entre tod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rrección colectiva de ejerc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Presentar y comentar el blog diario de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Improvisando en clase: documentarse y deba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hats y videoconferencias en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Aplicaciones en 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25092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0000"/>
                </a:solidFill>
                <a:latin typeface="Arial"/>
              </a:rPr>
              <a:t>Buscando la magia de la pizarra digital</a:t>
            </a:r>
            <a:br>
              <a:rPr sz="3800"/>
            </a:b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CTIVIDADES CENTRADAS EN LA ACTIVIDAD E INICIATIVA DEL PROFESOR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MCj02869020000[1]"/>
          <p:cNvPicPr/>
          <p:nvPr/>
        </p:nvPicPr>
        <p:blipFill>
          <a:blip r:embed="rId1"/>
          <a:stretch/>
        </p:blipFill>
        <p:spPr>
          <a:xfrm>
            <a:off x="7343640" y="5184720"/>
            <a:ext cx="1800360" cy="1673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Buscar recursos en Internet y presentar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Presentar los trabajos realizados 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(webquest, monografí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Videoconferencia sobre trabajos intercen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Hacer de profesores: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xplicar un 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rear materiales didácticos y presentar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aborar vídeos con la P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Revisar y comentar la prensa del día entre to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bates con apoyos multi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Presentar el blog/wiki portafolio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omentar trabajos colaborativos con wi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4428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0000"/>
                </a:solidFill>
                <a:latin typeface="Arial"/>
              </a:rPr>
              <a:t>Buscando la magia de la pizarra digital</a:t>
            </a:r>
            <a:br>
              <a:rPr sz="3800"/>
            </a:b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CTIVIDADES CENTRADAS EN LA ACTIVIDAD E INICIATIVA DEL ALUM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0000"/>
                </a:solidFill>
                <a:latin typeface="Arial"/>
              </a:rPr>
              <a:t>Ya tenemos PD.¿Qué problemas hemos de afrontar aho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5280" y="1753920"/>
            <a:ext cx="9178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l coste de mantenimien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net, lámparas videoproyectores, mantenimiento ordenador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ormación didáctico-tecnológ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profesor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profesorad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er los recurs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digitales más adecuad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ara cada circunst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profesorad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be tener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voluntad de adaptació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al cambio y mejora de las prácticas doc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i es posible habrá un 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profesor-asesorPD en el c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poyo de la dirección del centr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la implantación de este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81080" y="188640"/>
            <a:ext cx="9506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¿</a:t>
            </a:r>
            <a:r>
              <a:rPr b="1" i="1" lang="es-ES" sz="3800" spc="-1" strike="noStrike">
                <a:solidFill>
                  <a:srgbClr val="ff0000"/>
                </a:solidFill>
                <a:latin typeface="Arial"/>
              </a:rPr>
              <a:t>Qué formación </a:t>
            </a:r>
            <a:r>
              <a:rPr b="1" i="1" lang="es-ES" sz="3600" spc="-1" strike="noStrike">
                <a:solidFill>
                  <a:srgbClr val="ff0000"/>
                </a:solidFill>
                <a:latin typeface="Arial"/>
              </a:rPr>
              <a:t>necesita el profesorado</a:t>
            </a: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br>
              <a:rPr sz="3200"/>
            </a:b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ueden bastar 3 seminarios a lo largo del año en el cen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Formación técn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s-ES" sz="2800" spc="-1" strike="noStrike">
                <a:solidFill>
                  <a:srgbClr val="0033cc"/>
                </a:solidFill>
                <a:latin typeface="Arial"/>
              </a:rPr>
              <a:t>Uso del puntero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5f5f5f"/>
                </a:solidFill>
                <a:latin typeface="Arial"/>
              </a:rPr>
              <a:t>ratón y lápiz; archivar y recuperar pantall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s-ES" sz="2800" spc="-1" strike="noStrike">
                <a:solidFill>
                  <a:srgbClr val="0033cc"/>
                </a:solidFill>
                <a:latin typeface="Arial"/>
              </a:rPr>
              <a:t>Acceso a los recursos del softwa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5f5f5f"/>
                </a:solidFill>
                <a:latin typeface="Arial"/>
              </a:rPr>
              <a:t>de la P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33cc"/>
                </a:solidFill>
                <a:latin typeface="Arial"/>
              </a:rPr>
              <a:t>Uso básico del editor de actividades</a:t>
            </a:r>
            <a:r>
              <a:rPr b="1" i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5f5f5f"/>
                </a:solidFill>
                <a:latin typeface="Arial"/>
              </a:rPr>
              <a:t>para elaborar presentaciones multi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33cc"/>
                </a:solidFill>
                <a:latin typeface="Arial"/>
              </a:rPr>
              <a:t>Otras funcionalidades</a:t>
            </a:r>
            <a:r>
              <a:rPr b="1" i="1" lang="es-ES" sz="28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5f5f5f"/>
                </a:solidFill>
                <a:latin typeface="Arial"/>
              </a:rPr>
              <a:t> lupa, captura de imágenes, grabadora de vídeo, cortinas y foc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i="1" lang="es-ES" sz="2800" spc="-1" strike="noStrike">
                <a:solidFill>
                  <a:srgbClr val="0033cc"/>
                </a:solidFill>
                <a:latin typeface="Arial"/>
              </a:rPr>
              <a:t>Uso avanzado del editor de actividades </a:t>
            </a:r>
            <a:r>
              <a:rPr b="0" lang="es-ES" sz="2800" spc="-1" strike="noStrike">
                <a:solidFill>
                  <a:srgbClr val="5f5f5f"/>
                </a:solidFill>
                <a:latin typeface="Arial"/>
              </a:rPr>
              <a:t>para crear materiales didácticos. Solo algunos profes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Formación didáctica:</a:t>
            </a:r>
            <a:r>
              <a:rPr b="0" lang="es-E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990033"/>
                </a:solidFill>
                <a:latin typeface="Arial"/>
              </a:rPr>
              <a:t>modelos didácticos</a:t>
            </a:r>
            <a:r>
              <a:rPr b="0" lang="es-ES" sz="2800" spc="-1" strike="noStrike">
                <a:solidFill>
                  <a:srgbClr val="5f5f5f"/>
                </a:solidFill>
                <a:latin typeface="Arial"/>
              </a:rPr>
              <a:t> de uso de la PD que permitan diseñar y desarrollar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actividades</a:t>
            </a:r>
            <a:r>
              <a:rPr b="0" i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5f5f5f"/>
                </a:solidFill>
                <a:latin typeface="Arial"/>
              </a:rPr>
              <a:t>de enseñanza y aprendizaje</a:t>
            </a:r>
            <a:r>
              <a:rPr b="0" i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eficientes y de mayor efic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MCj02509330000[1]"/>
          <p:cNvPicPr/>
          <p:nvPr/>
        </p:nvPicPr>
        <p:blipFill>
          <a:blip r:embed="rId1"/>
          <a:stretch/>
        </p:blipFill>
        <p:spPr>
          <a:xfrm>
            <a:off x="71280" y="144360"/>
            <a:ext cx="1764000" cy="148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000" y="102960"/>
            <a:ext cx="8999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0000"/>
                </a:solidFill>
                <a:latin typeface="Arial"/>
              </a:rPr>
              <a:t>La clave del éxito: </a:t>
            </a:r>
            <a:br>
              <a:rPr sz="4000"/>
            </a:br>
            <a:r>
              <a:rPr b="1" i="1" lang="es-ES" sz="4000" spc="-1" strike="noStrike">
                <a:solidFill>
                  <a:srgbClr val="ff0000"/>
                </a:solidFill>
                <a:latin typeface="Arial"/>
              </a:rPr>
              <a:t>Que los profesores vean qu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i="1" lang="es-ES" sz="2800" spc="-1" strike="noStrike">
                <a:solidFill>
                  <a:srgbClr val="990033"/>
                </a:solidFill>
                <a:latin typeface="Arial"/>
              </a:rPr>
              <a:t>El uso de las PDI es</a:t>
            </a:r>
            <a:r>
              <a:rPr b="1" i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fácil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ueden aprender a manejarlas sin problema en poco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33"/>
                </a:solidFill>
                <a:latin typeface="Arial"/>
              </a:rPr>
              <a:t>-  </a:t>
            </a:r>
            <a:r>
              <a:rPr b="0" i="1" lang="es-ES" sz="2800" spc="-1" strike="noStrike">
                <a:solidFill>
                  <a:srgbClr val="990033"/>
                </a:solidFill>
                <a:latin typeface="Arial"/>
              </a:rPr>
              <a:t>El uso de las PDI es</a:t>
            </a:r>
            <a:r>
              <a:rPr b="1" i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cómo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no dará problemas ni estrés; los modelos didácticos son buenos, flexibles, control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i="1" lang="es-ES" sz="2800" spc="-1" strike="noStrike">
                <a:solidFill>
                  <a:srgbClr val="990033"/>
                </a:solidFill>
                <a:latin typeface="Arial"/>
              </a:rPr>
              <a:t>El uso de la PDI es</a:t>
            </a:r>
            <a:r>
              <a:rPr b="1" i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úti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eficaz, aporta valor añadido para realizar actividades de mayor potencial didáctico y lograr más motivación y participación del alumn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i="1" lang="es-ES" sz="2800" spc="-1" strike="noStrike">
                <a:solidFill>
                  <a:srgbClr val="990033"/>
                </a:solidFill>
                <a:latin typeface="Arial"/>
              </a:rPr>
              <a:t>El uso de la PDI es</a:t>
            </a:r>
            <a:r>
              <a:rPr b="1" i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eficie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muchas actividades no exigen dedicar más tiempo ni esfuer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PDI y modelos de utilización en el au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aña 2012: todas las aulas tendrán pizarra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al de la PIZARRA DIGITAL: investigaciones, bibliografía… http://dewey.uab.es/pmarques/pizarr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izarra digital: estudio piloto (2003-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nvestigación SMART (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earch UAB-Promethean (2006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ISPAS TIC Y EDUCACIÓN: mitos y mentiras, investigacion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cnología educativa. Web de Pere Marqu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 de investigación DIM-UAB: nuevas investigaciones Promethean, SMART, MIMI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44360" y="404640"/>
            <a:ext cx="899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0000"/>
                </a:solidFill>
                <a:latin typeface="Arial"/>
              </a:rPr>
              <a:t>Más informació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7"/>
          <p:cNvSpPr/>
          <p:nvPr/>
        </p:nvSpPr>
        <p:spPr>
          <a:xfrm>
            <a:off x="3203640" y="836640"/>
            <a:ext cx="2378160" cy="1511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do p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en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1.000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32108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0000"/>
                </a:solidFill>
                <a:latin typeface="Arial"/>
              </a:rPr>
              <a:t>¿Qué es una pizarra digital, P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stema tecnológico integrado por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videoproyector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XVGA, 1.6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um.)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y ordenado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onectado 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royect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enidos multimedia en una pizarra blan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pantalla o pared. Y dispone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tavoc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interactú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bre las imágenes proyectad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utilizando ratón y teclad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onviene sean Blueto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5373720"/>
            <a:ext cx="9144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¿Y qué es una </a:t>
            </a: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PDIp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1" i="1" lang="es-ES" sz="2000" spc="-1" strike="noStrike">
                <a:solidFill>
                  <a:srgbClr val="0033cc"/>
                </a:solidFill>
                <a:latin typeface="Arial"/>
              </a:rPr>
              <a:t>PD con una tableta gráfica inalámbrica y el software de las PDI.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Permite interactuar desde cualquier lugar de la clase y aprovechar las funcionalidades del software de las PDI: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inta digital, editor de presentaciones, recursos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explicacion"/>
          <p:cNvPicPr/>
          <p:nvPr/>
        </p:nvPicPr>
        <p:blipFill>
          <a:blip r:embed="rId1"/>
          <a:stretch/>
        </p:blipFill>
        <p:spPr>
          <a:xfrm>
            <a:off x="5435640" y="189000"/>
            <a:ext cx="3467160" cy="1504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9"/>
          <p:cNvSpPr/>
          <p:nvPr/>
        </p:nvSpPr>
        <p:spPr>
          <a:xfrm>
            <a:off x="6765840" y="5516640"/>
            <a:ext cx="2378160" cy="1511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do p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en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2.000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explicacion2"/>
          <p:cNvPicPr/>
          <p:nvPr/>
        </p:nvPicPr>
        <p:blipFill>
          <a:blip r:embed="rId1"/>
          <a:stretch/>
        </p:blipFill>
        <p:spPr>
          <a:xfrm>
            <a:off x="5292720" y="260280"/>
            <a:ext cx="3467160" cy="15051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4356000" y="1197000"/>
            <a:ext cx="2378160" cy="1511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do p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en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3.000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7527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0000"/>
                </a:solidFill>
                <a:latin typeface="Arial"/>
              </a:rPr>
              <a:t>¿Qué es una pizarra digital, interactiva, PD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20320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Sistema tecnológico integrado por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videoproyector, ordenador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(conectado a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un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positivo control de punter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Proyecta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contenidos multimedi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n una superficie interactiv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izarra que contiene el dispositivo de control 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i="1" lang="es-ES" sz="3200" spc="-1" strike="noStrike">
                <a:solidFill>
                  <a:srgbClr val="0033cc"/>
                </a:solidFill>
                <a:latin typeface="Arial"/>
              </a:rPr>
              <a:t>*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interactú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rectamente sobre la superficie de proy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5805360"/>
            <a:ext cx="70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cc"/>
                </a:solidFill>
                <a:latin typeface="Arial"/>
              </a:rPr>
              <a:t>(*) Si el dispositivo de control es una cajita externa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adherible a cualquier pizarra, </a:t>
            </a:r>
            <a:r>
              <a:rPr b="1" i="1" lang="es-ES" sz="2000" spc="-1" strike="noStrike">
                <a:solidFill>
                  <a:srgbClr val="0033cc"/>
                </a:solidFill>
                <a:latin typeface="Arial"/>
              </a:rPr>
              <a:t>la PDI se llamará: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33cc"/>
                </a:solidFill>
                <a:latin typeface="Arial"/>
              </a:rPr>
              <a:t>PIZARRA DIGITAL INTERACTIVA 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072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0000"/>
                </a:solidFill>
                <a:latin typeface="Arial"/>
              </a:rPr>
              <a:t>Entonces…</a:t>
            </a:r>
            <a:br>
              <a:rPr sz="4000"/>
            </a:br>
            <a:r>
              <a:rPr b="1" i="1" lang="es-ES" sz="3600" spc="-1" strike="noStrike">
                <a:solidFill>
                  <a:srgbClr val="ff0000"/>
                </a:solidFill>
                <a:latin typeface="Arial"/>
              </a:rPr>
              <a:t>¿En qué se diferencian</a:t>
            </a:r>
            <a:br>
              <a:rPr sz="3600"/>
            </a:br>
            <a:r>
              <a:rPr b="1" i="1" lang="es-ES" sz="3600" spc="-1" strike="noStrike">
                <a:solidFill>
                  <a:srgbClr val="ff0000"/>
                </a:solidFill>
                <a:latin typeface="Arial"/>
              </a:rPr>
              <a:t> una PDI y una P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om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el software de anotacione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tinta digital)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y otras funciones de las PD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cortinas y focos, captura de imágenes...)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resultan de uso libr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algunas marcas), y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e puede usar también en las PD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La diferenci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á en la interac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una PDI es una PD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con la que se puede interactua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rectamente sobre la superficie de proyec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PDI aúna la interactividad y la disponibilidad de infinitos recurs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IC con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s ventajas de la pizarra tradiciona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anotaciones directas e inmediata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cc"/>
                </a:solidFill>
                <a:latin typeface="Arial"/>
              </a:rPr>
              <a:t>- Manipular elementos gráficos y multimedia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(mover, ocultar, modificar), </a:t>
            </a:r>
            <a:r>
              <a:rPr b="0" i="1" lang="es-ES" sz="2000" spc="-1" strike="noStrike">
                <a:solidFill>
                  <a:srgbClr val="0033cc"/>
                </a:solidFill>
                <a:latin typeface="Arial"/>
              </a:rPr>
              <a:t>facilita la explicació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e conceptos </a:t>
            </a:r>
            <a:r>
              <a:rPr b="0" i="1" lang="es-ES" sz="2000" spc="-1" strike="noStrike">
                <a:solidFill>
                  <a:srgbClr val="0033cc"/>
                </a:solidFill>
                <a:latin typeface="Arial"/>
              </a:rPr>
              <a:t>y la realización de ejercicios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cc"/>
                </a:solidFill>
                <a:latin typeface="Arial"/>
              </a:rPr>
              <a:t>- Las clases resultan más dinámicas y motivadoras al salir profesor y alumnos a interactuar directamente con el puntero: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inmediatez, más autonomía y creatividad,mejor que hacerlo desde el ordenador con r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explicacion"/>
          <p:cNvPicPr/>
          <p:nvPr/>
        </p:nvPicPr>
        <p:blipFill>
          <a:blip r:embed="rId1"/>
          <a:stretch/>
        </p:blipFill>
        <p:spPr>
          <a:xfrm>
            <a:off x="108000" y="189000"/>
            <a:ext cx="1873080" cy="150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explicacion2"/>
          <p:cNvPicPr/>
          <p:nvPr/>
        </p:nvPicPr>
        <p:blipFill>
          <a:blip r:embed="rId2"/>
          <a:stretch/>
        </p:blipFill>
        <p:spPr>
          <a:xfrm>
            <a:off x="7093080" y="189000"/>
            <a:ext cx="20160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2658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Arial"/>
              </a:rPr>
              <a:t>Un buen complemento</a:t>
            </a:r>
            <a:r>
              <a:rPr b="1" i="1" lang="es-ES_tradnl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s-ES_tradnl" sz="3200" spc="-1" strike="noStrike">
                <a:solidFill>
                  <a:srgbClr val="ff0000"/>
                </a:solidFill>
                <a:latin typeface="Arial"/>
              </a:rPr>
              <a:t>para las pizarras digitales:</a:t>
            </a:r>
            <a:r>
              <a:rPr b="1" i="1" lang="es-ES_tradnl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ff0000"/>
                </a:solidFill>
                <a:latin typeface="Arial"/>
              </a:rPr>
              <a:t>el lector de docu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ámara de vídeo con zoom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grada en un pié ajustable que permite mover la altura y el ángulo de la cáma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Multiplica las posibilidades didácticas de las P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a que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ermite proyectar y digitalizar cualquier documento de papel u obje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tridimens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2124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90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0000"/>
                </a:solidFill>
                <a:latin typeface="Arial"/>
              </a:rPr>
              <a:t>¿Qué nos aportan las PDI?</a:t>
            </a:r>
            <a:br>
              <a:rPr sz="4000"/>
            </a:b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FUNCIONALIDADES DE LAS P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270080"/>
            <a:ext cx="89629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Proyectar informació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del ordenador, Internet, DVD, lector de documentos… PDI = 2º monitor del orden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0" i="1" lang="es-ES" sz="2400" spc="-1" strike="noStrike">
                <a:solidFill>
                  <a:srgbClr val="0033cc"/>
                </a:solidFill>
                <a:latin typeface="Arial"/>
              </a:rPr>
              <a:t>puntero a modo de rató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, desde la PDI se puede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controlar el ordenador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0" i="1" lang="es-ES" sz="2400" spc="-1" strike="noStrike">
                <a:solidFill>
                  <a:srgbClr val="0033cc"/>
                </a:solidFill>
                <a:latin typeface="Arial"/>
              </a:rPr>
              <a:t>puntero a modo de lápiz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hacer anotaciones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sobre las imágenes proyectadas y almacenarlas lue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Bancos de imágenes/mutimedias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, fondos de pantalla y otros recursos didácticos inter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Un programa editor multimedia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que permite elaborar presentaciones y materiales didácticos intera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Otras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funcionalidades: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grabadora en vídeo, lupa, cortinas y focos, captura de pantallas, conversión texto manual a texto impreso...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0000"/>
                </a:solidFill>
                <a:latin typeface="Arial"/>
              </a:rPr>
              <a:t>¿Cual es su impacto en el aula?</a:t>
            </a:r>
            <a:br>
              <a:rPr sz="4000"/>
            </a:b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USCADO LA MAGIA DE LA PIZARR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uente inagotable de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información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multimedia e interactiva disponible de forma</a:t>
            </a: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inmediata 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"/>
              </a:rPr>
              <a:t>(espejo mágico + genio Goo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roduce más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canales de comunicación/interacción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374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Visualizador de document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que permite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compartir y comentar recursos: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(propios, Internet, DVD).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estudiantes están más atentos y motivad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comprenden mejor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los contenidos; </a:t>
            </a: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participan más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: presentación de trabajos, debates, ejercicios colectiv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4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Clases más activas y audiovisuale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; es más fácil </a:t>
            </a: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renovar metodología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y tratar la d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 el </a:t>
            </a: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uso de las TIC en las actividades del aul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buscar información, realizar y presentar trabaj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Y para el profesorado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 fácil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 usar,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no da problema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 entusiasm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umenta la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 autoestima profe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1280" y="79200"/>
            <a:ext cx="9215280" cy="9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0000"/>
                </a:solidFill>
                <a:latin typeface="Arial"/>
              </a:rPr>
              <a:t>¿Qué dicen las investigaciones? </a:t>
            </a:r>
            <a:br>
              <a:rPr sz="4000"/>
            </a:b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Las investigaciones realizadas por el grupo </a:t>
            </a:r>
            <a:r>
              <a:rPr b="0" lang="es-ES" sz="1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DIM-UAB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  ratifican los aspectos señalados en el esquema anterior y también afirm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s PD son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instrumento de comunicación/interacción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entre docentes y discentes, útil en todas las asignaturas y niv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rofesores y estudiantes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prefieren hacer clase con la PD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acilitan tanto la aplicación de </a:t>
            </a:r>
            <a:r>
              <a:rPr b="0" i="1" lang="es-ES" sz="2400" spc="-1" strike="noStrike">
                <a:solidFill>
                  <a:srgbClr val="0033cc"/>
                </a:solidFill>
                <a:latin typeface="Arial"/>
              </a:rPr>
              <a:t>metodologías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radicionales </a:t>
            </a:r>
            <a:r>
              <a:rPr b="0" i="1" lang="es-ES" sz="2400" spc="-1" strike="noStrike">
                <a:solidFill>
                  <a:srgbClr val="0033cc"/>
                </a:solidFill>
                <a:latin typeface="Arial"/>
              </a:rPr>
              <a:t>centradas en la enseñanza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como de metodologías </a:t>
            </a:r>
            <a:r>
              <a:rPr b="0" i="1" lang="es-ES" sz="2400" spc="-1" strike="noStrike">
                <a:solidFill>
                  <a:srgbClr val="0033cc"/>
                </a:solidFill>
                <a:latin typeface="Arial"/>
              </a:rPr>
              <a:t>centradas en los estudiant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(la mayoría de profesores cree que innov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 profesorado con PD fija en las aulas y que recib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decuada formación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técnico-didáctica, aún partiendo de concepciones memorísticas de la enseñanza… </a:t>
            </a:r>
            <a:r>
              <a:rPr b="0" i="1" lang="es-ES" sz="2400" spc="-1" strike="noStrike">
                <a:solidFill>
                  <a:srgbClr val="0033cc"/>
                </a:solidFill>
                <a:latin typeface="Arial"/>
              </a:rPr>
              <a:t>va aplicando progresivamente modelos didácticos más centrados en la actividad del alum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e puede aprender más y mejor con la PD, aunque esto depende de lo que se haga con ella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La magia la pone el profeso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MCj02869020000[1]"/>
          <p:cNvPicPr/>
          <p:nvPr/>
        </p:nvPicPr>
        <p:blipFill>
          <a:blip r:embed="rId1"/>
          <a:stretch/>
        </p:blipFill>
        <p:spPr>
          <a:xfrm>
            <a:off x="34920" y="-27000"/>
            <a:ext cx="1800360" cy="1573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Lo importante no es el instrumento… sino lo que se hace con él.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ero un buen instrumento ay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cc"/>
                </a:solidFill>
                <a:latin typeface="Arial"/>
              </a:rPr>
              <a:t>Disponer de una PD en el aula 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no garantiza</a:t>
            </a:r>
            <a:r>
              <a:rPr b="0" i="1" lang="es-ES" sz="2400" spc="-1" strike="noStrike">
                <a:solidFill>
                  <a:srgbClr val="0033cc"/>
                </a:solidFill>
                <a:latin typeface="Arial"/>
              </a:rPr>
              <a:t> una enseñanza innovadora de 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mayor calidad</a:t>
            </a:r>
            <a:r>
              <a:rPr b="0" i="1" lang="es-ES" sz="24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ener un ordenador para cada alumno en al aula, tampoco. Como tampoco lo garantizó tener una pizarra de tiza o utilizar, o no utilizar, libros de texto.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Esto depende del profesor, de las actividades de enseñanza y aprendizaj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que se hag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ero sin duda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una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PD proporciona más recursos y más oportunidades para aprender.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e pueden hacer muchas más cosas si se tiene una PD en el aula que si no se tiene.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Y podemos hacer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participar mucho más a los alumno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Veamos ahora algunos buenos modelos de uso de las PD </a:t>
            </a:r>
            <a:br>
              <a:rPr sz="2000"/>
            </a:b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que nos permitirán APLICAR NUEVA MAGIA en cla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985080" y="6610320"/>
            <a:ext cx="22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D Pere Marquès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4428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0000"/>
                </a:solidFill>
                <a:latin typeface="Arial"/>
              </a:rPr>
              <a:t>Buscando la magia de la pizarra digital</a:t>
            </a:r>
            <a:br>
              <a:rPr sz="3800"/>
            </a:b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ONSIDERACIONES PREVIAS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8:34:01Z</dcterms:created>
  <dc:creator>pmarques</dc:creator>
  <dc:description/>
  <dc:language>en-US</dc:language>
  <cp:lastModifiedBy>pmarques</cp:lastModifiedBy>
  <dcterms:modified xsi:type="dcterms:W3CDTF">2009-01-17T13:11:55Z</dcterms:modified>
  <cp:revision>55</cp:revision>
  <dc:subject/>
  <dc:title>España 2012: todas las aulas tendrán PD (pizarra digital o pizarra digital interactiva)</dc:title>
</cp:coreProperties>
</file>