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B9A-0CF7-452E-B778-88A29411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DAE-C4F2-4474-AD44-0A21BB9E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34F-6821-4DC7-B4C7-FCCB53F9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AA1-1648-466F-B1DD-B4D9F35E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9761-7332-4C9E-ACA0-C03CB0F7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073D-1117-4FB6-AC61-4A24A503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B612-1230-4424-BC37-D22926E7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90F4-EE83-404F-A37E-5E2888B1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AF65-2CF8-4DD4-94CA-63CCE09C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561B-5398-4E89-B48A-5D405D0B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3372-9CFE-4DCB-A65D-543DFFDF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184-2E8A-41C7-AC14-48CB2085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A05A-12E3-4A45-AF5E-4F3D06A6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7585-57E0-4CCE-A237-718A146C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91E7-F580-4F78-B856-D3B493D1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436A-D6E0-46C4-877D-631AE5E8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CBCC-C351-4243-B2FD-ED9CA432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1B23F-5361-4CD2-BCC9-5A085DC9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85726-7A86-41EC-8035-7B45D2E0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08B70-9609-4362-972A-B6AF9F2F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97B70-BCF0-4029-BD50-D91DA4FD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AA93F-7D75-40B8-A7A9-9FC2C7C4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8EC-9743-44CF-B40B-585C8481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60720-6A6D-4A08-9CB7-85494BD4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DBE6D-220D-4823-990F-6DECE06E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7A29A-9C86-4E77-81B4-158130E4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6849E-2239-4FF7-8288-963B7374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323DA-E835-435F-AF5B-423D8FFA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8F69D-4027-4CE7-A717-0502EEAF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77C31-F5DC-4FFC-B8D8-C1766413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3B7C3-2784-44B5-B92C-9918FE04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F9AF1-E973-4559-B140-FDE42103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D0F67-B73D-41BF-8747-C614FA19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EF2-0A14-4E94-B8BF-69A6187D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EE699-36BA-467F-82B6-65D400C0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BDBF1-4509-4159-A006-1916015C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BDD77-AE91-4F2E-891B-5742DAD6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03489-027D-438D-9C5D-CE499853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AE763-0FF1-4646-BDF5-7EBD7431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E1E0F-D107-4A89-962A-8ACFE920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D6FE4-A599-4E36-894E-5AEA5F82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F1F23-F974-49AE-8CA2-0CFDF489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646F-5ABD-4D8F-B235-BC915B36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0B4-07EE-4572-AF28-8A905C69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E5A-CDB2-482D-BDB6-8A162250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130-E48D-44BF-8E6C-235AB5B1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0AB-2328-4B87-94CD-6B375385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E31-F919-4ACC-AF50-D5B986CF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857C-5C99-4510-B7D2-60CA023A4484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1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3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4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5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6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0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1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42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3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A0CA-C24C-4A1C-BDF2-4E60D642DB0A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43A3-4FFC-4384-BA2D-F7BD63AC49DC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F1DF-95F3-4682-B635-E758E0B07C2C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raining.etwinning.net/ww/es/pub/etwinning/index2005.htm" TargetMode="External"/><Relationship Id="rId2" Type="http://schemas.openxmlformats.org/officeDocument/2006/relationships/hyperlink" Target="http://etwinning.cnice.mec.es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rebuchet MS"/>
              </a:rPr>
              <a:t>eTwinn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24456"/>
                </a:solidFill>
                <a:latin typeface="Georgia"/>
              </a:rPr>
              <a:t>Medida de acompañament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24456"/>
                </a:solidFill>
                <a:latin typeface="Georgia"/>
              </a:rPr>
              <a:t>nos </a:t>
            </a:r>
            <a:r>
              <a:rPr b="1" lang="es-ES" sz="2000" spc="-1" strike="noStrike">
                <a:solidFill>
                  <a:srgbClr val="424456"/>
                </a:solidFill>
                <a:latin typeface="Georgia"/>
              </a:rPr>
              <a:t>Programas del Aprendizaxe Permanen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9"/>
          <p:cNvGraphicFramePr/>
          <p:nvPr/>
        </p:nvGraphicFramePr>
        <p:xfrm>
          <a:off x="857160" y="214200"/>
          <a:ext cx="27147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14200"/>
                    <a:ext cx="27147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" name="Picture 11" descr="portada_pap_peq"/>
          <p:cNvPicPr/>
          <p:nvPr/>
        </p:nvPicPr>
        <p:blipFill>
          <a:blip r:embed="rId3"/>
          <a:stretch/>
        </p:blipFill>
        <p:spPr>
          <a:xfrm>
            <a:off x="6072120" y="285840"/>
            <a:ext cx="1903320" cy="6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24456"/>
                </a:solidFill>
                <a:latin typeface="Trebuchet MS"/>
              </a:rPr>
              <a:t>eTwinning</a:t>
            </a:r>
            <a:br>
              <a:rPr sz="4200"/>
            </a:br>
            <a:r>
              <a:rPr b="1" lang="es-ES" sz="2000" spc="-1" strike="noStrike">
                <a:solidFill>
                  <a:srgbClr val="424456"/>
                </a:solidFill>
                <a:latin typeface="Trebuchet MS"/>
              </a:rPr>
              <a:t>Acerca de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É un marco para que os centros escolares </a:t>
            </a:r>
            <a:r>
              <a:rPr b="1" lang="gl-ES" sz="2000" spc="-1" strike="noStrike">
                <a:solidFill>
                  <a:srgbClr val="000000"/>
                </a:solidFill>
                <a:latin typeface="Georgia"/>
              </a:rPr>
              <a:t>colaboren en internet </a:t>
            </a: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con centros asociados doutros paises europeos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É a acción principal do programa eLearning da Unión Europea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Promove o uso das </a:t>
            </a:r>
            <a:r>
              <a:rPr b="1" lang="gl-ES" sz="2000" spc="-1" strike="noStrike">
                <a:solidFill>
                  <a:srgbClr val="000000"/>
                </a:solidFill>
                <a:latin typeface="Georgia"/>
              </a:rPr>
              <a:t>TIC </a:t>
            </a: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en centros educativos, pero non é preciso ser un experto en TIC para participar. Profesores e estudantes usan internet para traballar xuntos máis alá das fronteiras. Cooperan, intercambian información e comparten materiais didáctico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Georgia"/>
              </a:rPr>
              <a:t>Non ten orzament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Non están previstos viax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Sinxelo: sen trámites burocrático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Pode ser un paso previo para outro programa europe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24456"/>
                </a:solidFill>
                <a:latin typeface="Trebuchet MS"/>
              </a:rPr>
              <a:t>eTwinning</a:t>
            </a:r>
            <a:br>
              <a:rPr sz="4200"/>
            </a:br>
            <a:r>
              <a:rPr b="0" lang="es-ES" sz="2000" spc="-1" strike="noStrike">
                <a:solidFill>
                  <a:srgbClr val="424456"/>
                </a:solidFill>
                <a:latin typeface="Trebuchet MS"/>
              </a:rPr>
              <a:t>¿Quén poden participar?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Un proxecto eTwinning pode ser ideado por dous ou máis profesores, equipos de profesores ou departamentos de área, bibliotecarios, directivos escolares e alumnos de centros escolares de toda Europa. A colaboración pode darse na mesma asignatura ou de forma interdisciplinar gracias ao uso das TIC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Pode participar calquer centro de preescolar, primaria, secundaria, bacharelato e formación profesional (idades comprendidas </a:t>
            </a:r>
            <a:r>
              <a:rPr b="1" lang="gl-ES" sz="2000" spc="-1" strike="noStrike">
                <a:solidFill>
                  <a:srgbClr val="000000"/>
                </a:solidFill>
                <a:latin typeface="Georgia"/>
              </a:rPr>
              <a:t>entre 3 e 19 anos</a:t>
            </a: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eTwinning se extiende aos 27 Estados Membros da Unión Europea. Los territorios y países de ultramar pueden también agregarse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Noruega, Islandia,Turquía e Croacia tamén poden participar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Georgia"/>
              </a:rPr>
              <a:t>21 versiones linguístic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424456"/>
                </a:solidFill>
                <a:latin typeface="Trebuchet MS"/>
              </a:rPr>
              <a:t>eTwinning</a:t>
            </a:r>
            <a:br>
              <a:rPr sz="3800"/>
            </a:br>
            <a:r>
              <a:rPr b="0" lang="es-ES" sz="2200" spc="-1" strike="noStrike">
                <a:solidFill>
                  <a:srgbClr val="424456"/>
                </a:solidFill>
                <a:latin typeface="Trebuchet MS"/>
              </a:rPr>
              <a:t>Tipos de Proxectos</a:t>
            </a: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Georgia"/>
              </a:rPr>
              <a:t>Temas transversais</a:t>
            </a: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Estos temas están relacionados con outras accións como Comenius: Cidadanía, Patrimonio cultural, Educación medioambiental, Educación intercultural, Educación artística, Educación para a paz, Ciencias, Temas específicos relativos a alumnos/as con necesidades especiais, Estudo dos medio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Georgia"/>
              </a:rPr>
              <a:t>Temas monocurriculares</a:t>
            </a: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Éstas son as asignaturas más importantes que se imparten nos centros escolares europeos: Arte, Bioloxía, Química, Cidadanía, Economía, Educación medioambiental,Ética, Linguas estranxeiras, Xeografía, Historia, Informática/TIC, Lingua e literatura, Matemáticas, Educación para os medios, Música, Ciencias naturais, Filosofía, Educación física, Física, Política, Psicoloxía, Relixión, Ciencias socias, Estudos sociais, Educación especia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Georgia"/>
              </a:rPr>
              <a:t>Temas basados en actividades</a:t>
            </a: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Deportes, Música,Teatro, Artes visuais, Recollida de fondos, Accións humanitarias, Medios de comunicació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24456"/>
                </a:solidFill>
                <a:latin typeface="Trebuchet MS"/>
              </a:rPr>
              <a:t>eTwinning</a:t>
            </a:r>
            <a:br>
              <a:rPr sz="4200"/>
            </a:br>
            <a:r>
              <a:rPr b="0" lang="es-ES" sz="2000" spc="-1" strike="noStrike">
                <a:solidFill>
                  <a:srgbClr val="424456"/>
                </a:solidFill>
                <a:latin typeface="Trebuchet MS"/>
              </a:rPr>
              <a:t>¿Cómo Registrarxe?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eorgia"/>
              </a:rPr>
              <a:t>Duas opcións</a:t>
            </a:r>
            <a:r>
              <a:rPr b="0" lang="es-ES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Rexistrarse na plataforma de probas, ou sexa na seguinte dirección: </a:t>
            </a:r>
            <a:r>
              <a:rPr b="0" lang="gl-ES" sz="1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training.etwinning.net/ww/es/pub/etwinning/index2005.htm</a:t>
            </a: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 , neste caso todo o proceso de irmanamento será sólo una forma de practicar cómo se fai, de cara a se nun futuro quixera levar uno na práctica. Neste caso, e segundo a nacionalidade que se lle asignará, se irmanará con outro alumno que está realizando o mesmo curso. Este irmanamento será meramente de prácticas, cuando acabe o curso, non terá ningún compromiso co centro irmanado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A segunda opción é realizar un irmanamiento real. Se xa ten claro que quere comenzar un eTwinning, entón o rexistro terá que facelo na seguinte dirección: </a:t>
            </a:r>
            <a:r>
              <a:rPr b="0" lang="gl-ES" sz="1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http://etwinning.cnice.mec.es/</a:t>
            </a:r>
            <a:r>
              <a:rPr b="0" lang="gl-ES" sz="1800" spc="-1" strike="noStrike">
                <a:solidFill>
                  <a:srgbClr val="000000"/>
                </a:solidFill>
                <a:latin typeface="Georgia"/>
              </a:rPr>
              <a:t>  , neste caso comeza o proceso real de irmanamento, buscando un socio interesado e entre os dous comezaredes a idear o proxecto, o que che valerá igualmente para superalo curso. A única diferenza coa opción anterior é que unha vez terminado o curso seguirás traballando co centro irmanado na línea que plantexedes no proxecto de irmanamento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20:48:32Z</dcterms:created>
  <dc:creator>ascen</dc:creator>
  <dc:description/>
  <dc:language>en-US</dc:language>
  <cp:lastModifiedBy>equipo01</cp:lastModifiedBy>
  <dcterms:modified xsi:type="dcterms:W3CDTF">2009-11-22T17:50:52Z</dcterms:modified>
  <cp:revision>9</cp:revision>
  <dc:subject/>
  <dc:title>eTwinning</dc:title>
</cp:coreProperties>
</file>