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B3A-E377-47F1-9F66-20603A25D7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064-8D6E-4420-870D-47EB751A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ACF2-0755-4916-A096-B4E4E57E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6A2-F75E-4D84-924B-EE37CE51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4089-82EE-428F-B715-DCF49550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2488-E0AC-4C0D-A3E8-DB4D62A9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151-E45C-4D4C-9DAB-87AFA5D6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6D6D-FD91-4674-B0F9-1AEDC04F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ECB-1E3B-46CB-B8DC-E9ECF592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3EE-7FC4-44B0-898F-F3FA59A1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22C0-C5F3-4D18-B1D8-57818FA6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F43E-9682-485F-A42A-71C3720A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4F0-1C2B-4314-9B92-A27D16CC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7632-D108-4353-87B9-499C5A04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153-D15F-4B4D-8D42-BE6AAA1F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D84-2AFD-4389-9BE9-62BEE6C7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89E-70C3-4664-BB4D-C769ABCF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7C68-525A-4EA8-9E8F-5299F44E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00A-A746-4F1D-BEF2-21A51293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375-FCAD-49A3-8CD3-4D01E135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2745-76ED-422D-B8D9-2958A662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EDB-64B1-48BB-B5C4-BA903AB4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E89-9E66-4740-B660-C212BEC6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D25-0A7A-4C81-A9CE-4EBC06361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E8E-43A4-4E5D-90E8-416AE52F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F19-6833-458F-AD21-479CDA92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1BE-2A3B-45B9-93E6-1C0F8F86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0FE-3751-444A-B83F-946F2E37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B62-BD2F-4505-8FB4-8F2ADC90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425A-09C2-46A0-9FC9-F718CA57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732-04CC-405D-ADE0-5E5680B4A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58E-3768-445D-AC62-7F673462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015C-BA40-40A6-9890-D68090AF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C1E5-E6F9-4AB1-995F-7D000A86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9DF8-AD18-49CC-8531-544ADC9D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3FF2-7463-42C8-A361-22CDCD35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456-E070-4D56-9E19-B6301914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CB29-5602-48BD-ABAB-C8092A12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0692-436F-4EED-B5DF-BE6890DF5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9FE-7BD6-49F6-9D30-B4EDD20B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B545-D819-406F-B488-0C128027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2DE5-2170-4B41-980E-27899BB3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9AC-A064-4AA1-BF0A-D6A81C0A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3FAC-E965-4B70-84B0-C405EB43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913-2453-4AD3-ABC5-EDB95B7F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770-6D0C-421B-BB20-5A03CE7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D5A-7332-4C4C-82F7-5BF381AD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38E-F421-4F08-B85A-DD537053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09F-0FDE-48DA-A579-63CBEF15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8408-9996-40CD-AEDD-29569BD2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BDBE-9B4C-41D1-A662-E235703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D12-7404-4399-AD68-AC1EB425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4413-C250-447F-BC64-BEB2C81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2A1-0FCA-4BC0-855A-B1E202F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497A-93CE-474D-AC31-02A27C1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26D-414F-436C-9F9B-11ABB53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FE55-3FBB-4FC3-96C1-6BBF9E7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FCA-6832-4520-BB18-7BFCB47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88B-53BE-4E90-99D5-BC5C297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C88-6058-48D5-87EC-2C9C800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F0D2-8F3E-4EC8-A828-ABBB0768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C576A-5E7D-450C-80C0-569D89C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56F18-F38E-499B-AA62-98A334B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F570D-1ADC-4FB1-8A50-983BCAA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5D3F0-6590-4A84-83CB-C4505EF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7B977-7862-4C2E-843E-5E02E1DA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FF9-4568-464D-8C5D-A12616E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04402-151B-4D7E-8019-6E5E7812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863EF-15FE-4E8F-AB66-7C776E2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55352-EC52-4D84-81EE-6FB00C3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D0772-0A09-4C88-9E08-56E7855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DADF1-D7FC-472D-B419-F71E576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FF96A-B191-44F8-9ADB-845464A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4A386-BD41-4979-81DC-3E68AEFA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B25A-DC38-41BE-890F-02726E94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5F32-08F0-400D-B14A-4167763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2A26-2EB8-4FEA-82A6-F9792EB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5DE-ADC1-45DD-A3BB-B853D15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07A4-50C6-463D-AC75-A0D126C9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7C13-95A0-42A5-A5C7-3ECD965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53D8-80F3-4DBA-B624-855D16B6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6C52-BC7C-49BB-93CF-81B72C8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8C74-362D-4E0E-AF7D-64F30CE3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CBF3-5B86-4512-B296-CAF691B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AB6F-10EC-4D79-BEB5-F30B0BF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B27B-9A85-4123-B468-18DBD046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B8D6-B975-4085-87E0-FB61DA07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070-83E4-43D3-84C8-3F0A40A6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E04-D8FC-430C-87F5-0B2D94B6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C5A-951A-4DFC-9172-CEDFBBD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0DF-C3FE-44DA-A1E7-353CB01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0E2-E67A-4C11-B2D4-6F2A067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70E-0B35-41E0-8440-67635EC232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A46-CB9E-403D-B66C-D4D9F4BC27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B88-60F0-4A51-B20F-02D1D8F80B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Susana Agra Rama (CFR da Coruñ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37E-1FC1-4BC0-A674-440B94C2D1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journal.eduprojects.net/CFRCoruna/media/Varios%20CFR/EU_Sokrates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pap/comenius/formacion-continua.html" TargetMode="External"/><Relationship Id="rId2" Type="http://schemas.openxmlformats.org/officeDocument/2006/relationships/hyperlink" Target="http://www.oapee.es/oapee/inicio/pap/comenius/formacion-continua/guia-de-solicitud.html" TargetMode="External"/><Relationship Id="rId3" Type="http://schemas.openxmlformats.org/officeDocument/2006/relationships/hyperlink" Target="http://www.oapee.es/oapee/inicio/servicios/gestion-linea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2.arnes.si/~ossgpo2s/Comenius/" TargetMode="External"/><Relationship Id="rId2" Type="http://schemas.openxmlformats.org/officeDocument/2006/relationships/hyperlink" Target="http://www.comeniustrzemeszno.republika.pl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Leonardo/Estancias%20en%20empresa%20transnacionais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pa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iniciativas/sello-europeo/historico-premiados0/2007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ec.es/programas-europeos/docs/papcontactos.pdf" TargetMode="External"/><Relationship Id="rId2" Type="http://schemas.openxmlformats.org/officeDocument/2006/relationships/hyperlink" Target="http://www.mec.es/programas-europeos/docs/papcontactos.pdf" TargetMode="External"/><Relationship Id="rId3" Type="http://schemas.openxmlformats.org/officeDocument/2006/relationships/hyperlink" Target="http://ec.europa.eu/education/policies/educ/bologna/bologna_en.html" TargetMode="External"/><Relationship Id="rId4" Type="http://schemas.openxmlformats.org/officeDocument/2006/relationships/hyperlink" Target="http://www.cedefop.europa.eu/" TargetMode="External"/><Relationship Id="rId5" Type="http://schemas.openxmlformats.org/officeDocument/2006/relationships/hyperlink" Target="http://www.cedefop.europa.e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ec.es/programas-europeos/docs/papcontactos.pdf" TargetMode="External"/><Relationship Id="rId2" Type="http://schemas.openxmlformats.org/officeDocument/2006/relationships/hyperlink" Target="http://www.mec.es/programas-europeos/docs/papcontactos.pdf" TargetMode="External"/><Relationship Id="rId3" Type="http://schemas.openxmlformats.org/officeDocument/2006/relationships/hyperlink" Target="http://www.mec.es/programas-europeos/docs/papcontactos.pdf" TargetMode="External"/><Relationship Id="rId4" Type="http://schemas.openxmlformats.org/officeDocument/2006/relationships/hyperlink" Target="http://www.mec.es/programas-europeos/docs/papcontacto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apee.es/oapee/inicio/convocatoria/2010.html" TargetMode="External"/><Relationship Id="rId2" Type="http://schemas.openxmlformats.org/officeDocument/2006/relationships/hyperlink" Target="http://www.oapee.es/oapee/inicio/convocatoria/2009.html" TargetMode="External"/><Relationship Id="rId3" Type="http://schemas.openxmlformats.org/officeDocument/2006/relationships/hyperlink" Target="http://ec.europa.eu/education/programmes/llp/call08/guide_en.pdf" TargetMode="External"/><Relationship Id="rId4" Type="http://schemas.openxmlformats.org/officeDocument/2006/relationships/hyperlink" Target="http://www.oapee.es/oapee/inicio/servicios/gestion-linea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52862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438086"/>
                </a:solidFill>
                <a:latin typeface="Trebuchet MS"/>
              </a:rPr>
              <a:t>PROGRAMAS EUROPEOS</a:t>
            </a:r>
            <a:endParaRPr b="0" lang="en-US" sz="3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614560" y="3429000"/>
            <a:ext cx="352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Susana Agra Ram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CFR A Coruñ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Georgia"/>
              </a:rPr>
              <a:t>sagra@edu.xunta.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10" descr="Amosa-la imaxe no seu tamaño orixina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0040" y="642960"/>
            <a:ext cx="25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3"/>
          <a:stretch/>
        </p:blipFill>
        <p:spPr>
          <a:xfrm>
            <a:off x="4716360" y="5300640"/>
            <a:ext cx="41148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M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57280" y="1643040"/>
            <a:ext cx="624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FORMACIÓN CONTINUA DO PROFESORADO 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acilitase ao profesorado a formación nun país europe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uración: máximo ata 6 seman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tía: axuda de 1.400€ de media 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pap/comenius/formacion-continua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atálogo curs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oapee.es/oapee/inicio/pap/comenius/formacion-continua/guia-de-solicitu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ormulario solicitu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www.oapee.es/oapee/inicio/servicios/gestion-linea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M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71760" y="20001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gl-ES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oñer en práctica a adquisición temperá da lingua estranxeira e o Aprendizaxe Integrado de Contidos e Linguas Estranxeiras (AIC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oñer en práctica a ensinanza e o aprendizaxe en equipo e outros métodos de traballo en colaboración, co fin de reforzar a ensinanza de competencias transversais ( aprender a aprender, competencias sociais e cívicas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epararse para postos de responsa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nsinar a grupos heteroxéneos (niveis socio-económicos, cultura, idade, necesidades de aprendizaxe..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esenvolver enfoques pedagóxicos innovadores para as artes creativas (música, teatro, cine, artes visuais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M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FORMACIÓN CONTINUA DO PROFESORADO II 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Non ter recibido unha axuda de mobilidade individual nas dúas anteriores convocatori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Asistir a conferencias ou seminarios organizados pola unha rede Comeni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Asistir a cursos incluídos no catálogo Comenius-Grundtvi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Estar participando nunha asociación Comenius e solicitar formación nunha das linguas da asociación (excepto os profesores especialistas de lingua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ollida de axud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Institucións que estean desenvolvendo unha asociación escolar Comenius e/ou teñan implantados programas plurilingü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Non ter recibido un axudante Comeni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Apoio ao profesorado do centro na práctica de aula, beneficiándose do enriquecemento da diversidade lingüística e da dimensión europ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 :</a:t>
            </a:r>
            <a:r>
              <a:rPr b="0" lang="en-GB" sz="3600" spc="-1" strike="noStrike">
                <a:solidFill>
                  <a:srgbClr val="438086"/>
                </a:solidFill>
                <a:latin typeface="Trebuchet MS"/>
              </a:rPr>
              <a:t>Asociacions escolar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71760" y="178560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Tipos de asoci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Multilaterai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a lo menos tres centros de paises diferentes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Bilaterais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lingüísticos, dos centros con intercambio recíproco del alumnado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Enfoqu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Alumnado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Xestió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Lingüístico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Bianuais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inanciació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ubvencións dos gastos derivados das mobilidades  e das actividades das asociacións 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n-GB" sz="4000" spc="-1" strike="noStrike">
                <a:solidFill>
                  <a:srgbClr val="438086"/>
                </a:solidFill>
                <a:latin typeface="Trebuchet MS"/>
              </a:rPr>
              <a:t> Asociacións escola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lquera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8 competencias clave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ablecidas na Recomendación 2006/962/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uperación das desvantaxes socioeconómicas e redución do abandono escol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imulación e reforzo da creatividade e da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   Ampliación da participación nas oportunidades educativas a través da actividade depor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38086"/>
                </a:solidFill>
                <a:latin typeface="Trebuchet MS"/>
              </a:rPr>
              <a:t>COMENIUS:</a:t>
            </a:r>
            <a:r>
              <a:rPr b="0" lang="en-GB" sz="4000" spc="-1" strike="noStrike">
                <a:solidFill>
                  <a:srgbClr val="438086"/>
                </a:solidFill>
                <a:latin typeface="Trebuchet MS"/>
              </a:rPr>
              <a:t> Asociacións escola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34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entros escolares plurilingües e, en especial, os que desexen implantar o enfoque AI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entros escolares situados en zonas urbanas o rurais desfavorecidas economicamente e con alto porcentaxe de inmigrantes ou en perigo de exclus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xemplos: </a:t>
            </a:r>
            <a:r>
              <a:rPr b="0" lang="gl-ES" sz="1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2.arnes.si/~ossgpo2s/Comenius/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(Cinco centros 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              de primaria de cinco países. Aprendizaxe da lectura, ciencias                         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gl-ES" sz="1400" spc="-1" strike="noStrike">
                <a:solidFill>
                  <a:srgbClr val="000000"/>
                </a:solidFill>
                <a:latin typeface="Georgia"/>
              </a:rPr>
              <a:t>               e a esinanza ao aire libre. Elaborouse material pedagóxico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      </a:t>
            </a:r>
            <a:r>
              <a:rPr b="0" lang="gl-ES" sz="15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comeniustrzemeszno.republika.pl/</a:t>
            </a: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     </a:t>
            </a:r>
            <a:r>
              <a:rPr b="1" lang="gl-ES" sz="1500" spc="-1" strike="noStrike">
                <a:solidFill>
                  <a:srgbClr val="53548a"/>
                </a:solidFill>
                <a:latin typeface="Georgia"/>
              </a:rPr>
              <a:t>(C</a:t>
            </a:r>
            <a:r>
              <a:rPr b="1" lang="gl-ES" sz="1500" spc="-1" strike="noStrike">
                <a:solidFill>
                  <a:srgbClr val="000000"/>
                </a:solidFill>
                <a:latin typeface="Georgia"/>
              </a:rPr>
              <a:t>inco centros de secundaria de cinco países. Animación á lectura, xuntanzas con autores e elección das mellores reseñas. Elaborouse un folleto e un CD coa presentación)</a:t>
            </a: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3548a"/>
              </a:solidFill>
              <a:latin typeface="Georgia"/>
            </a:endParaRPr>
          </a:p>
          <a:p>
            <a:pPr lvl="3" marL="1600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548a"/>
              </a:solidFill>
              <a:latin typeface="Georgia"/>
            </a:endParaRPr>
          </a:p>
          <a:p>
            <a:pPr marL="365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LEONARDO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ció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adías en empresas (alumnado FPI(IVT)/ persoas en mercado laboral (PLM) e/ou recen tituladas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obilidade para profesionais de FP (VETPRO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sociación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(proxectos de baixo presuposto, menos de 25.000€, en 2009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oxectos multilaterais de transferencia de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Visitas preparatori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establecer asociació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Proxectos multilaterais de desenvolvemento de innovación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Redes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Medidas de acompañamento (</a:t>
            </a:r>
            <a:r>
              <a:rPr b="1" lang="gl-ES" sz="2400" spc="-1" strike="noStrike">
                <a:solidFill>
                  <a:srgbClr val="ff0000"/>
                </a:solidFill>
                <a:latin typeface="Arial Narrow"/>
              </a:rPr>
              <a:t>centralizadas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LEONARDO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Acció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71760" y="235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a adquisición de coñecementos, destrezas e cualificacións que faciliten o desenvolvemento persoal e profesion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omover a mellora da calidade e a innovación na formación profesion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forzar o atractivo da formación profesional e da mobilidade para o mundo empresari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Estancias  transnacionais en empres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LEONARDO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600" spc="-1" strike="noStrike">
                <a:solidFill>
                  <a:srgbClr val="438086"/>
                </a:solidFill>
                <a:latin typeface="Trebuchet MS"/>
              </a:rPr>
              <a:t>Asociació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tinatari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colas, centros de F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entes socia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Outro tipo de beneficiarios de F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Mínimo 3 paí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2 años mínim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66568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operación entre profesorado, formadores ou profesionais de FP entre sector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aproveitar resultados de proxectos previ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mo primeiro paso para proxectos de mobilidade ou de transferencia de inno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34720" y="1052640"/>
            <a:ext cx="7108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38086"/>
                </a:solidFill>
                <a:latin typeface="Trebuchet MS"/>
              </a:rPr>
              <a:t>PROGRAMA DE APRENDIZAXE PERMANENTE (PAP) 2007-2013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82616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285920" y="1643040"/>
          <a:ext cx="6286320" cy="1798560"/>
        </p:xfrm>
        <a:graphic>
          <a:graphicData uri="http://schemas.openxmlformats.org/drawingml/2006/table">
            <a:tbl>
              <a:tblPr/>
              <a:tblGrid>
                <a:gridCol w="1746360"/>
                <a:gridCol w="1676160"/>
                <a:gridCol w="1536840"/>
                <a:gridCol w="1326960"/>
              </a:tblGrid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Comen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d.esc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ras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studios superi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F.P de ciclo 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Leonardo da Vin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Formación Profesional Inicial e Contin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Grundtv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Educación de adul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18"/>
          <p:cNvSpPr/>
          <p:nvPr/>
        </p:nvSpPr>
        <p:spPr>
          <a:xfrm>
            <a:off x="3276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85920" y="3500280"/>
          <a:ext cx="6286320" cy="1737000"/>
        </p:xfrm>
        <a:graphic>
          <a:graphicData uri="http://schemas.openxmlformats.org/drawingml/2006/table">
            <a:tbl>
              <a:tblPr/>
              <a:tblGrid>
                <a:gridCol w="62863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PROGRAMA TRANSVE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(Desenvolvemento de políticas e innova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prendizaxe de idiomas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TIC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-</a:t>
                      </a:r>
                      <a:r>
                        <a:rPr b="1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ctividades de difusión e valorización </a:t>
                      </a:r>
                      <a:r>
                        <a:rPr b="0" lang="es-ES" sz="1800" spc="-1" strike="noStrike" u="sng">
                          <a:solidFill>
                            <a:srgbClr val="67afbd"/>
                          </a:solidFill>
                          <a:uFillTx/>
                          <a:latin typeface="Arial Narrow"/>
                          <a:hlinkClick r:id="rId1"/>
                        </a:rPr>
                        <a:t>http://www.oapee.es/oapee/inicio/pap.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85920" y="5286240"/>
          <a:ext cx="6262560" cy="1081080"/>
        </p:xfrm>
        <a:graphic>
          <a:graphicData uri="http://schemas.openxmlformats.org/drawingml/2006/table">
            <a:tbl>
              <a:tblPr/>
              <a:tblGrid>
                <a:gridCol w="62625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PROGRAMA JEAN MO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3 actividades clave: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cción Jean Monet</a:t>
                      </a: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Institucións europeas</a:t>
                      </a:r>
                      <a:r>
                        <a:rPr b="0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, </a:t>
                      </a:r>
                      <a:r>
                        <a:rPr b="1" lang="es-ES" sz="2000" spc="-1" strike="noStrike">
                          <a:solidFill>
                            <a:srgbClr val="438086"/>
                          </a:solidFill>
                          <a:latin typeface="Arial Narrow"/>
                        </a:rPr>
                        <a:t>Asociacións europ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2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Acció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Mobilidade de estudiantes adultos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en 2009)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xudantes Grundtvig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en 2009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xudas para a formación do persoal educativo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Visitas preparatorias para establecer Asociac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sociaciones de aprendizaje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(proxectos de baixo presuposto, menos de 25.000€, entre centros de adulto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Proxectos multilaterais (centralizad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Redes (centralizad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Medidas de acompañament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5493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56880" y="1642680"/>
            <a:ext cx="5905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: (artículo 29.1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Responder ao desafío educativo dunha poboación envellec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Prover aos adultos de camiños para mellorar o seu coñecemento e capacidad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.   Obxectivos operativos: (Articulo 29.2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Incrementar cualitativa e cuantitativamente a mobilidade de persoas adult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-Mellorar cualitativa e cuantitativamente a cooperación entre organizacións que participen na educación de adult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14360" y="1214280"/>
            <a:ext cx="525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udar ás persoas de sectores sociais vulnerables ou ambientes marxinais, en particular as persoas en idade avanzada ou que abandonaran o sistema de ensinanza sen cualificacións bás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acilitar o desenvolvemento de prácticas innovadoras na educación de persoas adultas e a súa transfer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o desenvolvemento de contidos, servizos, pedagoxías e prácticas de  aprendizaxe permanente innovadores baseados nas 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llorar os plans pedagóxicos e a xestión das organizacións de educación de persoas adult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2 Rectángulo"/>
          <p:cNvSpPr/>
          <p:nvPr/>
        </p:nvSpPr>
        <p:spPr>
          <a:xfrm>
            <a:off x="207180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 Educación de Adul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8072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086"/>
                </a:solidFill>
                <a:latin typeface="Arial Narrow"/>
              </a:rPr>
              <a:t>Destinatario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Georgia"/>
              </a:rPr>
              <a:t>-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Institucións de educación de persoas adultas en calquera das súas modalidad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Persoal educativo de dichas institució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Futuros profesores de educación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lumnado de institucións de educación de persoas adult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438086"/>
                </a:solidFill>
                <a:latin typeface="Trebuchet MS"/>
              </a:rPr>
              <a:t>GRUNDTVIG:</a:t>
            </a:r>
            <a:r>
              <a:rPr b="0" lang="gl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gl-ES" sz="3200" spc="-1" strike="noStrike">
                <a:solidFill>
                  <a:srgbClr val="438086"/>
                </a:solidFill>
                <a:latin typeface="Trebuchet MS"/>
              </a:rPr>
              <a:t>actividades de </a:t>
            </a:r>
            <a:r>
              <a:rPr b="1" lang="gl-ES" sz="3200" spc="-1" strike="noStrike">
                <a:solidFill>
                  <a:srgbClr val="438086"/>
                </a:solidFill>
                <a:latin typeface="Trebuchet MS"/>
              </a:rPr>
              <a:t>Mobilidade individual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4268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Bolsas de formación continu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sistencia a conferencias ou seminarios                      organizados por unha rede Grundtvi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sistencia a cursos do catálogo Comenius-Grundtvi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Participantes dunha asociación Grundtvig e que necesiten formación nunha das linguas da asociación, exceptuando os profesores especialistas nesa lingu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99800" y="1714320"/>
            <a:ext cx="52578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Asociació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rioridades europe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lquera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8 competenci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lave establecidas na Recomendación 2006/962/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uperación d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ventaxas socioeconóm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o á integración de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inmigran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llora da participación das persoas maiores que apren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stímulo e reforzo da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reativ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GRUNDTVIG-</a:t>
            </a:r>
            <a:r>
              <a:rPr b="0" lang="es-ES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educación de adulto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rioridades naciona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esenvolvemento de actividades encamiñadas a apoiar a reinserción de mozos e/as non cualificad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ontribuír a mellorar o acceso de persoas adultas ao mercado labor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forzar a participación de institucións de educación non formal e inform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Sello europeo da calidade: </a:t>
            </a:r>
            <a:r>
              <a:rPr b="0" lang="gl-ES" sz="16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iniciativas/sello-europeo/historico-premiados0/2007.htm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GRAMA TRANSVERSAL:</a:t>
            </a:r>
            <a:r>
              <a:rPr b="0" lang="es-ES" sz="3600" spc="-1" strike="noStrike">
                <a:solidFill>
                  <a:srgbClr val="438086"/>
                </a:solidFill>
                <a:latin typeface="Trebuchet MS"/>
              </a:rPr>
              <a:t>ACCIÓ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atro actividades clave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esenvolvemento de polític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58720" indent="-2091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Visitas de estudio (antigo Arión):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783720" indent="-1857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avorecer o intercambio de información entre responsables de educación e de formación profesional en temas de interese comú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783720" indent="-1857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oiar o desenvolvemento de políticas de cooperación e innovación a escala europe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prendizaxe de lingu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ifusión e explotación de resultad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	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38086"/>
                </a:solidFill>
                <a:latin typeface="Trebuchet MS"/>
              </a:rPr>
              <a:t>FINANCIACIÓ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sociacións (</a:t>
            </a:r>
            <a:r>
              <a:rPr b="0" lang="gl-ES" sz="2400" spc="-1" strike="noStrike" u="sng">
                <a:solidFill>
                  <a:srgbClr val="438086"/>
                </a:solidFill>
                <a:uFillTx/>
                <a:latin typeface="Arial Narrow"/>
              </a:rPr>
              <a:t>subvención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de</a:t>
            </a:r>
            <a:r>
              <a:rPr b="0" lang="gl-ES" sz="24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cordo a nº de mobilidad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OMENIUS y LEONARD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4 mobilidades) max. 8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8 mobilidades) max. 10.000 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diana (12 mobilidades) max. 12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Grande (24 mobilidades) max. 18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GRUNDTVIG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equena (4 mobilidades) max. 11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4" marL="138924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(8 mobilidades) max. 14.000€</a:t>
            </a:r>
            <a:endParaRPr b="0" lang="en-US" sz="2400" spc="-1" strike="noStrike">
              <a:solidFill>
                <a:srgbClr val="a04da3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ediana (a partir de 12) max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. 17.000€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38086"/>
                </a:solidFill>
                <a:latin typeface="Trebuchet MS"/>
              </a:rPr>
              <a:t>FINANCIACIÓN (II)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xudas para cubrir gastos de viaxe, aloxamento, manutención e matrícul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ietas máximas por país segundo convocatori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Xestión do proxecto de mobilidade (Leonardo): máx. 250 euros/beneficiari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reparación lingüística (máximos segundo programa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38086"/>
                </a:solidFill>
                <a:latin typeface="Arial Narrow"/>
              </a:rPr>
              <a:t>Países particip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Os 27 países da 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Islandia, Liechtenstein y Norueg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Turquía e Croac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n próximos ano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aíses candidatos: Macedon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Balcanes occidentales: Albania, Bosnia-Herzegovina, Montenegro, Serv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federación Suiz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ROCESO DE SELECCIÓ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195440" y="1773360"/>
            <a:ext cx="494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olicitu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Elixibilid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vali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elec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Notific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AVALIACIÓN (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428560" y="1785960"/>
            <a:ext cx="58849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Cada país avalía os proxectos que coordi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Dous avaliadores externos por proxect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N elabora a listaxe nacional que é aprobado polo Comité Nacional de Selec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labórase unha listaxe xeneral europea por orden de cal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próbanse todos os proxectos de calidade alta (+ de 75 pto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Rexéitanse os que no teñan calidade (- de 50 pto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AVALIACIÓN (2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980720" y="2357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Na banda intermedia aplícanse as prioridades nacionais e se aproban proxectos ata esgotar o presuposto dos países (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e 50 a 75 ptos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A AN emite os convenios financieros e fai efectiva a axuda</a:t>
            </a: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800" spc="-1" strike="noStrike">
                <a:solidFill>
                  <a:srgbClr val="438086"/>
                </a:solidFill>
                <a:latin typeface="Trebuchet MS"/>
              </a:rPr>
              <a:t>NOVIDADES (I)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Convocatoria única para todo o Progr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Unha sola Axencia para a súa xestión (OAPE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elección de candidaturas segundo criterios de calidade comúns en toda Europ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Sistema de xestión más eficaz e si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ormulario electrónico obrigatori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Financiación mediante subvencion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NVOCATORIA 200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71629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escolares multilaterais: 4º comun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8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4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bilaterais: 2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1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  3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Formación continua: 6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 6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xudantes Comenius : 3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   2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obados        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NVOCATORIA 200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14720" y="1928520"/>
            <a:ext cx="58845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collida de axudantes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6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   5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    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Asociacións Grundtvig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5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2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Formación Continua Adultos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7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 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 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38086"/>
                </a:solidFill>
                <a:latin typeface="Arial Narrow"/>
              </a:rPr>
              <a:t>Visitas de estudio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: 8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Solicitudes:      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Concedidas:    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ENLACES IMPORTAN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57200" y="1785960"/>
            <a:ext cx="530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Comisión Europea (Dirección Xeral de Educación e Cultur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       http://ec.europa.eu/education/index_en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Axencia Executiv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eacea.ec.europa.eu/index.ht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1" lang="es-ES" sz="2000" spc="-1" strike="noStrike">
                <a:solidFill>
                  <a:srgbClr val="438086"/>
                </a:solidFill>
                <a:latin typeface="Arial Narrow"/>
              </a:rPr>
              <a:t>Correo electrónico: </a:t>
            </a: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eacea-info@ec.europa.e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Arial Narrow"/>
              </a:rPr>
              <a:t>Axencias Naciona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Listaxe de todas as AN en cada país participa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38086"/>
                </a:solidFill>
                <a:latin typeface="Georgia"/>
              </a:rPr>
              <a:t>Enlaces relevan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Proceso de Bolonia 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c.europa.eu/education/policies/educ/bologna/bologna_en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CEDEFOP (Centro Europeo para el Desarrollo de la Formación Profesion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       http://www.cedefop.europa.eu</a:t>
            </a:r>
            <a:r>
              <a:rPr b="0" lang="es-ES" sz="2000" spc="-1" strike="noStrike" u="sng">
                <a:solidFill>
                  <a:srgbClr val="67afbd"/>
                </a:solidFill>
                <a:uFillTx/>
                <a:latin typeface="Arial Narrow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roceso de Copenhague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ec.europa.eu/education/copenhagen/index_en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-Twinning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etwinning.net/ww/it/pub/etwinning/index2006.ht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uropass </a:t>
            </a: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uropass.cedefop.europa.eu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Eurydice (Red de información sobre educación en Europ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      http://www.eurydice.o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PLOTEUS (Portal sobre oportunidades 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aprendizaje en todo el espacio europeo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es-ES" sz="2400" spc="-1" strike="noStrike">
                <a:solidFill>
                  <a:srgbClr val="438086"/>
                </a:solidFill>
                <a:latin typeface="Arial Narrow"/>
              </a:rPr>
              <a:t>http://europa.eu.int/ploteus/portal/home.js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OUTRAS CONVOCATOR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14360" y="1785960"/>
            <a:ext cx="5524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s axudas a alumnos  e profesores de centros docentes sostidos con fondos públicos da Comunidade Autónoma de Galicia que participen en Estadías e intercambios con centros educativos doutros países para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favorecer a aprendizaxe activa de lingua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próxima convocatoria 2010 decembro-xaneir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-Modalidade das axud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-Visitas Preparatori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Visitas de Estud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Intercambios de profesores (períodos non lectivos en Galici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4.-Proxectos de aprendizaxe de linguas (alumno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*Centros privados-concertados: asinar un convenio coa Consellería de educación e O.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Programa de acompañamento: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ETwin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OUTRAS CONVOCATORI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14680" y="18572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de axudas para alumnos e profesores de formación profesional de centros docentes sostidos con fondos públicos da Comunidade Autónoma de Galicia que participen en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Estadías en empresas de ámbito transnacional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última convocatoria: 10/08/09 DOG 19/08/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-Modalidade das axud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- Visitas preparatori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 Estadías de alumnos en empres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 Estadías de profesores en empresas: www.edu.xunta.es/f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*   Centros privados-concertados: asinar un convenio coa Consellería de educación e O.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                          </a:t>
            </a: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DOCUMENTACIÓ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Decisión nº 1720/2006/CE do Parlamento Europeo e do Consello pola que se establece o PAP (DOUE, 24-11-2006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europea (DOUE 15-10-2010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1"/>
              </a:rPr>
              <a:t>http://www.oapee.es/oapee/inicio/convocatoria/2010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onvocatoria Nacional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2"/>
              </a:rPr>
              <a:t>http://www.oapee.es/oapee/inicio/convocatoria/2009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Guía do candida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 u="sng">
                <a:solidFill>
                  <a:srgbClr val="67afbd"/>
                </a:solidFill>
                <a:uFillTx/>
                <a:latin typeface="Arial Narrow"/>
                <a:hlinkClick r:id="rId3"/>
              </a:rPr>
              <a:t>http://ec.europa.eu/education/programmes/llp/call08/guide_en.pdf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Formularios de candidatur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67afbd"/>
                </a:solidFill>
                <a:uFillTx/>
                <a:latin typeface="Arial Narrow"/>
                <a:hlinkClick r:id="rId4"/>
              </a:rPr>
              <a:t>http://www.oapee.es/oapee/inicio/servicios/gestion-linea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PORTFOLIO EUROPEO DAS LINGU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28840" y="20001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É un documento persoal promovido polo Consello de Europa, no que os que aprenden ou aprenderon unha lingua poden rexistrar as súas experiencias de aprendizaxe de linguas e culturas e reflexionar sobre el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DOSSIER: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Ilustra as capacidades e coñecementos  lingüístic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BIOGRAFÍA LINGÜÍSTICA: Se describen as experiencias lingüísticas do titular en cada unha das linguas e sirve de guía ao aprendiz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*PASAPORTE: Contén información sobre diplomas obtidos en cursos.Reflicte o que o titular sabe facer en distintas lingu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38086"/>
                </a:solidFill>
                <a:latin typeface="Trebuchet MS"/>
              </a:rPr>
              <a:t>BOLSAS DO CONSELLO DE EUROPA </a:t>
            </a:r>
            <a:br>
              <a:rPr sz="3200"/>
            </a:br>
            <a:r>
              <a:rPr b="1" lang="es-ES" sz="3200" spc="-1" strike="noStrike">
                <a:solidFill>
                  <a:srgbClr val="438086"/>
                </a:solidFill>
                <a:latin typeface="Trebuchet MS"/>
              </a:rPr>
              <a:t>PARA A FORMACIÓN CONTÍNUA DO PERSONAL EDUCATIVO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95280" y="20606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on becas convocadas polo Consello de Europa para asistir aos cursos previstos en cada país membro e que están recollidos nun Catálogo de publicación semestra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Quén pode participa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Ser profesor ou directivo en exercicio de niveis educativos non universitarios, especializado en algúns dos temas relacionados co curso que solicit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Estar en activo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Bó nivel de coñecemento de idioma (non se utiliza ningún tipo de traducción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	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  <a:ea typeface="Times New Roman"/>
              </a:rPr>
              <a:t>●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Cada solicitante poderá pedir un máximo de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 dous curso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semestralmente, sobre o ano natural. Non poderá concederse á mesma persoa mais dunha 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 bolsa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cada dous an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 Narrow"/>
              </a:rPr>
              <a:t>http://www.mec.es/programas-europeos/jsp/plantilla.jsp?id=consej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DIRECCIÓNS DE INTERE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71400" y="1571760"/>
            <a:ext cx="525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Programas europeo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www.edu.xunta.es/e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Axencia nacional (OAPE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http://www.mec.es/programas-europeos/jsp/plantillaAnchosoc.jsp?id=344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38086"/>
                </a:solidFill>
                <a:latin typeface="Arial Narrow"/>
              </a:rPr>
              <a:t>Búsqueda de socio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eun.org/portal/index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siu.no/en        http://www.britishcouncil.org/http://partbase.eupro.se/framees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iz.or.at</a:t>
            </a:r>
            <a:r>
              <a:rPr b="0" lang="es-ES" sz="1800" spc="-1" strike="noStrike">
                <a:solidFill>
                  <a:srgbClr val="438086"/>
                </a:solidFill>
                <a:latin typeface="Georgi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partbase.programkontoret.se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es-ES" sz="1800" spc="-1" strike="noStrike">
                <a:solidFill>
                  <a:srgbClr val="438086"/>
                </a:solidFill>
                <a:latin typeface="Arial Narrow"/>
              </a:rPr>
              <a:t>http://www.etwinning.net/es/pub/index.ht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rogramas europe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irección Xeral de Ordenación, Formación Profesional e Innovación Educati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nsellería de Educación e O.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Tlf: 981 54 65 4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armen San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msande@edu.xunta.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38086"/>
                </a:solidFill>
                <a:latin typeface="Arial Narrow"/>
              </a:rPr>
              <a:t>CALENDARIO PARA A PARTICIPACIÓ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5600" y="1857240"/>
            <a:ext cx="6697800" cy="468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Carta universitaria Erasmus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28 novembro 2009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Axudantías Comeniu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: 29 xan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Comenius Formación continua (tres prazos)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15 de xaneiro 2010, 30 abril 2010 e 15 setembro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38086"/>
                </a:solidFill>
                <a:latin typeface="Arial Narrow"/>
              </a:rPr>
              <a:t>-   </a:t>
            </a: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Leonardo mobilidade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5 de febr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Asociacións Comenius, Leonardo da Vinci e Grundtvig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19 de febrei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Mobilidade alumnado Comeniu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: 1 decembro 2009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Erasmus mobilidade</a:t>
            </a:r>
            <a:r>
              <a:rPr b="0" lang="es-ES" sz="22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12 de marz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Leonardo da Vinci: proxectos multilaterais de transferencia da innovación</a:t>
            </a:r>
            <a:r>
              <a:rPr b="0" lang="es-ES" sz="2200" spc="-1" strike="noStrike">
                <a:solidFill>
                  <a:srgbClr val="000099"/>
                </a:solidFill>
                <a:latin typeface="Arial Narrow"/>
              </a:rPr>
              <a:t>: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 26 de febre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38086"/>
                </a:solidFill>
                <a:latin typeface="Arial Narrow"/>
              </a:rPr>
              <a:t>Programa Transversal (dous prazos):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31 de marzo de 2010,  15 de outubro de 2010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</a:t>
            </a:r>
            <a:r>
              <a:rPr b="0" lang="gl-ES" sz="2000" spc="-1" strike="noStrike">
                <a:solidFill>
                  <a:srgbClr val="438086"/>
                </a:solidFill>
                <a:latin typeface="Georgia"/>
              </a:rPr>
              <a:t>.-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Actividades de mobilidade individual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descentralizad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1.- Axudas para a formación continua do persoal educativ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2.- Axudantes Comeni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3.- Acollida de axudantes Comeni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4.- Visitas preparatorias para establecer asociacións escola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5.- Mobilidades do alumnado (2010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  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1.6.- Asociacións escolares Comenius Regio (2009</a:t>
            </a:r>
            <a:r>
              <a:rPr b="0" lang="gl-ES" sz="18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2.-</a:t>
            </a:r>
            <a:r>
              <a:rPr b="1" lang="gl-ES" sz="2000" spc="-1" strike="noStrike">
                <a:solidFill>
                  <a:srgbClr val="438086"/>
                </a:solidFill>
                <a:latin typeface="Arial Narrow"/>
              </a:rPr>
              <a:t>Asociacións escolares Comenius</a:t>
            </a: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 (des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3.-Proxectos multilaterais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4.-Redes Comenius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438086"/>
                </a:solidFill>
                <a:latin typeface="Arial Narrow"/>
              </a:rPr>
              <a:t>5.-Medidas de Acompañamento </a:t>
            </a:r>
            <a:r>
              <a:rPr b="0" lang="gl-ES" sz="2000" spc="-1" strike="noStrike">
                <a:solidFill>
                  <a:srgbClr val="ff0000"/>
                </a:solidFill>
                <a:latin typeface="Arial Narrow"/>
              </a:rPr>
              <a:t>(centralizad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99760" y="1857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Obxectivos específicos: (artículo 17.1 da Decisión do program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a) Fomentar entre os mozos/as e o persoal educativo a comprensión da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diversidade de culturas e lingu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europeas e do valor desa diversid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     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b) Axudar aos mozos/as a adquirir 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aptitudes básicas 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para a vida e as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competencia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400" spc="-1" strike="noStrike">
                <a:solidFill>
                  <a:srgbClr val="438086"/>
                </a:solidFill>
                <a:latin typeface="Arial Narrow"/>
              </a:rPr>
              <a:t>básicas</a:t>
            </a:r>
            <a:r>
              <a:rPr b="0" lang="gl-ES" sz="2400" spc="-1" strike="noStrike">
                <a:solidFill>
                  <a:srgbClr val="438086"/>
                </a:solidFill>
                <a:latin typeface="Arial Narrow"/>
              </a:rPr>
              <a:t> necesarias para o seu desenvolvemento persoal, o seu futuro laboral e a cidadanía europea a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Obxectivos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operativos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: (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Articulo 17.2 da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</a:t>
            </a:r>
            <a:r>
              <a:rPr b="1" lang="gl-ES" sz="2200" spc="-1" strike="noStrike">
                <a:solidFill>
                  <a:srgbClr val="438086"/>
                </a:solidFill>
                <a:latin typeface="Arial Narrow"/>
              </a:rPr>
              <a:t>Decisión do programa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a)Mellorar a calidade e incrementar a mobilidade do alumnado e do persoal educa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b) Promover Asociacións escolares de calida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c) Potenciar a aprendizaxe de linguas estranxeiras entre o alumnado e o persoal educa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d) Apoiar o uso innovador das T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e) Apoiar as melloras nos enfoques pedagóxicos e na xestión escol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      </a:t>
            </a:r>
            <a:r>
              <a:rPr b="0" lang="gl-ES" sz="2200" spc="-1" strike="noStrike">
                <a:solidFill>
                  <a:srgbClr val="438086"/>
                </a:solidFill>
                <a:latin typeface="Arial Narrow"/>
              </a:rPr>
              <a:t>f) Facilitar a difusión e valorización dos resultados e produtos de proxectos e mobilidad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38086"/>
                </a:solidFill>
                <a:latin typeface="Trebuchet MS"/>
              </a:rPr>
              <a:t>COMENI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38086"/>
                </a:solidFill>
                <a:latin typeface="Arial Narrow"/>
              </a:rPr>
              <a:t>Participantes:</a:t>
            </a:r>
            <a:r>
              <a:rPr b="0" lang="es-ES" sz="2800" spc="-1" strike="noStrike">
                <a:solidFill>
                  <a:srgbClr val="438086"/>
                </a:solidFill>
                <a:latin typeface="Arial Narrow"/>
              </a:rPr>
              <a:t> centros educativos que impartan ensinanzas de Réxime Xeral e de Réxime Especial-excepto as EO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438086"/>
                </a:solidFill>
                <a:latin typeface="Arial Narrow"/>
              </a:rPr>
              <a:t>Destinatario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 Persoal educativo de centros docentes e persoal non docente que traballa con alumnos con n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Futuros profeso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    </a:t>
            </a:r>
            <a:r>
              <a:rPr b="0" lang="gl-ES" sz="2800" spc="-1" strike="noStrike">
                <a:solidFill>
                  <a:srgbClr val="438086"/>
                </a:solidFill>
                <a:latin typeface="Arial Narrow"/>
              </a:rPr>
              <a:t>-Alumnado de centros educativos, excepto os universitarios ou FP Ciclo Super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21:36Z</dcterms:created>
  <dc:creator>ascen</dc:creator>
  <dc:description/>
  <dc:language>en-US</dc:language>
  <cp:lastModifiedBy>EMILIO</cp:lastModifiedBy>
  <dcterms:modified xsi:type="dcterms:W3CDTF">2009-11-24T16:33:34Z</dcterms:modified>
  <cp:revision>112</cp:revision>
  <dc:subject/>
  <dc:title>Diapositiva 1</dc:title>
</cp:coreProperties>
</file>