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BA0-AFF9-466B-8FBE-34C3EE40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0C5-1617-48EA-8055-A7B5B619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F7D-4FB9-468C-9A4A-67146BAF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713-728B-4F8F-9411-E54AB04E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7D9-6750-4845-BDA6-52E6CEBE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C25-A494-4102-B8CD-C7B05D20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9CF-D706-4229-B67D-B1D5C8BD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460-CB3A-4FA3-817A-EA46A3A5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231-19B7-44A4-BC23-4E706C66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E59-3D2E-4086-ACB4-B87ADC3A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EE8-8B20-4CC8-92AD-ECE4374C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F6C-331F-4AC2-B830-49DB7F07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CC13-D69C-4F28-BA3B-84F45F4B05D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REFRÁ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071720"/>
            <a:ext cx="4043520" cy="5054400"/>
          </a:xfrm>
          <a:prstGeom prst="rect">
            <a:avLst/>
          </a:prstGeom>
          <a:noFill/>
          <a:ln w="6480">
            <a:solidFill>
              <a:srgbClr val="98480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6480">
            <a:solidFill>
              <a:srgbClr val="98480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DI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071720"/>
            <a:ext cx="4043520" cy="5054400"/>
          </a:xfrm>
          <a:prstGeom prst="rect">
            <a:avLst/>
          </a:prstGeom>
          <a:noFill/>
          <a:ln w="6480">
            <a:solidFill>
              <a:srgbClr val="98480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6480">
            <a:solidFill>
              <a:srgbClr val="98480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ADIVIÑ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071720"/>
            <a:ext cx="4043520" cy="5054400"/>
          </a:xfrm>
          <a:prstGeom prst="rect">
            <a:avLst/>
          </a:prstGeom>
          <a:noFill/>
          <a:ln w="6480">
            <a:solidFill>
              <a:srgbClr val="98480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6480">
            <a:solidFill>
              <a:srgbClr val="98480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POE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071720"/>
            <a:ext cx="4038480" cy="5214960"/>
          </a:xfrm>
          <a:prstGeom prst="rect">
            <a:avLst/>
          </a:prstGeom>
          <a:noFill/>
          <a:ln w="6480">
            <a:solidFill>
              <a:srgbClr val="98480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7172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Título po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8T00:34:40Z</dcterms:created>
  <dc:creator>Usuario</dc:creator>
  <dc:description/>
  <dc:language>en-US</dc:language>
  <cp:lastModifiedBy>Usuario</cp:lastModifiedBy>
  <dcterms:modified xsi:type="dcterms:W3CDTF">2015-08-28T01:00:37Z</dcterms:modified>
  <cp:revision>4</cp:revision>
  <dc:subject/>
  <dc:title>O MAGOSTO</dc:title>
</cp:coreProperties>
</file>