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717E-7E9F-49FB-B389-EE1A63A1C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931D-4D6F-4B2E-BF74-B308F14A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6302-DB50-46B4-BE1F-5A6BE9668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9FC4-E071-4F35-A6A8-DCF2C70D9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41B2-5E42-4D9B-BA05-01386F90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8F7A-1A38-401E-BAF0-44DBCC33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7A86-B66C-4BFC-92E8-C8DC1C10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F721-7B50-462F-AD6E-B7B23527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C03E-A001-4EC8-BD02-8697AA8B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AFC8-0B28-4604-A615-32423A65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C792-5F4A-4AA7-86A9-FB41F71E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997D-CAAD-47F2-9402-293A179D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D306-2144-4152-9F7B-C033055DAE1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984807"/>
                </a:solidFill>
                <a:latin typeface="Calibri"/>
              </a:rPr>
              <a:t>Nome da recei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95000" y="999720"/>
            <a:ext cx="4375080" cy="2714760"/>
          </a:xfrm>
          <a:prstGeom prst="rect">
            <a:avLst/>
          </a:prstGeom>
          <a:ln w="6480">
            <a:solidFill>
              <a:srgbClr val="984807"/>
            </a:solidFill>
            <a:miter/>
          </a:ln>
        </p:spPr>
      </p:pic>
      <p:sp>
        <p:nvSpPr>
          <p:cNvPr id="43" name=""/>
          <p:cNvSpPr txBox="1"/>
          <p:nvPr/>
        </p:nvSpPr>
        <p:spPr>
          <a:xfrm>
            <a:off x="5095440" y="999720"/>
            <a:ext cx="4375080" cy="5286600"/>
          </a:xfrm>
          <a:prstGeom prst="rect">
            <a:avLst/>
          </a:prstGeom>
          <a:noFill/>
          <a:ln w="3240">
            <a:solidFill>
              <a:srgbClr val="984807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984807"/>
                </a:solidFill>
                <a:latin typeface="Calibri"/>
              </a:rPr>
              <a:t>Elabor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6 CuadroTexto"/>
          <p:cNvSpPr/>
          <p:nvPr/>
        </p:nvSpPr>
        <p:spPr>
          <a:xfrm>
            <a:off x="595440" y="4000680"/>
            <a:ext cx="4286160" cy="2228400"/>
          </a:xfrm>
          <a:prstGeom prst="rect">
            <a:avLst/>
          </a:prstGeom>
          <a:noFill/>
          <a:ln w="32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984807"/>
                </a:solidFill>
                <a:latin typeface="Calibri"/>
              </a:rPr>
              <a:t>Ingredien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8T01:01:15Z</dcterms:created>
  <dc:creator>Usuario</dc:creator>
  <dc:description/>
  <dc:language>en-US</dc:language>
  <cp:lastModifiedBy>Usuario</cp:lastModifiedBy>
  <dcterms:modified xsi:type="dcterms:W3CDTF">2015-08-28T01:09:31Z</dcterms:modified>
  <cp:revision>2</cp:revision>
  <dc:subject/>
  <dc:title>Nome da receta</dc:title>
</cp:coreProperties>
</file>