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13B-5505-4937-8590-65B7A5DB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A69-4E29-4BEB-8B5F-25BE4E0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BBC-C299-4260-9A35-362FB31B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9DA-78E1-4C14-85D4-1BDF94EA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81F-C53C-4ACC-BED1-BAE92396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B99-F4C5-4F7E-8B2B-331F12B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973-1DAD-40E2-BDCE-9EA0EB16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204-A96C-4CCB-A410-10A642F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B02-20F0-4CB3-860C-173D37A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C4E-CA7F-4FFD-851F-5755A34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ADC-BB37-476E-BF75-12D46FF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C5C-C608-45F0-83B3-D203D7F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2860-A124-4380-A3EF-D5AEBBE09C9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Orix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C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O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Apare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MAGO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Curios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0:34:40Z</dcterms:created>
  <dc:creator>Usuario</dc:creator>
  <dc:description/>
  <dc:language>en-US</dc:language>
  <cp:lastModifiedBy>Usuario</cp:lastModifiedBy>
  <dcterms:modified xsi:type="dcterms:W3CDTF">2015-08-28T00:42:47Z</dcterms:modified>
  <cp:revision>1</cp:revision>
  <dc:subject/>
  <dc:title>O MAGOSTO</dc:title>
</cp:coreProperties>
</file>