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5FF-E324-4527-9F63-8BCC8DD3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827-56E3-44AF-8CAB-6E8A0F64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5E5-B4A3-4959-B4B9-6EC90E4A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C6A-9D03-4707-8736-2D576254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640-990C-4B6F-914A-004E1AFE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678-409B-4E8D-9E1E-4E794BF0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6E1-1082-4516-B019-52EBB47A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9E3-A142-40E8-8A7F-C9857631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2F8-B825-444E-8860-B01DFFF7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7BA-AF37-4586-8C03-36A93FFC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35E-C0EB-42E1-8DD9-5601D965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5F2-02B0-41D4-9E48-700EDB49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EE64-179B-456C-A742-5C37C982018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a biodiversid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8:58Z</dcterms:modified>
  <cp:revision>5</cp:revision>
  <dc:subject/>
  <dc:title>Impactos sobre a atmosfera</dc:title>
</cp:coreProperties>
</file>