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13-CDB9-4FF8-AE08-2629667B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072-32BE-448A-B644-E5812EA1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4E3-6ECA-4A9C-BDFA-45F8E37D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38E-D9D8-4327-8CA9-8044A12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81B-831C-48F7-BCE7-FC3B4469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C05-7D86-4611-AFFB-10589A0C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C0C-1950-4A85-A973-249B82B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7B4-6FFE-4869-8020-7522907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4B7-BA58-41B6-966E-61EC6E7A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BE7-5741-4654-BBA8-6A94E35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E12-BA64-40B8-ACB5-4FF954A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630-3B30-4EC2-B955-99FA8B0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D2EE-84CD-44CA-80A7-952D99A1C2C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s residuos sóli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09Z</dcterms:modified>
  <cp:revision>4</cp:revision>
  <dc:subject/>
  <dc:title>Impactos sobre a atmosfera</dc:title>
</cp:coreProperties>
</file>