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954-25D3-48DF-AD9A-59E8E4C3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A94-5549-4A3F-931B-DBDA3E3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F2F-5490-4598-805A-D1943ABF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93A-2399-4E85-9605-DAE51DE1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A23-5E66-42CC-94FD-F7ACE4DA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12A-FDDD-4A57-8B55-B6B5094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284-BEFB-4AB3-9310-C799AD1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003-2275-4539-8B81-378159C2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65D-36F2-4B4B-A30F-3DFFAD9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3E8-32D4-4F56-8F92-4D2036AA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A94-9172-4575-B764-7CFB223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B08-6F49-4678-8F30-164213A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3FA-0D43-477A-8C7B-173D4A4C4D6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o so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22Z</dcterms:modified>
  <cp:revision>3</cp:revision>
  <dc:subject/>
  <dc:title>Impactos sobre a atmosfera</dc:title>
</cp:coreProperties>
</file>