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C1A-CADF-4535-B9FA-DA3C4EA9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DA0-D495-48DD-A9F6-E99B286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498-535B-43B9-9E6F-47B15C64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C19-0D81-4F69-9AF9-8CC01863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78F-DD55-4ADD-A28F-D94BBADA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F4B-3203-46B9-BCDA-EA7CA6AB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495-C1A6-43F3-8246-FA59468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BDD-3C80-48FB-81E8-0AEA773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E87-234C-40D6-8938-0C96B1AD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565-AB1F-41A0-ACCE-E83DC5C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AFC-213F-4E58-991C-80968A65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E80-4325-4D4F-A25E-2CBBC35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E488-25EB-446D-97B4-4DF309E3013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hidrosf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32Z</dcterms:modified>
  <cp:revision>2</cp:revision>
  <dc:subject/>
  <dc:title>Impactos sobre a atmosfera</dc:title>
</cp:coreProperties>
</file>