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556-9B0F-40AF-97DB-7B27E51B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DE0-B8C2-4324-808A-5A326A28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C9B-FD80-4395-B488-2CBB9501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245-A1D1-42DB-8685-4501B77C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7BA-EA4C-492B-B400-920FC586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1A5-160A-4615-82F6-12BCB870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B64-6934-4431-9B10-3D4EA9BE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B90-5BF2-4B0E-8350-AD71E97D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EAF-E068-456A-9FAA-3DFDF135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54B-B561-4EE9-A24C-19D448A4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2A9-D907-4EA1-9312-9FAAA2A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46C-D198-4AB9-8DC5-3B417D9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FADD-05B3-41BC-8113-638266C7918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a atmosfe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53Z</dcterms:modified>
  <cp:revision>1</cp:revision>
  <dc:subject/>
  <dc:title>Impactos sobre a atmosfera</dc:title>
</cp:coreProperties>
</file>