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E17A-75CA-49CC-9635-AD2F4289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FF8-0BDF-432D-A788-D93A1733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36A-062E-4857-BD4B-0F8F203E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088-8025-45A8-B2FC-343AFA01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3BB-62AD-4067-A4CB-4347B991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7C8-C17C-49DE-B0E5-879EC296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8F5-B6BB-4792-9DE5-ED58698F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AA7-C9F0-4520-A026-C9A7A090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7CF-8D5D-4327-BEB4-490CC66B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A08-BA1C-459D-A38D-B1D564E5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21F-173F-40B4-9D00-672DB45D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AFD-C540-426E-BB91-A1E79696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53BA-C14F-446B-BAD9-572D091491D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7865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70c0"/>
                </a:solidFill>
                <a:latin typeface="Calibri"/>
              </a:rPr>
              <a:t>APRENDE A CUIDA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23800" y="2857320"/>
            <a:ext cx="4011840" cy="157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81280" y="2928960"/>
            <a:ext cx="4143240" cy="3643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29 CuadroTexto"/>
          <p:cNvSpPr/>
          <p:nvPr/>
        </p:nvSpPr>
        <p:spPr>
          <a:xfrm>
            <a:off x="5381640" y="857160"/>
            <a:ext cx="414324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NTROD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24 CuadroTexto"/>
          <p:cNvSpPr/>
          <p:nvPr/>
        </p:nvSpPr>
        <p:spPr>
          <a:xfrm>
            <a:off x="523800" y="71424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xerc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26 CuadroTexto"/>
          <p:cNvSpPr/>
          <p:nvPr/>
        </p:nvSpPr>
        <p:spPr>
          <a:xfrm>
            <a:off x="523800" y="454032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ix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915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70c0"/>
                </a:solidFill>
                <a:latin typeface="Calibri"/>
              </a:rPr>
              <a:t>APRENDE A CUIDA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3800" y="2857320"/>
            <a:ext cx="4011840" cy="157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81640" y="2857320"/>
            <a:ext cx="4000320" cy="157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4 CuadroTexto"/>
          <p:cNvSpPr/>
          <p:nvPr/>
        </p:nvSpPr>
        <p:spPr>
          <a:xfrm>
            <a:off x="523800" y="71424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6 CuadroTexto"/>
          <p:cNvSpPr/>
          <p:nvPr/>
        </p:nvSpPr>
        <p:spPr>
          <a:xfrm>
            <a:off x="523800" y="454032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sca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4 CuadroTexto"/>
          <p:cNvSpPr/>
          <p:nvPr/>
        </p:nvSpPr>
        <p:spPr>
          <a:xfrm>
            <a:off x="5381640" y="714240"/>
            <a:ext cx="40003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ro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6 CuadroTexto"/>
          <p:cNvSpPr/>
          <p:nvPr/>
        </p:nvSpPr>
        <p:spPr>
          <a:xfrm>
            <a:off x="5381640" y="4540320"/>
            <a:ext cx="40003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nferm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7-25T18:40:46Z</dcterms:modified>
  <cp:revision>9</cp:revision>
  <dc:subject/>
  <dc:title>Impactos sobre a atmosfera</dc:title>
</cp:coreProperties>
</file>