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1831-14E2-4A69-A008-D98F748E0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5CB7-CFD0-402D-B4BB-53C529801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FF37-6F69-45AE-9F49-14621FC3A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869C-590F-467D-9AE6-0BDEC7F91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73DC-7F30-461F-8B67-09BF9EE13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BF67-60A4-45F5-9CB2-5711944E9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382C-BE77-4A4F-B128-FABDF01B4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CA03-FE4B-4C7E-BE9E-A24F7A269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594F-6DAF-42C2-8248-C7253A9F0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A690-9D9D-49F4-B8A7-1AD55D055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A713-73BA-4A4B-AA26-957EA1ACA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8A5A-CACF-4E19-8440-C4963D0BB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C6C68-532A-4ADC-BBBA-2401A0C419CD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952880" y="0"/>
            <a:ext cx="478656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3200" spc="-1" strike="noStrike">
                <a:solidFill>
                  <a:srgbClr val="0070c0"/>
                </a:solidFill>
                <a:latin typeface="Calibri"/>
              </a:rPr>
              <a:t>VIRUS DO ÉBOL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523800" y="500040"/>
            <a:ext cx="4011840" cy="192888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5381280" y="2928960"/>
            <a:ext cx="4143240" cy="36432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26 CuadroTexto"/>
          <p:cNvSpPr/>
          <p:nvPr/>
        </p:nvSpPr>
        <p:spPr>
          <a:xfrm>
            <a:off x="523800" y="2602080"/>
            <a:ext cx="4000680" cy="393444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edidas para evitar ris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29 CuadroTexto"/>
          <p:cNvSpPr/>
          <p:nvPr/>
        </p:nvSpPr>
        <p:spPr>
          <a:xfrm>
            <a:off x="5310360" y="857160"/>
            <a:ext cx="4214520" cy="173988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INTRODU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89154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3200" spc="-1" strike="noStrike">
                <a:solidFill>
                  <a:srgbClr val="0070c0"/>
                </a:solidFill>
                <a:latin typeface="Calibri"/>
              </a:rPr>
              <a:t>VIRUS DO ÉBOL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523800" y="2857320"/>
            <a:ext cx="4011840" cy="15714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381640" y="2857320"/>
            <a:ext cx="4000320" cy="15714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24 CuadroTexto"/>
          <p:cNvSpPr/>
          <p:nvPr/>
        </p:nvSpPr>
        <p:spPr>
          <a:xfrm>
            <a:off x="523800" y="714240"/>
            <a:ext cx="4000680" cy="20142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Que é o ébo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26 CuadroTexto"/>
          <p:cNvSpPr/>
          <p:nvPr/>
        </p:nvSpPr>
        <p:spPr>
          <a:xfrm>
            <a:off x="523800" y="4540320"/>
            <a:ext cx="4000680" cy="20142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ínto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24 CuadroTexto"/>
          <p:cNvSpPr/>
          <p:nvPr/>
        </p:nvSpPr>
        <p:spPr>
          <a:xfrm>
            <a:off x="5381640" y="714240"/>
            <a:ext cx="4000320" cy="20142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Diagnóst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26 CuadroTexto"/>
          <p:cNvSpPr/>
          <p:nvPr/>
        </p:nvSpPr>
        <p:spPr>
          <a:xfrm>
            <a:off x="5381640" y="4540320"/>
            <a:ext cx="4000320" cy="20142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Transmisión e contax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10T23:57:57Z</dcterms:created>
  <dc:creator>Usuario</dc:creator>
  <dc:description/>
  <dc:language>en-US</dc:language>
  <cp:lastModifiedBy>Usuario</cp:lastModifiedBy>
  <dcterms:modified xsi:type="dcterms:W3CDTF">2015-07-25T18:41:55Z</dcterms:modified>
  <cp:revision>9</cp:revision>
  <dc:subject/>
  <dc:title>Impactos sobre a atmosfera</dc:title>
</cp:coreProperties>
</file>