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4C0B6-0CE6-48AE-8518-2EC1F9F6C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F6D28-EB45-431C-AF58-816289BB0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9D0B1-D977-4C92-89DB-733BC8A9A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3CDF4-5D3B-4BF1-B8E6-6511B2394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B11D3-96BC-4F39-BA04-D1DCB68BE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9C983-4BE8-4E4B-8428-B2DBD5663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83015-FA1B-41B5-9761-EB3FF2996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7FFC2-BEF4-4CDC-8E8C-9DC9BC74B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84B7C-0B82-4952-A2B6-7B82E6050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A95C-478A-4559-A985-EA51ED582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091B-F87E-4544-B6AE-45F0E3965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868CA-D7B7-4E13-AAFE-45E60905C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E7CA-D478-4BA5-8D20-9CD30512FE46}"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56760" y="237960"/>
            <a:ext cx="6172200" cy="84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Broadway"/>
              </a:rPr>
              <a:t>TÍTULO DA NOVA</a:t>
            </a:r>
            <a:endParaRPr b="0" lang="en-US" sz="4400" spc="-1" strike="noStrike">
              <a:solidFill>
                <a:srgbClr val="000000"/>
              </a:solidFill>
              <a:latin typeface="Calibri"/>
            </a:endParaRPr>
          </a:p>
        </p:txBody>
      </p:sp>
      <p:sp>
        <p:nvSpPr>
          <p:cNvPr id="42" name=""/>
          <p:cNvSpPr txBox="1"/>
          <p:nvPr/>
        </p:nvSpPr>
        <p:spPr>
          <a:xfrm>
            <a:off x="342720" y="5810400"/>
            <a:ext cx="6172200" cy="3286080"/>
          </a:xfrm>
          <a:prstGeom prst="rect">
            <a:avLst/>
          </a:prstGeom>
          <a:noFill/>
          <a:ln w="9360">
            <a:solidFill>
              <a:srgbClr val="4f81b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1 Título"/>
          <p:cNvSpPr/>
          <p:nvPr/>
        </p:nvSpPr>
        <p:spPr>
          <a:xfrm>
            <a:off x="285840" y="1095480"/>
            <a:ext cx="61722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Calibri"/>
              </a:rPr>
              <a:t>Subtítulo</a:t>
            </a:r>
            <a:endParaRPr b="0" lang="en-US" sz="2800" spc="-1" strike="noStrike">
              <a:solidFill>
                <a:srgbClr val="000000"/>
              </a:solidFill>
              <a:latin typeface="Arial"/>
            </a:endParaRPr>
          </a:p>
        </p:txBody>
      </p:sp>
      <p:pic>
        <p:nvPicPr>
          <p:cNvPr id="44" name="1 Título" descr=""/>
          <p:cNvPicPr/>
          <p:nvPr/>
        </p:nvPicPr>
        <p:blipFill>
          <a:blip r:embed="rId1"/>
          <a:stretch/>
        </p:blipFill>
        <p:spPr>
          <a:xfrm>
            <a:off x="353880" y="2011320"/>
            <a:ext cx="6175440" cy="3730680"/>
          </a:xfrm>
          <a:prstGeom prst="rect">
            <a:avLst/>
          </a:prstGeom>
          <a:ln w="0">
            <a:noFill/>
          </a:ln>
        </p:spPr>
      </p:pic>
      <p:sp>
        <p:nvSpPr>
          <p:cNvPr id="45" name="1 Título"/>
          <p:cNvSpPr/>
          <p:nvPr/>
        </p:nvSpPr>
        <p:spPr>
          <a:xfrm>
            <a:off x="357120" y="9096480"/>
            <a:ext cx="61722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Calibri"/>
              </a:rPr>
              <a:t>Pé de fo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56760" y="237960"/>
            <a:ext cx="6172200" cy="84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Broadway"/>
              </a:rPr>
              <a:t>TÍTULO DA NOVA</a:t>
            </a:r>
            <a:endParaRPr b="0" lang="en-US" sz="4400" spc="-1" strike="noStrike">
              <a:solidFill>
                <a:srgbClr val="000000"/>
              </a:solidFill>
              <a:latin typeface="Calibri"/>
            </a:endParaRPr>
          </a:p>
        </p:txBody>
      </p:sp>
      <p:sp>
        <p:nvSpPr>
          <p:cNvPr id="47" name=""/>
          <p:cNvSpPr txBox="1"/>
          <p:nvPr/>
        </p:nvSpPr>
        <p:spPr>
          <a:xfrm>
            <a:off x="3643200" y="2095560"/>
            <a:ext cx="2928960" cy="3571920"/>
          </a:xfrm>
          <a:prstGeom prst="rect">
            <a:avLst/>
          </a:prstGeom>
          <a:noFill/>
          <a:ln w="9360">
            <a:solidFill>
              <a:srgbClr val="4f81b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1 Título"/>
          <p:cNvSpPr/>
          <p:nvPr/>
        </p:nvSpPr>
        <p:spPr>
          <a:xfrm>
            <a:off x="285840" y="1095480"/>
            <a:ext cx="61722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Calibri"/>
              </a:rPr>
              <a:t>Subtítulo</a:t>
            </a:r>
            <a:endParaRPr b="0" lang="en-US" sz="2800" spc="-1" strike="noStrike">
              <a:solidFill>
                <a:srgbClr val="000000"/>
              </a:solidFill>
              <a:latin typeface="Arial"/>
            </a:endParaRPr>
          </a:p>
        </p:txBody>
      </p:sp>
      <p:sp>
        <p:nvSpPr>
          <p:cNvPr id="49" name="1 Título"/>
          <p:cNvSpPr/>
          <p:nvPr/>
        </p:nvSpPr>
        <p:spPr>
          <a:xfrm>
            <a:off x="357120" y="2023920"/>
            <a:ext cx="3214800" cy="7072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CORPO DA NOTIC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rem ipsum dolor sit amet, consectetur adipiscing elit. Donec at vulputate diam, et volutpat odio. Ut placerat vehicula est, vitae feugiat neque molestie vulputate. Praesent sed posuere orci, quis convallis purus. Pellentesque habitant morbi tristique senectus et netus et malesuada fames ac turpis egestas. Suspendisse turpis augue, tempor ac turpis et, pharetra elementum est. Sed sem velit, imperdiet a placerat placerat, scelerisque vel dui. Suspendisse arcu orci, eleifend id varius quis, auctor non feli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rem ipsum dolor sit amet, consectetur adipiscing elit. Donec at vulputate diam, et volutpat odio. Ut placerat vehicula est, vitae feugiat neque molestie vulputate. Praesent sed posuere orci, quis convallis purus. Pellentesque habitant morbi tristique senectus et netus et malesuada fames ac turpis egestas. Suspendisse turpis augue, tempor ac turpis et, pharetra elementum est. Sed sem velit, imperdiet a placerat placerat, scelerisque vel dui. Suspendisse arcu orci, eleifend id varius quis, auctor non feli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1 Título"/>
          <p:cNvSpPr/>
          <p:nvPr/>
        </p:nvSpPr>
        <p:spPr>
          <a:xfrm>
            <a:off x="3643200" y="5238720"/>
            <a:ext cx="2928960" cy="4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Calibri"/>
              </a:rPr>
              <a:t>Pé de foto</a:t>
            </a:r>
            <a:endParaRPr b="0" lang="en-US" sz="1800" spc="-1" strike="noStrike">
              <a:solidFill>
                <a:srgbClr val="000000"/>
              </a:solidFill>
              <a:latin typeface="Arial"/>
            </a:endParaRPr>
          </a:p>
        </p:txBody>
      </p:sp>
      <p:sp>
        <p:nvSpPr>
          <p:cNvPr id="51" name="6 Rectángulo"/>
          <p:cNvSpPr/>
          <p:nvPr/>
        </p:nvSpPr>
        <p:spPr>
          <a:xfrm>
            <a:off x="3643200" y="5987880"/>
            <a:ext cx="292896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OPINION PERSOA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rem ipsum dolor sit amet, consectetur adipiscing elit. Donec at vulputate diam, et volutpat odio. Ut placerat vehicula est, vitae feugiat neque molestie vulputate. Praesent sed posuere orci, quis convallis purus. Pellentesque habitant morbi tristique senectus et netus et malesuada fames ac turpis egestas. Suspendisse turpis augue, tempor ac turpis et, pharetra elementum e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56760" y="237960"/>
            <a:ext cx="6172200" cy="84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Broadway"/>
              </a:rPr>
              <a:t>TÍTULO DA NOVA</a:t>
            </a:r>
            <a:endParaRPr b="0" lang="en-US" sz="4400" spc="-1" strike="noStrike">
              <a:solidFill>
                <a:srgbClr val="000000"/>
              </a:solidFill>
              <a:latin typeface="Calibri"/>
            </a:endParaRPr>
          </a:p>
        </p:txBody>
      </p:sp>
      <p:sp>
        <p:nvSpPr>
          <p:cNvPr id="53" name=""/>
          <p:cNvSpPr txBox="1"/>
          <p:nvPr/>
        </p:nvSpPr>
        <p:spPr>
          <a:xfrm>
            <a:off x="3643200" y="2095200"/>
            <a:ext cx="2928960" cy="6643800"/>
          </a:xfrm>
          <a:prstGeom prst="rect">
            <a:avLst/>
          </a:prstGeom>
          <a:noFill/>
          <a:ln w="9360">
            <a:solidFill>
              <a:srgbClr val="4f81b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1 Título"/>
          <p:cNvSpPr/>
          <p:nvPr/>
        </p:nvSpPr>
        <p:spPr>
          <a:xfrm>
            <a:off x="285840" y="1095480"/>
            <a:ext cx="61722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Calibri"/>
              </a:rPr>
              <a:t>Subtítulo</a:t>
            </a:r>
            <a:endParaRPr b="0" lang="en-US" sz="2800" spc="-1" strike="noStrike">
              <a:solidFill>
                <a:srgbClr val="000000"/>
              </a:solidFill>
              <a:latin typeface="Arial"/>
            </a:endParaRPr>
          </a:p>
        </p:txBody>
      </p:sp>
      <p:sp>
        <p:nvSpPr>
          <p:cNvPr id="55" name="1 Título"/>
          <p:cNvSpPr/>
          <p:nvPr/>
        </p:nvSpPr>
        <p:spPr>
          <a:xfrm>
            <a:off x="357120" y="2023920"/>
            <a:ext cx="3214800" cy="7072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CORPO DA NOTIC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rem ipsum dolor sit amet, consectetur adipiscing elit. Donec at vulputate diam, et volutpat odio. Ut placerat vehicula est, vitae feugiat neque molestie vulputate. Praesent sed posuere orci, quis convallis purus. Pellentesque habitant morbi tristique senectus et netus et malesuada fames ac turpis egestas. Suspendisse turpis augue, tempor ac turpis et, pharetra elementum est. Sed sem velit, imperdiet a placerat placerat, scelerisque vel dui. Suspendisse arcu orci, eleifend id varius quis, auctor non feli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rem ipsum dolor sit amet, consectetur adipiscing elit. Donec at vulputate diam, et volutpat odio. Ut placerat vehicula est, vitae feugiat neque molestie vulputate. Praesent sed posuere orci, quis convallis purus. Pellentesque habitant morbi tristique senectus et netus et malesuada fames ac turpis egestas. Suspendisse turpis augue, tempor ac turpis et, pharetra elementum est. Sed sem velit, imperdiet a placerat placerat, scelerisque vel dui. Suspendisse arcu orci, eleifend id varius quis, auctor non feli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1 Título"/>
          <p:cNvSpPr/>
          <p:nvPr/>
        </p:nvSpPr>
        <p:spPr>
          <a:xfrm>
            <a:off x="3643200" y="8739360"/>
            <a:ext cx="2928960" cy="42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Calibri"/>
              </a:rPr>
              <a:t>Pé de fo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56760" y="4381200"/>
            <a:ext cx="6172200" cy="84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Broadway"/>
              </a:rPr>
              <a:t>TÍTULO DA NOVA</a:t>
            </a:r>
            <a:endParaRPr b="0" lang="en-US" sz="4400" spc="-1" strike="noStrike">
              <a:solidFill>
                <a:srgbClr val="000000"/>
              </a:solidFill>
              <a:latin typeface="Calibri"/>
            </a:endParaRPr>
          </a:p>
        </p:txBody>
      </p:sp>
      <p:sp>
        <p:nvSpPr>
          <p:cNvPr id="58" name=""/>
          <p:cNvSpPr txBox="1"/>
          <p:nvPr/>
        </p:nvSpPr>
        <p:spPr>
          <a:xfrm>
            <a:off x="285840" y="237600"/>
            <a:ext cx="6286320" cy="4000680"/>
          </a:xfrm>
          <a:prstGeom prst="rect">
            <a:avLst/>
          </a:prstGeom>
          <a:noFill/>
          <a:ln w="9360">
            <a:solidFill>
              <a:srgbClr val="4f81b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1 Título"/>
          <p:cNvSpPr/>
          <p:nvPr/>
        </p:nvSpPr>
        <p:spPr>
          <a:xfrm>
            <a:off x="428760" y="5095800"/>
            <a:ext cx="617220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Calibri"/>
              </a:rPr>
              <a:t>Subtítulo</a:t>
            </a:r>
            <a:endParaRPr b="0" lang="en-US" sz="2800" spc="-1" strike="noStrike">
              <a:solidFill>
                <a:srgbClr val="000000"/>
              </a:solidFill>
              <a:latin typeface="Arial"/>
            </a:endParaRPr>
          </a:p>
        </p:txBody>
      </p:sp>
      <p:pic>
        <p:nvPicPr>
          <p:cNvPr id="60" name="1 Título" descr=""/>
          <p:cNvPicPr/>
          <p:nvPr/>
        </p:nvPicPr>
        <p:blipFill>
          <a:blip r:embed="rId1"/>
          <a:stretch/>
        </p:blipFill>
        <p:spPr>
          <a:xfrm>
            <a:off x="281160" y="5657760"/>
            <a:ext cx="6314760" cy="3657600"/>
          </a:xfrm>
          <a:prstGeom prst="rect">
            <a:avLst/>
          </a:prstGeom>
          <a:ln w="0">
            <a:noFill/>
          </a:ln>
        </p:spPr>
      </p:pic>
      <p:sp>
        <p:nvSpPr>
          <p:cNvPr id="61" name="1 Título"/>
          <p:cNvSpPr/>
          <p:nvPr/>
        </p:nvSpPr>
        <p:spPr>
          <a:xfrm>
            <a:off x="357120" y="3952800"/>
            <a:ext cx="6172200" cy="285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Calibri"/>
              </a:rPr>
              <a:t>Pé de fo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85480" y="380520"/>
            <a:ext cx="617220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Broadway"/>
              </a:rPr>
              <a:t>LECER</a:t>
            </a:r>
            <a:endParaRPr b="0" lang="en-US" sz="4400" spc="-1" strike="noStrike">
              <a:solidFill>
                <a:srgbClr val="000000"/>
              </a:solidFill>
              <a:latin typeface="Calibri"/>
            </a:endParaRPr>
          </a:p>
        </p:txBody>
      </p:sp>
      <p:pic>
        <p:nvPicPr>
          <p:cNvPr id="63" name="" descr=""/>
          <p:cNvPicPr/>
          <p:nvPr/>
        </p:nvPicPr>
        <p:blipFill>
          <a:blip r:embed="rId1"/>
          <a:stretch/>
        </p:blipFill>
        <p:spPr>
          <a:xfrm>
            <a:off x="428400" y="2311200"/>
            <a:ext cx="3028680" cy="2927160"/>
          </a:xfrm>
          <a:prstGeom prst="rect">
            <a:avLst/>
          </a:prstGeom>
          <a:ln w="9360">
            <a:solidFill>
              <a:srgbClr val="4f81bd"/>
            </a:solidFill>
            <a:miter/>
          </a:ln>
        </p:spPr>
      </p:pic>
      <p:pic>
        <p:nvPicPr>
          <p:cNvPr id="64" name="" descr=""/>
          <p:cNvPicPr/>
          <p:nvPr/>
        </p:nvPicPr>
        <p:blipFill>
          <a:blip r:embed="rId2"/>
          <a:stretch/>
        </p:blipFill>
        <p:spPr>
          <a:xfrm>
            <a:off x="428760" y="5667120"/>
            <a:ext cx="3071520" cy="3214440"/>
          </a:xfrm>
          <a:prstGeom prst="rect">
            <a:avLst/>
          </a:prstGeom>
          <a:ln w="9360">
            <a:solidFill>
              <a:srgbClr val="4f81bd"/>
            </a:solidFill>
            <a:miter/>
          </a:ln>
        </p:spPr>
      </p:pic>
      <p:sp>
        <p:nvSpPr>
          <p:cNvPr id="65" name="1 Título"/>
          <p:cNvSpPr/>
          <p:nvPr/>
        </p:nvSpPr>
        <p:spPr>
          <a:xfrm>
            <a:off x="285840" y="1166760"/>
            <a:ext cx="61722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Calibri"/>
              </a:rPr>
              <a:t>Subtítulo</a:t>
            </a:r>
            <a:endParaRPr b="0" lang="en-US" sz="2800" spc="-1" strike="noStrike">
              <a:solidFill>
                <a:srgbClr val="000000"/>
              </a:solidFill>
              <a:latin typeface="Arial"/>
            </a:endParaRPr>
          </a:p>
        </p:txBody>
      </p:sp>
      <p:sp>
        <p:nvSpPr>
          <p:cNvPr id="66" name="1 Título"/>
          <p:cNvSpPr/>
          <p:nvPr/>
        </p:nvSpPr>
        <p:spPr>
          <a:xfrm>
            <a:off x="428760" y="8596440"/>
            <a:ext cx="300024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Calibri"/>
              </a:rPr>
              <a:t>Solución:</a:t>
            </a:r>
            <a:endParaRPr b="0" lang="en-US" sz="1800" spc="-1" strike="noStrike">
              <a:solidFill>
                <a:srgbClr val="000000"/>
              </a:solidFill>
              <a:latin typeface="Arial"/>
            </a:endParaRPr>
          </a:p>
        </p:txBody>
      </p:sp>
      <p:sp>
        <p:nvSpPr>
          <p:cNvPr id="67" name="1 Título"/>
          <p:cNvSpPr/>
          <p:nvPr/>
        </p:nvSpPr>
        <p:spPr>
          <a:xfrm>
            <a:off x="357120" y="4952880"/>
            <a:ext cx="3000600" cy="285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Calibri"/>
              </a:rPr>
              <a:t>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0T23:57:57Z</dcterms:created>
  <dc:creator>Usuario</dc:creator>
  <dc:description/>
  <dc:language>en-US</dc:language>
  <cp:lastModifiedBy>Usuario</cp:lastModifiedBy>
  <dcterms:modified xsi:type="dcterms:W3CDTF">2015-07-05T09:54:07Z</dcterms:modified>
  <cp:revision>21</cp:revision>
  <dc:subject/>
  <dc:title>Impactos sobre a atmosfera</dc:title>
</cp:coreProperties>
</file>