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1DD-1188-4E56-8BB2-A12F0ADD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12D-DFC7-4EB4-8736-A12E7B12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96-32FC-4C09-9CEF-05E875D3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130-07C2-4C00-8DA9-945D1F61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3CD-8DF5-405A-A4C2-79E8E0B7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5BC-84F3-406E-A1BC-AE04E23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6F4-0122-4329-A8E5-367C4EC9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4A9-C77C-4670-BCC4-45F719B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C36-8FB1-443C-BF94-7D549BE8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230-CC8C-478D-9050-5109A26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AF9-A6C5-41AF-9C3D-BD52885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EC3-9CBA-4338-B40A-EFDB683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5B9-3006-44C9-8CF5-CEFCD764EE5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8T17:58:05Z</dcterms:created>
  <dc:creator>Usuario</dc:creator>
  <dc:description/>
  <dc:language>en-US</dc:language>
  <cp:lastModifiedBy>Usuario</cp:lastModifiedBy>
  <dcterms:modified xsi:type="dcterms:W3CDTF">2015-07-18T18:08:41Z</dcterms:modified>
  <cp:revision>2</cp:revision>
  <dc:subject/>
  <dc:title>CONSUMO RESPONSABLE</dc:title>
</cp:coreProperties>
</file>