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B89-7B3D-4E34-A20A-0ACABD50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D5D-5F73-4DE4-86B7-839E8D73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E90-27DA-4865-A807-A699B419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5C7-6B30-4338-8682-EB2745E5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E8E4-8DC6-4AB5-908A-7F2E3F85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813-4F60-4EEF-860C-08C87DC6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2A8-F9B3-484E-9E21-38853A14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F17-E151-479C-A4DA-12858E58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BED-9A32-4BA0-86AE-BB37CCEF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E4D-29FC-4395-9E5B-0547E993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F6F-8DDC-45D8-A04C-54FA8915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40B-19CD-4DE5-AF89-AE8D26B4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F7B2-796A-4321-B551-77918931E3C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7865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70c0"/>
                </a:solidFill>
                <a:latin typeface="Calibri"/>
              </a:rPr>
              <a:t>CONSUMO RESPONS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52360" y="714240"/>
            <a:ext cx="1582920" cy="5857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81280" y="2928960"/>
            <a:ext cx="4143240" cy="3643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24 CuadroTexto"/>
          <p:cNvSpPr/>
          <p:nvPr/>
        </p:nvSpPr>
        <p:spPr>
          <a:xfrm>
            <a:off x="523800" y="714240"/>
            <a:ext cx="214308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25 CuadroTexto"/>
          <p:cNvSpPr/>
          <p:nvPr/>
        </p:nvSpPr>
        <p:spPr>
          <a:xfrm>
            <a:off x="523800" y="2714760"/>
            <a:ext cx="214308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26 CuadroTexto"/>
          <p:cNvSpPr/>
          <p:nvPr/>
        </p:nvSpPr>
        <p:spPr>
          <a:xfrm>
            <a:off x="523800" y="4786200"/>
            <a:ext cx="214308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9 CuadroTexto"/>
          <p:cNvSpPr/>
          <p:nvPr/>
        </p:nvSpPr>
        <p:spPr>
          <a:xfrm>
            <a:off x="5310360" y="857160"/>
            <a:ext cx="421452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915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70c0"/>
                </a:solidFill>
                <a:latin typeface="Calibri"/>
              </a:rPr>
              <a:t>CONSUMO RESPONS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952360" y="714240"/>
            <a:ext cx="1582920" cy="5857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881840" y="714240"/>
            <a:ext cx="1643040" cy="5857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4 CuadroTexto"/>
          <p:cNvSpPr/>
          <p:nvPr/>
        </p:nvSpPr>
        <p:spPr>
          <a:xfrm>
            <a:off x="523800" y="714240"/>
            <a:ext cx="214308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5 CuadroTexto"/>
          <p:cNvSpPr/>
          <p:nvPr/>
        </p:nvSpPr>
        <p:spPr>
          <a:xfrm>
            <a:off x="523800" y="2714760"/>
            <a:ext cx="214308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6 CuadroTexto"/>
          <p:cNvSpPr/>
          <p:nvPr/>
        </p:nvSpPr>
        <p:spPr>
          <a:xfrm>
            <a:off x="523800" y="4786200"/>
            <a:ext cx="214308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7 CuadroTexto"/>
          <p:cNvSpPr/>
          <p:nvPr/>
        </p:nvSpPr>
        <p:spPr>
          <a:xfrm>
            <a:off x="5452920" y="714240"/>
            <a:ext cx="214344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8 CuadroTexto"/>
          <p:cNvSpPr/>
          <p:nvPr/>
        </p:nvSpPr>
        <p:spPr>
          <a:xfrm>
            <a:off x="5452920" y="2714760"/>
            <a:ext cx="214344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9 CuadroTexto"/>
          <p:cNvSpPr/>
          <p:nvPr/>
        </p:nvSpPr>
        <p:spPr>
          <a:xfrm>
            <a:off x="5452920" y="4786200"/>
            <a:ext cx="214344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7-18T18:12:44Z</dcterms:modified>
  <cp:revision>6</cp:revision>
  <dc:subject/>
  <dc:title>Impactos sobre a atmosfera</dc:title>
</cp:coreProperties>
</file>