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FE8-8211-4AA5-8636-93CC216D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2D4-7934-467A-85AB-49768CB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EB7-D0F0-4277-8863-C19C9761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811-A85E-4D43-B00B-9B3A7DC8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9A5-6505-4E20-9294-497F5DAE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FEA-0D6C-4EB5-B58D-0179C21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614-1FF3-4FF1-A453-F993EB4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A1D-F81E-4AC5-A409-EB7E23E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95A-B2EC-4D51-8B0D-72A706D9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53C-B269-4C4D-82DD-36074AD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BEC-D78C-4EA0-8CF8-8887281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36D-6EC0-4C7D-B433-DCC09D9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BA3-7DD6-4C53-AA51-68F1291DEB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04:04Z</dcterms:modified>
  <cp:revision>1</cp:revision>
  <dc:subject/>
  <dc:title>CONSUMO RESPONSABLE</dc:title>
</cp:coreProperties>
</file>