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0168-D51B-4AA8-B467-8FC191C43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1B77-D9D5-4811-9765-B9993273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3D0A-E2FF-40CC-ABF0-B32EAE95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3E5B-5326-4D8E-87E7-2C80E611D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B59D-704B-4541-B9F3-095EC188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4487-3BC5-4995-AFA8-9FC79FF8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0518-86B8-4838-BAFC-5875D14B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A330-0134-4106-96B9-0BF69059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6DC9-3DE1-4ED7-A81E-41326FB4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A687-B62D-4185-97CF-DF66A022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10F2-F208-4C7E-A982-8642E527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FF2F-5922-4F47-BD19-BC4C3A77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A87B-09EB-401E-B481-0BD8B3A97886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400" spc="-1" strike="noStrike">
                <a:solidFill>
                  <a:srgbClr val="000000"/>
                </a:solidFill>
                <a:latin typeface="Calibri"/>
              </a:rPr>
              <a:t>O idioma Gal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400" spc="-1" strike="noStrike">
                <a:solidFill>
                  <a:srgbClr val="000000"/>
                </a:solidFill>
                <a:latin typeface="Calibri"/>
              </a:rPr>
              <a:t>O idioma Gal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0T23:57:57Z</dcterms:created>
  <dc:creator>Usuario</dc:creator>
  <dc:description/>
  <dc:language>en-US</dc:language>
  <cp:lastModifiedBy>Usuario</cp:lastModifiedBy>
  <dcterms:modified xsi:type="dcterms:W3CDTF">2015-06-17T23:13:44Z</dcterms:modified>
  <cp:revision>8</cp:revision>
  <dc:subject/>
  <dc:title>Impactos sobre a atmosfera</dc:title>
</cp:coreProperties>
</file>