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425-B8CB-46F6-AA2D-70BB6E73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E38-6674-4EB3-AF4E-695692F7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9C5-7012-4126-8A52-091B665F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B8A-CF93-4CB9-9469-FCDE2F10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582-566D-47AF-829F-799AF33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AD5-C9FA-45D9-8425-EF975848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E4B-0E83-44D9-A594-775D146F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75C-6615-471E-8A3A-3D5D5DF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3A0-1E7B-4DC9-AC33-B8AB3B38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375-BD39-4BA1-8C4E-0DE20FD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91E-5305-45A8-9AAC-3A525DE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E06-3839-4024-ABD9-83AAEAD5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0AB1-2DA9-411C-9236-FE98B60BED1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Escu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Escu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7:26Z</dcterms:modified>
  <cp:revision>11</cp:revision>
  <dc:subject/>
  <dc:title>Impactos sobre a atmosfera</dc:title>
</cp:coreProperties>
</file>