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121-00D1-43E4-9612-37E1EEAE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AA4-58F3-403C-9006-DB0F3142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0A1-88C1-4164-B0F0-4C80E78F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8CE-1DB3-40F8-A4AF-3E7C816E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652-3A37-4DEA-92E8-982F06F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1C8-3DFE-4A4B-A8B9-52A70E4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816-B303-4F8C-8C6A-D6CB979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4C7-6C69-4B48-8FCB-CCC4E7A0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4AE-255F-411A-B8ED-940DAB48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3E3-3D9B-4D2B-8987-BA179A9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4AA-3AFE-4D2F-B530-308AE56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DEC-7A4B-4207-88B9-C6C096D9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F0E-5762-4609-9C06-8B214069754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Himno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Himno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6:31Z</dcterms:modified>
  <cp:revision>10</cp:revision>
  <dc:subject/>
  <dc:title>Impactos sobre a atmosfera</dc:title>
</cp:coreProperties>
</file>