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FD7-2617-4693-98E5-7B81E8B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B85-5F01-4CB1-A809-E2A145C4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2A2-D34B-4C8D-9C22-C46D62AD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64E-2778-4374-9B2E-651DF87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A2D-2C44-4266-9F5A-40630C90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404-530B-44BA-AD27-60B685D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04E-6FB4-4B56-9E8A-D17A2D5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160-DF96-4409-A061-4E988AF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6FD-43A0-4B82-8B4E-6B136F5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F8A-47FE-40FC-98DB-8611D2C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CC2-8AC1-4620-B380-B4B2EA2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66C-B79B-4A32-88B3-9D43CCD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C185-8B52-4D6C-8445-B1A696D12FC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A Bandei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A Bandei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5:25Z</dcterms:modified>
  <cp:revision>9</cp:revision>
  <dc:subject/>
  <dc:title>Impactos sobre a atmosfera</dc:title>
</cp:coreProperties>
</file>