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AADC7-3BCF-4CDC-B5C5-69E723590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5B236-D5CE-48B3-A333-EE5C67F8B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7D41D-2315-450E-8B6A-F6D94B833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E22F8-9DB0-441D-BA46-CABAB2DCA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259F6-8F3F-46A3-9AD6-F776EEDCE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522F2-4DF8-4350-923F-6BE006CD9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25257-3A85-4E04-95A8-68D539916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3B6A7-4B85-49DA-A375-7C53A7391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19758-CE8E-4937-A4B3-C388F415E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1D723-3223-43FB-8EB6-15A8A5F75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EC123-38AD-4BDF-B7D6-367570760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77686-554D-4A62-99EB-31338B84F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C6127-9EEF-4DC3-81C1-01D0D2209C8B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952880" y="0"/>
            <a:ext cx="478656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3200" spc="-1" strike="noStrike">
                <a:solidFill>
                  <a:srgbClr val="0070c0"/>
                </a:solidFill>
                <a:latin typeface="Calibri"/>
              </a:rPr>
              <a:t>APRENDE A CUIDAR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523800" y="2857320"/>
            <a:ext cx="4011840" cy="157140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5381280" y="2928960"/>
            <a:ext cx="4143240" cy="364320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29 CuadroTexto"/>
          <p:cNvSpPr/>
          <p:nvPr/>
        </p:nvSpPr>
        <p:spPr>
          <a:xfrm>
            <a:off x="5381640" y="857160"/>
            <a:ext cx="4143240" cy="173988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INTRODU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24 CuadroTexto"/>
          <p:cNvSpPr/>
          <p:nvPr/>
        </p:nvSpPr>
        <p:spPr>
          <a:xfrm>
            <a:off x="523800" y="714240"/>
            <a:ext cx="4000680" cy="201420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Exercic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26 CuadroTexto"/>
          <p:cNvSpPr/>
          <p:nvPr/>
        </p:nvSpPr>
        <p:spPr>
          <a:xfrm>
            <a:off x="523800" y="4540320"/>
            <a:ext cx="4000680" cy="201420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ixie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95000" y="0"/>
            <a:ext cx="89154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3200" spc="-1" strike="noStrike">
                <a:solidFill>
                  <a:srgbClr val="0070c0"/>
                </a:solidFill>
                <a:latin typeface="Calibri"/>
              </a:rPr>
              <a:t>APRENDE A CUIDAR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23800" y="2857320"/>
            <a:ext cx="4011840" cy="157140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5381640" y="2857320"/>
            <a:ext cx="4000320" cy="157140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24 CuadroTexto"/>
          <p:cNvSpPr/>
          <p:nvPr/>
        </p:nvSpPr>
        <p:spPr>
          <a:xfrm>
            <a:off x="523800" y="714240"/>
            <a:ext cx="4000680" cy="201420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liment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26 CuadroTexto"/>
          <p:cNvSpPr/>
          <p:nvPr/>
        </p:nvSpPr>
        <p:spPr>
          <a:xfrm>
            <a:off x="523800" y="4540320"/>
            <a:ext cx="4000680" cy="201420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Descan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24 CuadroTexto"/>
          <p:cNvSpPr/>
          <p:nvPr/>
        </p:nvSpPr>
        <p:spPr>
          <a:xfrm>
            <a:off x="5381640" y="714240"/>
            <a:ext cx="4000320" cy="201420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Drog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26 CuadroTexto"/>
          <p:cNvSpPr/>
          <p:nvPr/>
        </p:nvSpPr>
        <p:spPr>
          <a:xfrm>
            <a:off x="5381640" y="4540320"/>
            <a:ext cx="4000320" cy="201420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Enfermida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10T23:57:57Z</dcterms:created>
  <dc:creator>Usuario</dc:creator>
  <dc:description/>
  <dc:language>en-US</dc:language>
  <cp:lastModifiedBy>Usuario</cp:lastModifiedBy>
  <dcterms:modified xsi:type="dcterms:W3CDTF">2015-07-25T18:40:46Z</dcterms:modified>
  <cp:revision>9</cp:revision>
  <dc:subject/>
  <dc:title>Impactos sobre a atmosfera</dc:title>
</cp:coreProperties>
</file>