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2B9-D8AC-41D5-B5A0-EDFA2FEB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7E3-9E25-4CC7-B567-A57D0A7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F1E-103A-44FD-BD70-581733C4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2FF-38F6-4219-8A36-139245C8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90A-D1FF-4732-97A8-A2916C0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D60-5529-4EDB-BB65-18BE6FC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61-1FCA-4E9F-94FC-969E5DD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966-94AB-405E-9C2E-F9A6BACF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4A5-4138-4BBD-89DC-C0FE208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5C9-FDF2-43F7-8AF6-FA1A4AB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727-5BA2-4B18-97B3-D0DA484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940-AED8-4E7F-8760-2108F03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6CE-C951-4A87-8B1A-5D4EF444C4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500040"/>
            <a:ext cx="4011840" cy="192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6 CuadroTexto"/>
          <p:cNvSpPr/>
          <p:nvPr/>
        </p:nvSpPr>
        <p:spPr>
          <a:xfrm>
            <a:off x="523800" y="2602080"/>
            <a:ext cx="4000680" cy="393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edidas para evit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9 CuadroTexto"/>
          <p:cNvSpPr/>
          <p:nvPr/>
        </p:nvSpPr>
        <p:spPr>
          <a:xfrm>
            <a:off x="5310360" y="857160"/>
            <a:ext cx="421452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é o é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ransmisión e contax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1:55Z</dcterms:modified>
  <cp:revision>9</cp:revision>
  <dc:subject/>
  <dc:title>Impactos sobre a atmosfera</dc:title>
</cp:coreProperties>
</file>