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9663-DCED-48F3-A2F0-3230EC0E8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0986-1B25-4ABA-8DA7-C5037E4C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A511-D13D-42B1-AFAE-6AC3FA5FA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93AC-C294-4267-92AC-5E5EEB484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234F-E368-4840-B367-BDCB12A9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D517-8585-4762-AC1F-DA7E7BF2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0B59-6BA0-468E-9DEC-14BB28E9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DA35-EDE5-4158-BB25-2F400700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A4BB-3736-4602-AE62-FBA26D6E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AF22-5FA4-4C0D-B2E8-EB0F8A6A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2CA7-40E5-44BD-865A-BCF1D5E6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6023-7BEB-4ED5-A4C4-6C051E6E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240A-4736-46DD-9FA1-99E7F510CED2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2880" y="0"/>
            <a:ext cx="47865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3200" spc="-1" strike="noStrike">
                <a:solidFill>
                  <a:srgbClr val="0070c0"/>
                </a:solidFill>
                <a:latin typeface="Calibri"/>
              </a:rPr>
              <a:t>APRENDE A CUIDAR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23800" y="2857320"/>
            <a:ext cx="4011840" cy="15714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381280" y="2928960"/>
            <a:ext cx="4143240" cy="3643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29 CuadroTexto"/>
          <p:cNvSpPr/>
          <p:nvPr/>
        </p:nvSpPr>
        <p:spPr>
          <a:xfrm>
            <a:off x="5381640" y="857160"/>
            <a:ext cx="4143240" cy="1739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NTROD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24 CuadroTexto"/>
          <p:cNvSpPr/>
          <p:nvPr/>
        </p:nvSpPr>
        <p:spPr>
          <a:xfrm>
            <a:off x="523800" y="714240"/>
            <a:ext cx="400068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xerc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26 CuadroTexto"/>
          <p:cNvSpPr/>
          <p:nvPr/>
        </p:nvSpPr>
        <p:spPr>
          <a:xfrm>
            <a:off x="523800" y="4540320"/>
            <a:ext cx="400068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ixi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8915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3200" spc="-1" strike="noStrike">
                <a:solidFill>
                  <a:srgbClr val="0070c0"/>
                </a:solidFill>
                <a:latin typeface="Calibri"/>
              </a:rPr>
              <a:t>APRENDE A CUIDAR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23800" y="2857320"/>
            <a:ext cx="4011840" cy="15714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81640" y="2857320"/>
            <a:ext cx="4000320" cy="15714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24 CuadroTexto"/>
          <p:cNvSpPr/>
          <p:nvPr/>
        </p:nvSpPr>
        <p:spPr>
          <a:xfrm>
            <a:off x="523800" y="714240"/>
            <a:ext cx="400068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li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26 CuadroTexto"/>
          <p:cNvSpPr/>
          <p:nvPr/>
        </p:nvSpPr>
        <p:spPr>
          <a:xfrm>
            <a:off x="523800" y="4540320"/>
            <a:ext cx="400068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escan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24 CuadroTexto"/>
          <p:cNvSpPr/>
          <p:nvPr/>
        </p:nvSpPr>
        <p:spPr>
          <a:xfrm>
            <a:off x="5381640" y="714240"/>
            <a:ext cx="40003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ro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6 CuadroTexto"/>
          <p:cNvSpPr/>
          <p:nvPr/>
        </p:nvSpPr>
        <p:spPr>
          <a:xfrm>
            <a:off x="5381640" y="4540320"/>
            <a:ext cx="40003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nferm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0T23:57:57Z</dcterms:created>
  <dc:creator>Usuario</dc:creator>
  <dc:description/>
  <dc:language>en-US</dc:language>
  <cp:lastModifiedBy>Usuario</cp:lastModifiedBy>
  <dcterms:modified xsi:type="dcterms:W3CDTF">2015-07-25T18:40:46Z</dcterms:modified>
  <cp:revision>9</cp:revision>
  <dc:subject/>
  <dc:title>Impactos sobre a atmosfera</dc:title>
</cp:coreProperties>
</file>