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BF8-C21B-4BF7-9C8D-175CFAC4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B04-F32D-4714-AFEB-C9D595B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DF0-61CE-4538-BD38-31BE96B4A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1EC-102E-497A-9E03-3EF52F42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2A1-8673-48DE-87D0-52A7B4F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7BF-D24D-4BA0-812C-CBEF1B00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3F2-0725-4F21-BF45-FBE6A418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BCC-9022-4DF7-B26B-98E23909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411-0E73-4DA2-8231-45EF86BF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8A9-E124-4FCD-BA1A-C67B528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36B-D95B-4963-A68F-0579FFB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FF9-47D7-490B-A9C4-AA83D54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79C2-BC30-4622-ABD2-1C7A323AD81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7865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3800" y="500040"/>
            <a:ext cx="4011840" cy="192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81280" y="2928960"/>
            <a:ext cx="4143240" cy="3643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26 CuadroTexto"/>
          <p:cNvSpPr/>
          <p:nvPr/>
        </p:nvSpPr>
        <p:spPr>
          <a:xfrm>
            <a:off x="523800" y="2602080"/>
            <a:ext cx="4000680" cy="393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edidas para evit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9 CuadroTexto"/>
          <p:cNvSpPr/>
          <p:nvPr/>
        </p:nvSpPr>
        <p:spPr>
          <a:xfrm>
            <a:off x="5310360" y="857160"/>
            <a:ext cx="4214520" cy="173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NTROD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915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3200" spc="-1" strike="noStrike">
                <a:solidFill>
                  <a:srgbClr val="0070c0"/>
                </a:solidFill>
                <a:latin typeface="Calibri"/>
              </a:rPr>
              <a:t>VIRUS DO ÉB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23800" y="2857320"/>
            <a:ext cx="401184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81640" y="2857320"/>
            <a:ext cx="4000320" cy="157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24 CuadroTexto"/>
          <p:cNvSpPr/>
          <p:nvPr/>
        </p:nvSpPr>
        <p:spPr>
          <a:xfrm>
            <a:off x="523800" y="71424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é o é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uadroTexto"/>
          <p:cNvSpPr/>
          <p:nvPr/>
        </p:nvSpPr>
        <p:spPr>
          <a:xfrm>
            <a:off x="523800" y="4540320"/>
            <a:ext cx="400068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4 CuadroTexto"/>
          <p:cNvSpPr/>
          <p:nvPr/>
        </p:nvSpPr>
        <p:spPr>
          <a:xfrm>
            <a:off x="5381640" y="71424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6 CuadroTexto"/>
          <p:cNvSpPr/>
          <p:nvPr/>
        </p:nvSpPr>
        <p:spPr>
          <a:xfrm>
            <a:off x="5381640" y="4540320"/>
            <a:ext cx="40003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ransmisión e contax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23:57:57Z</dcterms:created>
  <dc:creator>Usuario</dc:creator>
  <dc:description/>
  <dc:language>en-US</dc:language>
  <cp:lastModifiedBy>Usuario</cp:lastModifiedBy>
  <dcterms:modified xsi:type="dcterms:W3CDTF">2015-07-25T18:41:55Z</dcterms:modified>
  <cp:revision>9</cp:revision>
  <dc:subject/>
  <dc:title>Impactos sobre a atmosfera</dc:title>
</cp:coreProperties>
</file>