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F64-52A5-41EE-B00D-58A70408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49D-9455-4494-91A1-D9985362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417-4ECF-4222-B561-46A0EFD5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6C4-C2C6-4C55-A8E1-D38B8E23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D6F-BD22-498C-A76D-7450574F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309-A088-4924-BF9A-CC02D9F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F3A-5DC8-4967-978E-7B55ADF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792-F411-40E8-9469-D3C4D00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83D-D3F2-4260-90B9-6BAC9CF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926-09A9-40C8-90B1-EB1F7186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C80-F8C8-4835-BEC6-5B2B9BA6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5C5-552D-42BC-BC05-56F50361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741E-8593-416C-8F50-6C42C4E254A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biodiversid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8:58Z</dcterms:modified>
  <cp:revision>5</cp:revision>
  <dc:subject/>
  <dc:title>Impactos sobre a atmosfera</dc:title>
</cp:coreProperties>
</file>