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148-671D-4876-B31C-1C616FE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141-FD75-4FD4-A794-1D9A9E21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BB0-3205-406B-8496-6AA06653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895-92B9-4F21-9F05-B87785C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A8E-DC46-4501-89AA-2AB5BDB1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413-20EC-4EA8-9B9C-6F5EC2C0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FAB-EA2F-4C17-8740-460E3D3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E5D-94D5-4866-9640-AFE2DD99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6D4-960F-4C76-AD68-6FBC860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68D-FA67-43AA-B139-08848B2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786-18D1-4F86-91EC-AE4F722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F27-C9DD-45BC-9A2E-0FC8AB3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E58-E405-4D82-A2A9-E7CF24C5309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s residuos sóli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09Z</dcterms:modified>
  <cp:revision>4</cp:revision>
  <dc:subject/>
  <dc:title>Impactos sobre a atmosfera</dc:title>
</cp:coreProperties>
</file>