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9C4-E163-469B-A3E8-8A762198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9E2-C9C0-46F8-849E-246500A4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465-E7B3-4834-BDE3-27E637FA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66A-3BA7-47BC-B23D-6F083E9F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52B-FB8B-47F4-8A85-03A678CE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B7B-C267-44DF-804F-FC66A91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409-655F-4669-A66C-F07B948E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36C-DAC6-4F93-A4C5-E2111EF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671-9495-440F-A36D-4094598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BFA-49F3-49D5-BAD4-527D52E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E47-1FF6-473F-97BD-DA515795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D09-560E-408F-8FEB-CC04AA9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D05-C947-47E2-885E-00A9DDB65B8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o so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22Z</dcterms:modified>
  <cp:revision>3</cp:revision>
  <dc:subject/>
  <dc:title>Impactos sobre a atmosfera</dc:title>
</cp:coreProperties>
</file>