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043-44B1-4DAC-B0EB-F785E222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500-E3CC-4590-ADEF-E605D4B6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582-D2F3-4C62-8D16-A33F5254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C17-436B-45AB-B1EC-B4BC54E2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99B-5A13-4084-B490-88F6634B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851-D928-411E-97A6-D79E6E39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110-1A7A-4FB6-AE6E-53F91803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C80-BCE0-4F91-BCFE-793184AB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3E0-B410-445E-98D1-5D7A4D42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84C-63B0-4735-A3FE-AB953CE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8F8-8D7D-4450-AB06-5F67CA80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671-2DB0-48BD-9375-F8540776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3CD6-9A2B-40F4-9890-8977AA6CD75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a hidrosfe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32Z</dcterms:modified>
  <cp:revision>2</cp:revision>
  <dc:subject/>
  <dc:title>Impactos sobre a atmosfera</dc:title>
</cp:coreProperties>
</file>