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829-952C-45B7-B3D8-A5ED782C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CBC-CB8C-49C6-AA36-18CFCB6E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E9E2-2B17-4174-A2A0-BC5F3AA3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693-B977-4743-BA23-6B2D03A8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B77-5F76-419A-95BF-A7AD912D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262-6A06-4AA5-9707-96344EBF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8BC-0B84-4796-8214-181102B1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F72-C124-4EF4-AA53-DFEE0FD4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FAE-BA30-4A0A-90E3-60B5D4E8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C7AD-7DF3-446C-B559-764A8BF5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565-F730-4B1C-8050-798FCB87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474-F173-40BA-A25D-3BBEB266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50A1-305B-453B-8FA9-3535C2E2DC0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77933c"/>
                </a:solidFill>
                <a:latin typeface="Calibri"/>
              </a:rPr>
              <a:t>Impactos sobre a atmosfe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2640" y="1571760"/>
            <a:ext cx="73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Título"/>
          <p:cNvSpPr/>
          <p:nvPr/>
        </p:nvSpPr>
        <p:spPr>
          <a:xfrm>
            <a:off x="357120" y="92880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700" spc="-1" strike="noStrike">
                <a:solidFill>
                  <a:srgbClr val="000000"/>
                </a:solidFill>
                <a:latin typeface="Calibri"/>
              </a:rPr>
              <a:t>Engadir título do impac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6 Título"/>
          <p:cNvSpPr/>
          <p:nvPr/>
        </p:nvSpPr>
        <p:spPr>
          <a:xfrm>
            <a:off x="571680" y="57862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000" spc="-1" strike="noStrike">
                <a:solidFill>
                  <a:srgbClr val="000000"/>
                </a:solidFill>
                <a:latin typeface="Calibri"/>
              </a:rPr>
              <a:t>Descrición do impa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1T00:39:53Z</dcterms:modified>
  <cp:revision>1</cp:revision>
  <dc:subject/>
  <dc:title>Impactos sobre a atmosfera</dc:title>
</cp:coreProperties>
</file>