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6F4E-8CB5-404D-8B2A-8A5C822D00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Marcador de número de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D80C-FE72-48F5-94A6-3F08352C44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7ECB2-F798-4E5B-889A-5EF840EA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8EB61-F490-4EC8-98C5-8E0CB880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EE689-E2F2-41E0-89AB-7219ADE3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2EDC7-BB3E-4F14-B138-46E610FC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5FE69-7CFB-44E7-94FC-6EEA38E9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1B5E-C326-495E-A56C-337568B7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29EB5-9CFF-4F98-87AF-C02C8915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94966-804D-47D2-B6F8-F2630AC0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E90A-8A0E-4D49-815A-AEBD7D32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036-0D92-43C8-A806-AC3D76A6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F39-DE4C-454E-9D5C-20612AF3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A4F-1AF9-455E-B9D1-1867D48A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A38-B743-4A28-BF7B-E277672E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9EA-90F7-4C95-8068-34A1CDCA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AEA-117A-4E4C-9262-D3CA8894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436-19C9-44EF-9497-E3656520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AD4-BD9E-42FC-95E6-DFBA300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8B4-29C7-4CBF-B37E-C447B302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16C-F66C-4D9F-AC39-5918CAF6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4C7-31C0-4F92-996A-BD799808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534-4D80-45E4-A2DB-4C4750D8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9B11-CFDE-40E5-8907-FBCC70D0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60CD-94A5-4902-B02A-A3F6E382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AB5E-A25A-48B7-A52C-AE4EA7E9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82C2-4387-4F1B-88DE-7CF5C4E1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153E-C2B2-417A-9C52-F52F8103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259E-68B7-4F21-99A1-9BC6128B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FCE7-9791-4251-9C8A-C6DCB337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2D4C-4C23-45AD-AB5B-C3EBD3CC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D174-82E7-4484-9CFF-E0D6021E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D830-A8B2-416E-BED6-AFD4559F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5B10-6ED0-4659-8FE4-AC6AB3DA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0CBE-A019-4140-A76C-64D9350E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492E-708E-42A7-9518-371E656B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DE0D-52CB-447B-B756-F5067C9F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80AF-30A6-4ABE-90A3-7F90A4DA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C42B-5A55-4F69-9544-CEAED416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7165-E583-44C3-BAD2-68BCEF78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41EF8-21FD-47BA-819E-B3FEA984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9310-0269-4BAB-8B31-7A5F138F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623E-8212-4E08-9E6F-A2810A0D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6D8A-97F4-4672-9AE8-EF2794B7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7F99-F499-4AE4-8713-F11026FD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C287-C39E-4B72-A611-81E17E87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E162A-0174-4423-AE88-05509A28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0241-E18E-4D68-B183-1D5AEBB5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1E101-680E-430A-979B-EAE19F3D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6987D-0C93-4122-8C6A-939775A2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17EB-9E1F-4BAA-BC8E-B7D43DE3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E6458-B52D-4D7C-AB9C-099D9034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E8F2E-1BBE-417E-B566-2A77BC26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FC787-49BF-4234-A9AE-FA2F2758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C70FA-871F-494F-B2BD-BF91CFE6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DC1D3-4FD9-4EEC-B3D9-C3EE5A09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88BC-1E4B-46EA-BC73-8BCB2AAD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D471-22C0-4BB4-ACCA-D72D3A1C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05D06-AAF6-4CD7-8C6B-5CC64066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8A70-B02F-4CC1-9010-161752C5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81FF-4F7D-485A-AC91-F0A96036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E3DD7-C02B-4180-94F8-693C13C9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5B0F-EDEB-403D-8668-F85B1F82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D6DA5-76D0-49C5-943A-B0045D16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BD0E3-5C0E-4385-842E-DA9F8842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8CCD4-44EC-419B-90EC-DC6F3FA2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50B2F-78BD-4C46-97FD-5ABAE44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30E46-93E9-4CFC-AF4D-E53F512C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838A-58EC-4865-AB00-8A87C957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DD5EA-3098-4C13-89D8-E7205D0E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9AF03-F7F1-40C3-A7E3-714A8AD2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3F4A3-7CC7-4EC7-BE34-D80568BE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4CE46-6413-43EA-BFE8-7AD03D88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B658-5D8F-4332-9166-80F8C208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B625-8B05-4A46-9B8A-19344800255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2FAF-1BB3-4D21-97F7-30F8333418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677080" y="6605640"/>
            <a:ext cx="43164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E295-A1E8-4120-B0AE-8C67B3CE7C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588000" y="333360"/>
            <a:ext cx="21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1600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7"/>
          <p:cNvSpPr/>
          <p:nvPr/>
        </p:nvSpPr>
        <p:spPr>
          <a:xfrm>
            <a:off x="4356000" y="2276640"/>
            <a:ext cx="0" cy="244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0B4F-1FBC-450A-B557-36CC49AE72C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7"/>
          <p:cNvSpPr/>
          <p:nvPr/>
        </p:nvSpPr>
        <p:spPr>
          <a:xfrm>
            <a:off x="4859280" y="306864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5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215D-47B1-423B-A637-B73798BF0B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7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69B7-D0AF-4389-A019-149D20F6979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_Les%20fondements%20d&apos;une%20vraie%20autonomie%20chez%20le%20jeune%20enfant.wmv" TargetMode="External"/><Relationship Id="rId2" Type="http://schemas.openxmlformats.org/officeDocument/2006/relationships/hyperlink" Target="file:///II_Les%20fondements%20d&apos;une%20vraie%20autonomie%20chez%20le%20jeune%20enfant.wm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Juego-Actividad-Pensamiento%20el%20primer%20a&#241;o.avi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IV_Les%20fondements%20d&apos;une%20vraie%20autonomie%20chez%20le%20jeune%20enfant.wm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erse%20en%20libertad.avi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proximación á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etodoloxía Pikler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Educación Infan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79280" y="522900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Elena Herrán Izagi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CAF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CIFP Compostela, 3, 4 y 5 de septiembre de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1564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niño necesita constante ayuda para tomar progresiv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concienc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de sí mismo y de su entorno, de acuerdo con su nivel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4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332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resultado de la aplicación de los principios anteriores es u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buen estado salud fís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en el niño, a la vez que puede considerarse su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el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pio cuerp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los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bjetos del ent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arrollo motor y postural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to 2"/>
          <p:cNvGraphicFramePr/>
          <p:nvPr/>
        </p:nvGraphicFramePr>
        <p:xfrm>
          <a:off x="36360" y="189000"/>
          <a:ext cx="907128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189000"/>
                    <a:ext cx="907128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Objeto 3"/>
          <p:cNvGraphicFramePr/>
          <p:nvPr/>
        </p:nvGraphicFramePr>
        <p:xfrm>
          <a:off x="36360" y="260280"/>
          <a:ext cx="9071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260280"/>
                    <a:ext cx="9071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juego li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juego li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fases más import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arte del cuid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uid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re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no de la educ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Imagen 1" descr=""/>
          <p:cNvPicPr/>
          <p:nvPr/>
        </p:nvPicPr>
        <p:blipFill>
          <a:blip r:embed="rId1"/>
          <a:stretch/>
        </p:blipFill>
        <p:spPr>
          <a:xfrm>
            <a:off x="2816280" y="2319480"/>
            <a:ext cx="29080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magen 2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97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l biberón a la aut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la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lacer de comer y hacerlo autónom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baño y el vest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cambio de pañ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ambio de pa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349000"/>
            <a:ext cx="8713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 condiciones físicas y human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e Lóc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187280" y="1815840"/>
            <a:ext cx="7499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zación de los grupos y unidad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bservación de los ni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con 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ver a 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000" y="91728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flexiones fi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03280" y="2852640"/>
            <a:ext cx="65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sent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speraba aprender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aprend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Imagen 2" descr=""/>
          <p:cNvPicPr/>
          <p:nvPr/>
        </p:nvPicPr>
        <p:blipFill>
          <a:blip r:embed="rId1"/>
          <a:stretch/>
        </p:blipFill>
        <p:spPr>
          <a:xfrm>
            <a:off x="2050920" y="2487600"/>
            <a:ext cx="5481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ítulo 1"/>
          <p:cNvSpPr/>
          <p:nvPr/>
        </p:nvSpPr>
        <p:spPr>
          <a:xfrm>
            <a:off x="684360" y="198900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6000" spc="-1" strike="noStrike">
                <a:solidFill>
                  <a:srgbClr val="000000"/>
                </a:solidFill>
                <a:latin typeface="Arial"/>
              </a:rPr>
              <a:t>Eskerrik ask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Imagen 1" descr=""/>
          <p:cNvPicPr/>
          <p:nvPr/>
        </p:nvPicPr>
        <p:blipFill>
          <a:blip r:embed="rId1"/>
          <a:stretch/>
        </p:blipFill>
        <p:spPr>
          <a:xfrm>
            <a:off x="3492360" y="1924200"/>
            <a:ext cx="2340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Imagen 1" descr=""/>
          <p:cNvPicPr/>
          <p:nvPr/>
        </p:nvPicPr>
        <p:blipFill>
          <a:blip r:embed="rId1"/>
          <a:stretch/>
        </p:blipFill>
        <p:spPr>
          <a:xfrm>
            <a:off x="2114640" y="1773360"/>
            <a:ext cx="4978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90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verse en liberta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mov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lo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ikler-Lócz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76360" y="2709360"/>
            <a:ext cx="6408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actividad autónom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proactiva del bebé y niño pequeño es especialmente val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42560" y="2680920"/>
            <a:ext cx="721044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La estabilidad de las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relaciones personal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 adulto-niño y, sobre todo, la relación privilegiada de cada niño con su educadora de referencia le proporciona un firme sustento emo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0:32:42Z</dcterms:created>
  <dc:creator>.</dc:creator>
  <dc:description/>
  <dc:language>en-US</dc:language>
  <cp:lastModifiedBy>Usuario</cp:lastModifiedBy>
  <dcterms:modified xsi:type="dcterms:W3CDTF">2014-08-05T10:40:30Z</dcterms:modified>
  <cp:revision>82</cp:revision>
  <dc:subject/>
  <dc:title>Diapositiva 1</dc:title>
</cp:coreProperties>
</file>