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9.png" ContentType="image/png"/>
  <Override PartName="/ppt/media/image10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ftr" idx="20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5C4F-AFFA-4F6D-ADB3-655AB9F332D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Marcador de número de diapositiva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81E5-68ED-4E08-BD42-0A2AB1953CB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A3271-F2F3-4533-9547-863367FA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7C94D-4561-4036-8CE0-18530323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1EB64-5306-4073-9B06-F6BB632D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53D09-2824-47C9-94D5-7CE5D057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D4F75-1B05-45AE-82C5-F10F1607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19727-7D7D-4B18-94E4-E656701E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EB5C5-8F09-44CB-A5B7-B8718652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BBCC7-CD6B-4214-A0DF-3CDF438B2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89373-A112-4B32-BF4F-B3933C3DB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F47A-F6BA-4832-BF9D-C2A39884F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76AC-A0E7-4B2C-BF18-86C3B8F4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1D29-343A-4DB8-A774-ACE8B546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A7CC-ED18-4BBF-9CEA-E4DCAC6C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6A40-0923-47A0-A5EF-AC447891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7113-08A1-42DD-84A5-EBABF04C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F605-5E36-4D7B-AEC4-91CB4403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E4AC-EE6C-43B4-9F0C-CAB80930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88A9-768D-4EF3-A76C-E9CA9027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B008-8DDA-49F0-A310-EE5588D3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4B81-39A5-4DD8-8BAB-C2CB6B898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7023-5346-48B8-813D-43BFC838B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EDA1-53ED-47AC-AB36-1AC7F9665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9497-5EDA-4CFE-8839-D29D254E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D42C-146D-44E4-A22A-6A23CF42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456CC-36A5-47E3-AEC2-2D984F5E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D836-B812-4584-89F8-2D48CBFB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F406B-FFEA-4494-A926-6612661A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3183-6E3D-45DF-83CD-638019D2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5053-D629-456C-8621-B76A1C14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5DFB-E727-41B4-AAE6-DEDB6160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38D6-E2B9-48DB-A287-0C22AD78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D5D49-F43C-40F7-922C-BC1E72315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1EA9-CB90-4DFF-B128-A719A9398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15274-6094-4E46-80AE-3132917F4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1E1DA-1BA5-424B-A239-02102195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74ABB-67BE-497E-9E74-365CABA4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3E760-2C22-4BB9-B5E2-BDA06943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D28C8-B81C-4819-A790-88CAD4DC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74FCC-FB38-4E6D-858A-3292179F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CCDED-BA31-4ABD-B514-7676691A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16CD7-BA32-49D4-B216-52C6A3FE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E231A-CE56-4571-B7A6-74876B18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25ED7-0E08-4B31-BF06-B6CBF2F2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938A6-0F90-452B-B32F-9C18F1C53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FD645-602B-45F1-BE21-BF0BB0373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FF3C5-FB00-4CF2-B23D-145FE6DF4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8F01F-12F9-4C5C-8467-B5E09ECB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38524-4CA3-4B60-B0C8-65150DF2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E8292-35D0-4B61-B257-A82B5B19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A51DD-BBAB-4D53-B017-539ED68B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0FD18-42A9-498D-BAAA-93F1A70B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5DF06-235D-42BB-B85A-7B4585D8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DEDE3-AC6B-4E36-8426-60854056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C878B-EDD2-45FD-ADBE-DD63E105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EB8F3-60D8-4A6A-A5F3-6A1F178E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59214-69AE-4663-A599-12E7ED887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4F834-14D2-4FE9-8202-F231F4ABD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12603-FC53-44F8-8035-547BC6251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CBE92-C9ED-4C51-A78F-304BCFB2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2DE0E-E453-4C86-8743-CB22B205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BCEB0-807A-46B5-AD27-E66B66F4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07A86-B4B0-4155-B210-5B35477C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AD805-7F1C-4C19-86DE-E73134CF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E08F6-EFA3-4078-817D-B8A2E8A9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335C6-1ACC-4FCB-A6BE-811D7F49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9546B-2A7E-46CD-884F-F96C6B77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B7E19-6EE7-4AB3-908F-4E7DB977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CB87B-9E90-49F5-8753-8615124D6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A1731-DD53-4305-9F4F-4B055A7E8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1D328-8F9B-4C7C-8B88-FC2D44067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C4D5C-C227-4F4D-9E53-1085A38E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049BC-6680-4481-A86D-0E4FC79F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8675640" y="6602400"/>
            <a:ext cx="432000" cy="20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03EE-55CA-44F5-B146-18CC14D7B17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8675640" y="6602400"/>
            <a:ext cx="43200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401B-8E2F-45B8-9D8C-5BE6E3FE6D5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89120" y="333000"/>
            <a:ext cx="2879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115640" y="1341000"/>
            <a:ext cx="75596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8677080" y="6605640"/>
            <a:ext cx="431640" cy="20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AA97-9BD1-4E6D-A20D-E11142C6F62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6588000" y="333360"/>
            <a:ext cx="215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6443640" y="260280"/>
            <a:ext cx="0" cy="432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116000" y="98100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7"/>
          <p:cNvSpPr/>
          <p:nvPr/>
        </p:nvSpPr>
        <p:spPr>
          <a:xfrm>
            <a:off x="4356000" y="2276640"/>
            <a:ext cx="0" cy="2447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2"/>
          </p:nvPr>
        </p:nvSpPr>
        <p:spPr>
          <a:xfrm>
            <a:off x="8675640" y="6602400"/>
            <a:ext cx="432000" cy="20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53F5-341A-4278-861B-BD1C85038E8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Line 7"/>
          <p:cNvSpPr/>
          <p:nvPr/>
        </p:nvSpPr>
        <p:spPr>
          <a:xfrm>
            <a:off x="4859280" y="3068640"/>
            <a:ext cx="0" cy="576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5"/>
          </p:nvPr>
        </p:nvSpPr>
        <p:spPr>
          <a:xfrm>
            <a:off x="8675640" y="6602400"/>
            <a:ext cx="432000" cy="20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2876-56CD-45D7-844A-532C82D5D09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Line 7"/>
          <p:cNvSpPr/>
          <p:nvPr/>
        </p:nvSpPr>
        <p:spPr>
          <a:xfrm>
            <a:off x="6443640" y="260280"/>
            <a:ext cx="0" cy="432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489120" y="333000"/>
            <a:ext cx="2879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115640" y="1341000"/>
            <a:ext cx="75596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18"/>
          </p:nvPr>
        </p:nvSpPr>
        <p:spPr>
          <a:xfrm>
            <a:off x="8675640" y="6602400"/>
            <a:ext cx="432000" cy="20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7381-2E34-4C68-A392-3702F2657CA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I_Les%20fondements%20d&apos;une%20vraie%20autonomie%20chez%20le%20jeune%20enfant.wmv" TargetMode="External"/><Relationship Id="rId2" Type="http://schemas.openxmlformats.org/officeDocument/2006/relationships/hyperlink" Target="file:///II_Les%20fondements%20d&apos;une%20vraie%20autonomie%20chez%20le%20jeune%20enfant.wmv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Juego-Actividad-Pensamiento%20el%20primer%20a&#241;o.avi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IV_Les%20fondements%20d&apos;une%20vraie%20autonomie%20chez%20le%20jeune%20enfant.wmv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Moverse%20en%20libertad.avi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79280" y="1341360"/>
            <a:ext cx="878544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proximación á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Metodoloxía Pikler 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e Educación Infant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79280" y="522900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8080"/>
                </a:solidFill>
                <a:latin typeface="Arial"/>
              </a:rPr>
              <a:t>Elena Herrán Izagir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CAF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808080"/>
                </a:solidFill>
                <a:latin typeface="Arial"/>
              </a:rPr>
              <a:t>CIFP Compostela, 3, 4 y 5 de septiembre de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3er. principio Pikler-Lóc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11564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107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El niño necesita constante ayuda para tomar progresiva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concienci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 de sí mismo y de su entorno, de acuerdo con su nivel de desarro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4º principio Pikler-Lóc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0332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107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El resultado de la aplicación de los principios anteriores es un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buen estado salud físic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 en el niño, a la vez que puede considerarse su or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50560" y="2430360"/>
            <a:ext cx="87138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escubrir el </a:t>
            </a: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opio cuerpo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escubrir los </a:t>
            </a: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bjetos del entor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50560" y="2430360"/>
            <a:ext cx="87138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esarrollo motor y postural 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utóno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Objeto 2"/>
          <p:cNvGraphicFramePr/>
          <p:nvPr/>
        </p:nvGraphicFramePr>
        <p:xfrm>
          <a:off x="36360" y="189000"/>
          <a:ext cx="9071280" cy="52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6" name="Objeto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" y="189000"/>
                    <a:ext cx="9071280" cy="52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Objeto 3"/>
          <p:cNvGraphicFramePr/>
          <p:nvPr/>
        </p:nvGraphicFramePr>
        <p:xfrm>
          <a:off x="36360" y="260280"/>
          <a:ext cx="907128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8" name="Objeto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" y="260280"/>
                    <a:ext cx="907128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50560" y="2430360"/>
            <a:ext cx="87138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l juego lib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nsando el juego lib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hemos vis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condiciones tie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les son sus fases más importan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50560" y="2430360"/>
            <a:ext cx="87138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l arte del cuid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nsando el cuid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hemos vis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condiciones tie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coreograf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mano de la educa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Imagen 1" descr=""/>
          <p:cNvPicPr/>
          <p:nvPr/>
        </p:nvPicPr>
        <p:blipFill>
          <a:blip r:embed="rId1"/>
          <a:stretch/>
        </p:blipFill>
        <p:spPr>
          <a:xfrm>
            <a:off x="2816280" y="2319480"/>
            <a:ext cx="290808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Imagen 2" descr=""/>
          <p:cNvPicPr/>
          <p:nvPr/>
        </p:nvPicPr>
        <p:blipFill>
          <a:blip r:embed="rId1"/>
          <a:stretch/>
        </p:blipFill>
        <p:spPr>
          <a:xfrm>
            <a:off x="1763640" y="2349360"/>
            <a:ext cx="57978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50560" y="2430360"/>
            <a:ext cx="87138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el biberón a la autonom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nsando la ali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hemos vis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condiciones tie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placer de comer y hacerlo autónoma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50560" y="2430360"/>
            <a:ext cx="87138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l baño y el vest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nsando el ba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hemos vis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condiciones tie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es lo más importa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50560" y="2430360"/>
            <a:ext cx="87138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l cambio de pañ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nsando el cambio de pañ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hemos vis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condiciones tie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es lo más importa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50560" y="2349000"/>
            <a:ext cx="871380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as condiciones físicas y humana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de Lócz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1187280" y="1815840"/>
            <a:ext cx="749952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rganización de los grupos y unidades de v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trabajo en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observación de los ni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trabajo con los pad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olver a empe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8000" y="917280"/>
            <a:ext cx="871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eflexiones fin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1403280" y="2852640"/>
            <a:ext cx="6553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has senti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Esperaba aprender es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has aprendi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Imagen 2" descr=""/>
          <p:cNvPicPr/>
          <p:nvPr/>
        </p:nvPicPr>
        <p:blipFill>
          <a:blip r:embed="rId1"/>
          <a:stretch/>
        </p:blipFill>
        <p:spPr>
          <a:xfrm>
            <a:off x="2050920" y="2487600"/>
            <a:ext cx="548172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ítulo 1"/>
          <p:cNvSpPr/>
          <p:nvPr/>
        </p:nvSpPr>
        <p:spPr>
          <a:xfrm>
            <a:off x="684360" y="1989000"/>
            <a:ext cx="80024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6000" spc="-1" strike="noStrike">
                <a:solidFill>
                  <a:srgbClr val="000000"/>
                </a:solidFill>
                <a:latin typeface="Arial"/>
              </a:rPr>
              <a:t>Eskerrik asko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Imagen 1" descr=""/>
          <p:cNvPicPr/>
          <p:nvPr/>
        </p:nvPicPr>
        <p:blipFill>
          <a:blip r:embed="rId1"/>
          <a:stretch/>
        </p:blipFill>
        <p:spPr>
          <a:xfrm>
            <a:off x="3492360" y="1924200"/>
            <a:ext cx="234000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Imagen 1" descr=""/>
          <p:cNvPicPr/>
          <p:nvPr/>
        </p:nvPicPr>
        <p:blipFill>
          <a:blip r:embed="rId1"/>
          <a:stretch/>
        </p:blipFill>
        <p:spPr>
          <a:xfrm>
            <a:off x="2114640" y="1773360"/>
            <a:ext cx="49784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560" y="27903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overse en libertad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nsando el movi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hemos vis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condiciones tie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les son los </a:t>
            </a: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principi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Pikler-Lócz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1er. principio Pikler-Lóc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1476360" y="2709360"/>
            <a:ext cx="640872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7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La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actividad autónoma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proactiva del bebé y niño pequeño es especialmente vali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2º principio Pikler-Lóc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042560" y="2680920"/>
            <a:ext cx="7210440" cy="27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7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Calibri"/>
              </a:rPr>
              <a:t>La estabilidad de las 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  <a:ea typeface="Calibri"/>
              </a:rPr>
              <a:t>relaciones personales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Calibri"/>
              </a:rPr>
              <a:t> adulto-niño y, sobre todo, la relación privilegiada de cada niño con su educadora de referencia le proporciona un firme sustento emoc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1T10:32:42Z</dcterms:created>
  <dc:creator>.</dc:creator>
  <dc:description/>
  <dc:language>en-US</dc:language>
  <cp:lastModifiedBy>Usuario</cp:lastModifiedBy>
  <dcterms:modified xsi:type="dcterms:W3CDTF">2014-08-05T10:40:30Z</dcterms:modified>
  <cp:revision>82</cp:revision>
  <dc:subject/>
  <dc:title>Diapositiva 1</dc:title>
</cp:coreProperties>
</file>