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9.png" ContentType="image/png"/>
  <Override PartName="/ppt/media/image10.wmf" ContentType="image/x-wm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dt" idx="1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ftr" idx="20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 type="sldNum" idx="21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62F4D-4354-44EE-AD92-8C4AC3A7B2C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Marcador de número de diapositiva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1077D-9CF0-41CE-8F56-677E95A3991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746516-9292-4295-B2A7-63204009C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C7094-F391-4C39-9BDD-B46DFB5BD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09A3E-6824-498B-8908-ACFEF0EFE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D02D6-A202-4311-AD85-DFA6FE1C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9F984-9CBD-4215-98A6-309B6351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7F85E-6157-43B4-9148-B290D177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5C8724-82EE-42D4-B6FF-4BCCED49E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FB020E-F432-46CD-B18F-0EC10AF2C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0E075-41F7-461C-A179-BD924F966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1813-9C79-4BFE-ADF8-22E956A2B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4A31-5534-48AF-9829-61A162944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3817-7454-4D11-843B-859136CD7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F24E-F66D-41BE-8502-6290257D1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58CD-3BAE-4A5D-BCD0-A4475FDC0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0F9C-5C97-4154-8042-CBB69C820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FA9F-87E4-4672-A469-5A72B824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5544-DDD7-44D5-A03D-10064A20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A20F-912C-4AD3-9570-9ED2FBD7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083C-4DFF-4D24-8837-17EFDE3B3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65D0-002F-4170-A14E-ABC3CB303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7199-DAB2-486A-8661-A7C3CFED5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94C4C-C704-4E3D-8D9E-3107825CA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4F342-8783-4FE8-873F-89F91F0E8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899F6-9735-4AA5-B556-27C8BE67D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EFA49-C2FD-4AC0-B2C9-0B3E707E2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F0A43-9539-44CD-93D1-1F9B47E9A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30F04-C6CC-41E8-BB42-27A835B61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7C1A2-0A05-400E-A569-D3A7C32C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53442-37C6-4642-B4BC-FAFC111C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42DA9-4DC0-4D54-908D-5811E8AA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DA840-F656-401D-B4B9-ABE60DD0A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E63C6-0498-43F8-B7DD-AAF483206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91DA7-AB43-4ACF-BE5F-3DFE9A718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46A9F-6D4C-4F3E-AFEF-1CE096413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47A2D-7D0B-4C98-9CC2-7FFC27C50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A8428-1608-4E06-B1B2-6790C5E7C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C9803-DCC3-41E4-8F6D-ACAC9351F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8EE36-86D8-43BB-BD0F-CDA6324E5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1382E-9900-410C-A524-AA6F20F9B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9D7DD-48CC-45FB-88CB-E2719531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F4081-3F09-46C7-A766-0A645088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1E136-A797-425B-BC85-143C2BC1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1CC68-CFCB-481F-BFAA-06560E41D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392A3-CD81-4B1B-B7FE-D66B23090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F19FC-D434-469F-9677-B0C91A3C3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BED8F-CA34-4CDC-BE9D-6497D22AA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BCF2B-ADCF-4238-8352-10763768C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B926C-BCD0-42CF-9670-1CC0CCDBE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988FC-089C-4701-B157-970C28E0B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A27ED-80AE-4CE3-B15C-0211B8C48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C0E48-E01A-404E-9496-CF5B98DCA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C136C-F8B7-4F49-A463-2A590F24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BC637-915F-4012-9129-669EA245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98393-2004-45D5-B089-9247AA61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9454D-F108-4390-9090-DE1577BCF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124BF-5BDA-4D0E-872D-1448BFCDF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FF616-AA72-4205-A9EA-1B450D740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3B0EF-65C7-470E-800E-D3E1DE20B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76D77-10BE-425F-991A-71A8D0844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83D23-1422-4F87-A628-CC8BDF4F6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1F2C8-85C6-4A9B-9175-6C6787D93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466CC-8C4D-48BC-A5C4-1F1F98E54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E8456-A1EF-480B-8376-2839937E1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AA307-FE73-48BC-A9EF-45B6917F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056BE-6668-4049-9F3E-B5BE6DC7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DEB60-1171-42AC-BD93-239D7A82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670BD-BCDA-474C-AD9E-C2BF56BA2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92BE8-7F5B-48D8-AC35-0DDC49908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56FED-C211-49B7-8533-72B02EF04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98A213-CFFC-42D0-AB69-DD1727B64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75D23-CBED-4D13-96D6-7CC59BF8E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3C49B-184E-4DF4-9AB1-386CF8ED6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8675640" y="6602400"/>
            <a:ext cx="432000" cy="20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41A50-572D-4345-A717-A40094DC548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8675640" y="6602400"/>
            <a:ext cx="43200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DC8B-4EC3-4FFC-897E-718CC698F92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489120" y="333000"/>
            <a:ext cx="28796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115640" y="1341000"/>
            <a:ext cx="75596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9"/>
          </p:nvPr>
        </p:nvSpPr>
        <p:spPr>
          <a:xfrm>
            <a:off x="8677080" y="6605640"/>
            <a:ext cx="431640" cy="20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2A829-44C2-4EF4-98C2-DDCD6CE0435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6588000" y="333360"/>
            <a:ext cx="215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8"/>
          <p:cNvSpPr/>
          <p:nvPr/>
        </p:nvSpPr>
        <p:spPr>
          <a:xfrm>
            <a:off x="6443640" y="260280"/>
            <a:ext cx="0" cy="432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1116000" y="981000"/>
            <a:ext cx="41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Line 7"/>
          <p:cNvSpPr/>
          <p:nvPr/>
        </p:nvSpPr>
        <p:spPr>
          <a:xfrm>
            <a:off x="4356000" y="2276640"/>
            <a:ext cx="0" cy="2447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2"/>
          </p:nvPr>
        </p:nvSpPr>
        <p:spPr>
          <a:xfrm>
            <a:off x="8675640" y="6602400"/>
            <a:ext cx="432000" cy="20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B5F14-9BD1-4C58-8348-A480B3A8154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Line 7"/>
          <p:cNvSpPr/>
          <p:nvPr/>
        </p:nvSpPr>
        <p:spPr>
          <a:xfrm>
            <a:off x="4859280" y="3068640"/>
            <a:ext cx="0" cy="576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5"/>
          </p:nvPr>
        </p:nvSpPr>
        <p:spPr>
          <a:xfrm>
            <a:off x="8675640" y="6602400"/>
            <a:ext cx="432000" cy="20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5E6DF-0CE9-4077-B175-102A34F2417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Line 7"/>
          <p:cNvSpPr/>
          <p:nvPr/>
        </p:nvSpPr>
        <p:spPr>
          <a:xfrm>
            <a:off x="6443640" y="260280"/>
            <a:ext cx="0" cy="432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489120" y="333000"/>
            <a:ext cx="28796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115640" y="1341000"/>
            <a:ext cx="75596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18"/>
          </p:nvPr>
        </p:nvSpPr>
        <p:spPr>
          <a:xfrm>
            <a:off x="8675640" y="6602400"/>
            <a:ext cx="432000" cy="20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D2D4C-9662-4B92-B7C3-842CF6BF716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I_Les%20fondements%20d&apos;une%20vraie%20autonomie%20chez%20le%20jeune%20enfant.wmv" TargetMode="External"/><Relationship Id="rId2" Type="http://schemas.openxmlformats.org/officeDocument/2006/relationships/hyperlink" Target="file:///II_Les%20fondements%20d&apos;une%20vraie%20autonomie%20chez%20le%20jeune%20enfant.wmv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Juego-Actividad-Pensamiento%20el%20primer%20a&#241;o.avi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IV_Les%20fondements%20d&apos;une%20vraie%20autonomie%20chez%20le%20jeune%20enfant.wmv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Moverse%20en%20libertad.avi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79280" y="1341360"/>
            <a:ext cx="878544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Aproximación á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Metodoloxía Pikler 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de Educación Infant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79280" y="5229000"/>
            <a:ext cx="6400800" cy="119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8080"/>
                </a:solidFill>
                <a:latin typeface="Arial"/>
              </a:rPr>
              <a:t>Elena Herrán Izagir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8080"/>
                </a:solidFill>
                <a:latin typeface="Arial"/>
              </a:rPr>
              <a:t>CAF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808080"/>
                </a:solidFill>
                <a:latin typeface="Arial"/>
              </a:rPr>
              <a:t>CIFP Compostela, 3, 4 y 5 de septiembre de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3er. principio Pikler-Lóc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111564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lnSpc>
                <a:spcPct val="107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Calibri"/>
              </a:rPr>
              <a:t>El niño necesita constante ayuda para tomar progresiva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Calibri"/>
              </a:rPr>
              <a:t>concienci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Calibri"/>
              </a:rPr>
              <a:t> de sí mismo y de su entorno, de acuerdo con su nivel de desarro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4º principio Pikler-Lóc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103320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lnSpc>
                <a:spcPct val="107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Calibri"/>
              </a:rPr>
              <a:t>El resultado de la aplicación de los principios anteriores es un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Calibri"/>
              </a:rPr>
              <a:t>buen estado salud físic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Calibri"/>
              </a:rPr>
              <a:t> en el niño, a la vez que puede considerarse su or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50560" y="2430360"/>
            <a:ext cx="871380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Descubrir el </a:t>
            </a:r>
            <a:r>
              <a:rPr b="0" lang="es-E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ropio cuerpo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descubrir los </a:t>
            </a:r>
            <a:r>
              <a:rPr b="0" lang="es-ES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objetos del entor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50560" y="2430360"/>
            <a:ext cx="871380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Desarrollo motor y postural 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autónom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5" name="Objeto 2"/>
          <p:cNvGraphicFramePr/>
          <p:nvPr/>
        </p:nvGraphicFramePr>
        <p:xfrm>
          <a:off x="36360" y="189000"/>
          <a:ext cx="9071280" cy="52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6" name="Objeto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60" y="189000"/>
                    <a:ext cx="9071280" cy="52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7" name="Objeto 3"/>
          <p:cNvGraphicFramePr/>
          <p:nvPr/>
        </p:nvGraphicFramePr>
        <p:xfrm>
          <a:off x="36360" y="260280"/>
          <a:ext cx="9071280" cy="51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8" name="Objeto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60" y="260280"/>
                    <a:ext cx="9071280" cy="51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50560" y="2430360"/>
            <a:ext cx="871380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l juego lib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ensando el juego lib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147600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hemos vis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condiciones tie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uáles son sus fases más importan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50560" y="2430360"/>
            <a:ext cx="871380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l arte del cuid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ensando el cuid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147600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hemos vis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condiciones tie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coreograf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mano de la educad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147600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Imagen 1" descr=""/>
          <p:cNvPicPr/>
          <p:nvPr/>
        </p:nvPicPr>
        <p:blipFill>
          <a:blip r:embed="rId1"/>
          <a:stretch/>
        </p:blipFill>
        <p:spPr>
          <a:xfrm>
            <a:off x="2816280" y="2319480"/>
            <a:ext cx="290808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147600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Imagen 2" descr=""/>
          <p:cNvPicPr/>
          <p:nvPr/>
        </p:nvPicPr>
        <p:blipFill>
          <a:blip r:embed="rId1"/>
          <a:stretch/>
        </p:blipFill>
        <p:spPr>
          <a:xfrm>
            <a:off x="1763640" y="2349360"/>
            <a:ext cx="579780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50560" y="2430360"/>
            <a:ext cx="871380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Del biberón a la autonom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ensando la alim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47600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hemos vis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condiciones tie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placer de comer y hacerlo autónoma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50560" y="2430360"/>
            <a:ext cx="871380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l baño y el vest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ensando el ba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147600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hemos vis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condiciones tie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es lo más importan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50560" y="2430360"/>
            <a:ext cx="871380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l cambio de pañ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ensando el cambio de pañ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147600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hemos vis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condiciones tie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es lo más importan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50560" y="2349000"/>
            <a:ext cx="8713800" cy="25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Las condiciones físicas y humanas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de Lócz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1187280" y="1815840"/>
            <a:ext cx="749952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rganización de los grupos y unidades de v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trabajo en equ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observación de los niñ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trabajo con los pad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olver a empez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8000" y="917280"/>
            <a:ext cx="871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Reflexiones fin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1403280" y="2852640"/>
            <a:ext cx="65534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has senti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Esperaba aprender es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has aprendi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147600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Imagen 2" descr=""/>
          <p:cNvPicPr/>
          <p:nvPr/>
        </p:nvPicPr>
        <p:blipFill>
          <a:blip r:embed="rId1"/>
          <a:stretch/>
        </p:blipFill>
        <p:spPr>
          <a:xfrm>
            <a:off x="2050920" y="2487600"/>
            <a:ext cx="548172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ítulo 1"/>
          <p:cNvSpPr/>
          <p:nvPr/>
        </p:nvSpPr>
        <p:spPr>
          <a:xfrm>
            <a:off x="684360" y="1989000"/>
            <a:ext cx="800244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6000" spc="-1" strike="noStrike">
                <a:solidFill>
                  <a:srgbClr val="000000"/>
                </a:solidFill>
                <a:latin typeface="Arial"/>
              </a:rPr>
              <a:t>Eskerrik asko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147600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Imagen 1" descr=""/>
          <p:cNvPicPr/>
          <p:nvPr/>
        </p:nvPicPr>
        <p:blipFill>
          <a:blip r:embed="rId1"/>
          <a:stretch/>
        </p:blipFill>
        <p:spPr>
          <a:xfrm>
            <a:off x="3492360" y="1924200"/>
            <a:ext cx="234000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147600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Imagen 1" descr=""/>
          <p:cNvPicPr/>
          <p:nvPr/>
        </p:nvPicPr>
        <p:blipFill>
          <a:blip r:embed="rId1"/>
          <a:stretch/>
        </p:blipFill>
        <p:spPr>
          <a:xfrm>
            <a:off x="2114640" y="1773360"/>
            <a:ext cx="49784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50560" y="27903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overse en libertad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ensando el movi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47600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hemos vis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condiciones tie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uáles son los </a:t>
            </a:r>
            <a:r>
              <a:rPr b="0" lang="es-E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principio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Pikler-Lócz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1er. principio Pikler-Lóc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1476360" y="2709360"/>
            <a:ext cx="640872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7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Calibri"/>
              </a:rPr>
              <a:t>La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Calibri"/>
              </a:rPr>
              <a:t>actividad autónoma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Calibri"/>
              </a:rPr>
              <a:t>proactiva del bebé y niño pequeño es especialmente valio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2º principio Pikler-Lóc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042560" y="2680920"/>
            <a:ext cx="7210440" cy="27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7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Calibri"/>
              </a:rPr>
              <a:t>La estabilidad de las </a:t>
            </a:r>
            <a:r>
              <a:rPr b="1" lang="es-ES" sz="3000" spc="-1" strike="noStrike">
                <a:solidFill>
                  <a:srgbClr val="000000"/>
                </a:solidFill>
                <a:latin typeface="Arial"/>
                <a:ea typeface="Calibri"/>
              </a:rPr>
              <a:t>relaciones personales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Calibri"/>
              </a:rPr>
              <a:t> adulto-niño y, sobre todo, la relación privilegiada de cada niño con su educadora de referencia le proporciona un firme sustento emocion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1T10:32:42Z</dcterms:created>
  <dc:creator>.</dc:creator>
  <dc:description/>
  <dc:language>en-US</dc:language>
  <cp:lastModifiedBy>Usuario</cp:lastModifiedBy>
  <dcterms:modified xsi:type="dcterms:W3CDTF">2014-08-05T10:40:30Z</dcterms:modified>
  <cp:revision>82</cp:revision>
  <dc:subject/>
  <dc:title>Diapositiva 1</dc:title>
</cp:coreProperties>
</file>