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964-FC49-4902-98ED-5CC34B8E20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Marcador de número de diapositiva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41F-0456-4AEC-9B61-BA97DBBCAB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A055-7585-443C-8977-BD85F39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71EF-AF22-4F51-98A5-AA80097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9CEC-F5E4-41A4-9F03-635D2FE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EF86-6162-4CD5-9EDB-9C04C10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10794-CF63-4939-85A4-2F1F4E5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F68C-5CB2-468E-B6EF-3DD116F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DD7B4-9BC8-4F9C-973D-78FF0F8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BAD46-90D9-45D7-9255-A0D1C549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ABC1-6338-454C-9661-6FA0455F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77-866C-4CE6-A978-85004F1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AB7-4512-4752-8EB3-5D8AD2C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F0-2614-4DAC-9895-E35AA7AF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0A4-9F88-45BC-A8F6-BA68325C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A1A-AEF8-4E80-958C-8E6BF1D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844-580F-413E-BD35-C5EA5462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D3E-ED5B-4367-9329-430CAF6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941-0CC8-425A-AC54-DE3E414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23C-5E5E-4BD1-8430-20288DD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150-BC6E-4D00-B1BB-80827C3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52E-01CF-41D4-97F8-4EA2A71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F3D-0CC2-4338-8C8E-E470A291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772-6AD5-41AC-BC9B-F35CCEA7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E1EE-96B2-4B13-888E-512C2BE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5700-25FB-4EDF-AE59-23B105F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6F76-C16E-4C9A-A7C6-433FEAE3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F2B-3F63-4490-BD17-585B0B3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B893-60B1-4217-8F54-5645121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A169-311E-44AE-B00D-839A1EF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243-33F1-40B4-8651-465A8D73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B815-5AC8-4742-A1DA-4E66756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B52-CB5B-440F-B682-B11E4E6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7F15-8B9C-4968-BFED-ABDC8A07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BDE-C12C-45C1-BC54-A98C9283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4E8D-86D4-4996-861C-9CD4DE42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8E2C-71A0-400E-9C00-1BE69AC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8F43-F8CF-4324-B28A-1372E00B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AF3F-1810-42BB-A193-B4E97CC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DF8E-A5EF-4D80-B6C3-9B84800D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22ED-D461-4E00-9A5D-6C88464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5BC4-6D02-48FB-AC1C-8AE9B78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47FD-4941-40DA-BAE1-C33053D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DFF3-3040-4340-8281-3BBFCC6F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FEF3-BC69-4F95-A22C-95B95533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F564-F27C-461C-A245-5DF67725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DBAB-3E3F-4014-BFF1-7F75041E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190E-0AF5-46A9-9B3D-C682534E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357E-A391-479C-91A7-1104187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CBA6-6F9D-4AEA-B3CB-4ADCCB9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05F8-2B37-4764-BA4C-23AE5D41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4B2F-8CE9-49D6-9F6E-2258C69B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FAD1-D65C-4E45-B8C1-4F5A1D8D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F7D2-1536-423C-8575-9F248FC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F313-26D8-4B3A-8020-B0DAE9B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7843-6D45-4E31-95F7-9FAFC3AB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5F18-F126-461C-8CAC-AAA9C0A0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1BE4-B431-4212-BD92-E7AB0387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94E0-CAC3-4615-8993-7AB38621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46CB-DE3E-4B71-A07A-B9807FD4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9116-2E01-436F-8149-210FCFE3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4765-BA81-45E3-BD86-8F51B8D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9489-B26F-4C3B-BF0E-4791F55D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95D1-A441-4C43-BC3D-F71178FF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6041-C57E-4A3B-9017-D0B1140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B59F-8889-4396-965D-A536196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9EC6-810E-4355-B114-303F874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16F3-8CE7-4C84-8E29-8EAB982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833D-F5A4-45B2-9792-87422607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ABB0C-894B-4BC9-B2E6-D5A5F44C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31C3-6D4A-41AD-A6AB-EB588EB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4A1D6-9445-40EE-BD43-EBA373EB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F60C-64ED-4C83-A1B7-D5472BE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6C3FC-0B75-4025-9068-E330F67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425-A924-43FC-BEA6-17CBAC657E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9F7-6771-4331-A561-D0C7A706D2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77080" y="6605640"/>
            <a:ext cx="43164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78D-A5F4-4558-966B-9FA8B2FDB8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588000" y="333360"/>
            <a:ext cx="21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16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4356000" y="2276640"/>
            <a:ext cx="0" cy="2447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524-5EF8-4826-BA29-834C40E70E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7"/>
          <p:cNvSpPr/>
          <p:nvPr/>
        </p:nvSpPr>
        <p:spPr>
          <a:xfrm>
            <a:off x="4859280" y="3068640"/>
            <a:ext cx="0" cy="57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5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A8A-87BF-4F0F-B713-334F39E2C5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7"/>
          <p:cNvSpPr/>
          <p:nvPr/>
        </p:nvSpPr>
        <p:spPr>
          <a:xfrm>
            <a:off x="6443640" y="260280"/>
            <a:ext cx="0" cy="43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89120" y="333000"/>
            <a:ext cx="28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559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8675640" y="6602400"/>
            <a:ext cx="432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A43-20D1-46D0-A9F7-5966FE474E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_Les%20fondements%20d&apos;une%20vraie%20autonomie%20chez%20le%20jeune%20enfant.wmv" TargetMode="External"/><Relationship Id="rId2" Type="http://schemas.openxmlformats.org/officeDocument/2006/relationships/hyperlink" Target="file:///II_Les%20fondements%20d&apos;une%20vraie%20autonomie%20chez%20le%20jeune%20enfant.wm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Juego-Actividad-Pensamiento%20el%20primer%20a&#241;o.avi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IV_Les%20fondements%20d&apos;une%20vraie%20autonomie%20chez%20le%20jeune%20enfant.wm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overse%20en%20libertad.avi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proximación á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etodoloxía Pikler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 Educación Infan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79280" y="522900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Elena Herrán Izagi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A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CIFP Compostela, 3, 4 y 5 de septiembre de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1564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niño necesita constante ayuda para tomar progresiv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concie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de sí mismo y de su entorno, de acuerdo con su nivel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4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332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El resultado de la aplicación de los principios anteriores es u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buen estado salud fís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 en el niño, a la vez que puede considerarse su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el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pio cuerp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ubrir los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jetos del ent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arrollo motor y postur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to 2"/>
          <p:cNvGraphicFramePr/>
          <p:nvPr/>
        </p:nvGraphicFramePr>
        <p:xfrm>
          <a:off x="36360" y="189000"/>
          <a:ext cx="907128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89000"/>
                    <a:ext cx="907128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Objeto 3"/>
          <p:cNvGraphicFramePr/>
          <p:nvPr/>
        </p:nvGraphicFramePr>
        <p:xfrm>
          <a:off x="36360" y="260280"/>
          <a:ext cx="9071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t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60280"/>
                    <a:ext cx="9071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juego lib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juego li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fases más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arte del cuid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ore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no de la educ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Imagen 1" descr=""/>
          <p:cNvPicPr/>
          <p:nvPr/>
        </p:nvPicPr>
        <p:blipFill>
          <a:blip r:embed="rId1"/>
          <a:stretch/>
        </p:blipFill>
        <p:spPr>
          <a:xfrm>
            <a:off x="2816280" y="2319480"/>
            <a:ext cx="2908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magen 2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97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l biberón a la aut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la ali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lacer de comer y hacerlo autónom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baño y el vest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2430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mbio de pañ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cambio de pa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es lo más import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349000"/>
            <a:ext cx="87138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 condiciones físicas y human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e Lóc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187280" y="1815840"/>
            <a:ext cx="7499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zación de los grupos y unidad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bservación de los ni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abajo con los p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ver a empe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000" y="91728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flexiones fi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3280" y="2852640"/>
            <a:ext cx="6553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sent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Esperaba aprender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as aprendi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Imagen 2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481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ítulo 1"/>
          <p:cNvSpPr/>
          <p:nvPr/>
        </p:nvSpPr>
        <p:spPr>
          <a:xfrm>
            <a:off x="684360" y="1989000"/>
            <a:ext cx="80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6000" spc="-1" strike="noStrike">
                <a:solidFill>
                  <a:srgbClr val="000000"/>
                </a:solidFill>
                <a:latin typeface="Arial"/>
              </a:rPr>
              <a:t>Eskerrik ask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Imagen 1" descr=""/>
          <p:cNvPicPr/>
          <p:nvPr/>
        </p:nvPicPr>
        <p:blipFill>
          <a:blip r:embed="rId1"/>
          <a:stretch/>
        </p:blipFill>
        <p:spPr>
          <a:xfrm>
            <a:off x="3492360" y="1924200"/>
            <a:ext cx="2340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Imagen 1" descr=""/>
          <p:cNvPicPr/>
          <p:nvPr/>
        </p:nvPicPr>
        <p:blipFill>
          <a:blip r:embed="rId1"/>
          <a:stretch/>
        </p:blipFill>
        <p:spPr>
          <a:xfrm>
            <a:off x="2114640" y="1773360"/>
            <a:ext cx="4978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90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erse en liberta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ndo el mov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76000" y="2349360"/>
            <a:ext cx="721044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hemos vi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condiciones t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ikler-Lócz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er.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76360" y="270936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actividad autóno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Calibri"/>
              </a:rPr>
              <a:t>proactiva del bebé y niño pequeño es especialmente val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º principio Pikler-Ló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680920"/>
            <a:ext cx="721044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7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La estabilidad de las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relaciones persona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Calibri"/>
              </a:rPr>
              <a:t> adulto-niño y, sobre todo, la relación privilegiada de cada niño con su educadora de referencia le proporciona un firme sustento emo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0:32:42Z</dcterms:created>
  <dc:creator>.</dc:creator>
  <dc:description/>
  <dc:language>en-US</dc:language>
  <cp:lastModifiedBy>Usuario</cp:lastModifiedBy>
  <dcterms:modified xsi:type="dcterms:W3CDTF">2014-08-05T10:40:30Z</dcterms:modified>
  <cp:revision>82</cp:revision>
  <dc:subject/>
  <dc:title>Diapositiva 1</dc:title>
</cp:coreProperties>
</file>