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413-A93D-44AF-8E0F-4BDA801E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C28-BC8F-447E-A223-01860E83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CE5-67C5-4183-AC2B-91BC8B20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247-6EEB-457D-BC29-04475055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E225-17BD-4A9F-AB65-8551B1C7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CDAE-305B-4C95-B841-31F43DF2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AECD-D0FB-4237-8DFB-B0D2E9FB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2129-2ABF-4D57-AEA6-C938248F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7D5D-2CE2-44D7-8143-F81177E4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5500-EB85-4370-A1DD-FAD8FEB4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1FC2-32F3-4543-B7C1-BEDD8D1B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31D-982C-4F7F-978A-D7BB1CB4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6AC6-8C82-4A73-9242-BFDC73AC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BE82-BBF6-4E44-883B-2115106D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DF68-6575-4981-98D5-7C38CD8A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5E54-D116-4599-812C-79C04AF5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BBD4-3A7A-4555-BF7B-751D4EAE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CAD-B3FA-4008-9403-798648ED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AA7-77E4-4CBB-93A9-7C4AFABF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FB2-8720-47C6-87B2-C07701F9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23E-49A7-4D08-AC8F-EC4B762F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098-E130-4D44-BECB-F582540A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63B-0D80-441E-A067-EB4490A3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E65-3EC5-4CF6-880D-AB03E61B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84E5-259C-4337-9C54-F7C8F6702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0BCE-1D62-41A6-B42B-436C7557E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Comic Sans MS"/>
              </a:rPr>
              <a:t>El texto argumentativo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gunda pa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obje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35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argumentar hay que saber presentar objeciones ante los argumentos de los demás, saber expresar nuestro desacuerdo y explicar por qu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Es una pena que no dejen ir a los perros a la mayoría de las playas. La gente que está de acuerdo cree que molestan y ensucian; pero no tienen en cuenta que hay personas que también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molestan, y mucho (gritan, ponen la radio a todo volumen, juegan a la pelota sin importarles si dan a alguien), y ensuciar no dig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Dar y escuchar opinio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45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ando damos opiniones, o cuando escuchamos las de los demás, y cuando entramos en razonamientos, estamos argument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hacerlo nos aparecen diversas posibilidades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Cómo expresarnos cuando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  que dice otra persona es cierto, pero no en su totalidad: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onces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corregir, concretar algo que hemos dicho: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orrección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ejemplificac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destacar lo important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énfa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estamos seguros de algo: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hipótesi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nemos que concretar la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alida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bemos indicar l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aus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onsecuenci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explicar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por qué no estamos de acuerd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conces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280360" cy="468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concesión es una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ntraargumentación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Consiste en aceptar que una persona tiene razón en algún aspecto, pero se olvida de algo para nosotros fundament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Aunque es cierto que .......  eso n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Es verdad que ... per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Hay que reconocer que tienen parte de razón, per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Estoy de acuerdo con los que dicen que ..., sin embarg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Muchas personas dicen que ... pero no se dan cuenta de que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Corrección y ejemplific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060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odemos corregir algo que hemos escrito justo antes, concretarlo, matizarlo y detallarlo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1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Los entrenadores de fútbol tienen que tener en cuenta muchas cosas;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mejor dicho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, mu-chísimas cosas </a:t>
            </a:r>
            <a:r>
              <a:rPr b="0" lang="es-ES" sz="2800" spc="-1" strike="noStrike">
                <a:solidFill>
                  <a:srgbClr val="008000"/>
                </a:solidFill>
                <a:latin typeface="Comic Sans MS"/>
              </a:rPr>
              <a:t>[y damos una lista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Tienen que tener en cuenta muchas cosas,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por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ejemplo</a:t>
            </a:r>
            <a:r>
              <a:rPr b="0" lang="es-ES" sz="2800" spc="-1" strike="noStrike">
                <a:solidFill>
                  <a:srgbClr val="008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El énfa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ando damos nuestro punto de vista sobre algo, tenemos que tener un enfoque personal. Damos importancia a ciertas cosas, y no se la damos a otr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A la hora d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hacer un ejercicio físico es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muy importante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hacer ejercicios de calentamiento.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Incluso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hay estudios que demuestran que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Hasta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quien es muy listo se equivoca a veces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hipóte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a suposición nos permite dar razones, pues nos apoyamos en los efectos previstos, y podemos tener en cuenta si son positiv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2696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Supongamos que todos hiciéramos lo que nos diera la gana. ¿Que ocurriría? Pues que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[...]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por eso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[..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fina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chas veces hacemos cosas teniendo en cuenta un fin, por ello, cuando argumentamos, podemos relacionar ideas con los fines que nos propon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27000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Si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queremos que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haya un mejor clima en clas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[observa que estamos planteando una condición, y una finalidad en la que todos estamos de acuerdo]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entonces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[consecuencia]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todos deberíamos poner algo de nuestra part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causa y la consecuenc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989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hablar de una causa, el nexo más usual es la conjunción "porque“, pero hay otras posibilidades: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ya que, dado que, pues, puesto que, visto qu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s consecuencias se relacionan con las causas; es como el reverso de una medalla. Los conectores que expresan consecuencia son: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por tanto, por ello, por eso, en consecuenci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16:08:15Z</dcterms:created>
  <dc:creator>Guillermo</dc:creator>
  <dc:description/>
  <dc:language>en-US</dc:language>
  <cp:lastModifiedBy>Guillermo</cp:lastModifiedBy>
  <dcterms:modified xsi:type="dcterms:W3CDTF">2014-07-19T13:06:36Z</dcterms:modified>
  <cp:revision>10</cp:revision>
  <dc:subject/>
  <dc:title>El texto argumentativo</dc:title>
</cp:coreProperties>
</file>