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3D6-7818-4363-A7C6-EB54E472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6A2-9779-416B-B5B8-A391BFEC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8E6-2A3F-4303-AAE5-AFCC49B5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D18-4B03-4A61-9A79-AA241B6C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E36D-A2A3-4766-B2DA-B8C58CB1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03C-A673-4C6A-85E2-DF47D621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0194-18A8-4811-9B24-5392722E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0119-47E2-42AD-97A0-2BF34589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9BEB-0186-4172-B6AC-6E78AA28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DD4D-566E-4FBF-8FB0-3C9AAE79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D6C2-F294-44B3-9C6A-4F60ED9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9BA-CBE4-407D-9AA2-760D552D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8921-33D9-4BAF-A87D-7D24E15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C3E0-8CD4-4574-9693-5BCB0C2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DC6D-775A-4781-BD1E-1DF0CCB6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BF1E-ED4F-4C5D-B043-2D265C4A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FA11-7E8B-46DA-BE05-BA47DC9D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6F7-7104-482D-A75B-FD5C36D6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30C-DBB8-4395-B18B-ADC8BE24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50B-F383-4150-BA8E-A3586A5A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406-4C2B-44DC-96D3-99B4A29B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695-A6C8-45C5-914E-6B222ED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85B-FB44-452C-AF03-21DABAFD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38C-F417-4887-A430-A8596127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8B7A0E-B475-44BE-A5AC-EF9D32038FA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34C460-86F9-4E68-B698-F3873224CB3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rimer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Comic Sans MS"/>
              </a:rPr>
              <a:t>REDACCIÓN DE TEXTOS ARGUMENTATIVO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s frecuente el empleo de la primera persona gramatical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yo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nosotros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, dado que se expresa una opinión prop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Predominan los sustantivos abstractos.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Uso de verbos que expresan voluntad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gustar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; verbos de dicción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deci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, y de pensamiento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cree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Con frecuencia se emplea la interrogación retóric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mpleo de adjetivos valorativos y oraciones larga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argument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6360" cy="3313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na argumentación es un texto que tiene como fin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ersuadir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al destinatario del punto de vista que se tiene sobre un asunto,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onvencerlo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de la veracidad o falsedad de una teoría, aportando en ambos casos razones o argument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¿Cuándo y por qué argumentamos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textos argumentativos son de los más empleados por estudiantes, profesores, científicos, político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argumentación es la base del cono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o sería posible concebir una sociedad democrática sin que las personas pudiéramos defender nuestras opin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enemos que saber tratar y resolver conflicto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¿Qué propiedades textuales tienen los textos argumentativos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Adecuac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s muy importante conocer el contexto comunicativo y el tipo de argumentación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las ideas planteadas y los argumentos deben estar de acuerdo con un orden lógico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s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n el texto argumentativo es donde  se hace más necesario el empleo de conectores y organizadores textual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STRUCTURA DEL TEXTO ARGUMENTATIV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2349360"/>
          <a:ext cx="8424720" cy="3418200"/>
        </p:xfrm>
        <a:graphic>
          <a:graphicData uri="http://schemas.openxmlformats.org/drawingml/2006/table">
            <a:tbl>
              <a:tblPr/>
              <a:tblGrid>
                <a:gridCol w="2664000"/>
                <a:gridCol w="2976480"/>
                <a:gridCol w="278424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SI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UERPO DE LA ARGUMENTAC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CLUS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</a:tr>
              <a:tr h="26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Idea funda-mental que se defiend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Debe formular-se de forma cla-r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ción de argu-mentos para de-fender la idea planteada o refutar ideas contrarias a ell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ierre del texto, tras el razona-miento lógico de-rivado de la argu-mentación prece-dent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200"/>
            </a:br>
            <a:r>
              <a:rPr b="0" lang="es-ES" sz="2800" spc="-1" strike="noStrike">
                <a:solidFill>
                  <a:srgbClr val="feec94"/>
                </a:solidFill>
                <a:latin typeface="Comic Sans MS"/>
              </a:rPr>
              <a:t>El argumento de autoridad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85988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e recurre a testimonios o citas de personas, célebres en muchos casos, o especialistas sobre el tema en cuestión: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58920" y="3933720"/>
          <a:ext cx="7056360" cy="2087640"/>
        </p:xfrm>
        <a:graphic>
          <a:graphicData uri="http://schemas.openxmlformats.org/drawingml/2006/table">
            <a:tbl>
              <a:tblPr/>
              <a:tblGrid>
                <a:gridCol w="7056360"/>
              </a:tblGrid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Según reconocidos especialistas de nutrición de todo el mundo</a:t>
                      </a:r>
                      <a:r>
                        <a:rPr b="0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, la dieta mediterránea, basada en el consumo de frutas, verduras, pescado, y aceite de oliva, es la mejor para llevar una vida sana y equilibr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0" lang="es-ES" sz="3200" spc="-1" strike="noStrike">
                <a:solidFill>
                  <a:srgbClr val="feec94"/>
                </a:solidFill>
                <a:latin typeface="Comic Sans MS"/>
              </a:rPr>
              <a:t>El argumento de la mayorí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rgumento muy empleado en el que se recurre al sentir de la mayoría de la gente o de la socie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Todo el mundo piensa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 que la idea puede funcionar.</a:t>
            </a: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argumento de la experienci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basa en el empleo de los ejemplos, basados en la experiencia, para ilustrar lo que se quiere demostrar o de defender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Yo misma, y algunos de mis familiares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, lo hemos probado y los resultados fueron excelente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ORDEN DE LOS ARGUMENTO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vitar las divagaciones y los juegos de palab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Utilizar párrafos para distribuir y organizar cada uno de los argument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Relacionar los distintos párrafos con conectores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otar el texto de unidad y sentido global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07:59:25Z</dcterms:created>
  <dc:creator>Guillermo</dc:creator>
  <dc:description/>
  <dc:language>en-US</dc:language>
  <cp:lastModifiedBy>Guillermo</cp:lastModifiedBy>
  <dcterms:modified xsi:type="dcterms:W3CDTF">2014-07-19T12:44:52Z</dcterms:modified>
  <cp:revision>12</cp:revision>
  <dc:subject/>
  <dc:title>El texto argumentativo</dc:title>
</cp:coreProperties>
</file>