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127-E7A2-415A-B70E-F0E6412E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4C7-41B5-4DEC-B7B2-5635C92E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8C2-19BA-44A1-84E1-256DF3C9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BBC-E567-4D5C-8F08-FA0CF5AC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33CE-1C97-4B1B-B769-8EABAFE2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E3A9-0A10-4D44-9069-D8880C9C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3B22-5270-40B6-A817-1A5EA216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126B-A3AE-447F-AAA5-3FE3077C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86EB-9BAF-4AB8-B2B1-5E1B4287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0B47-C976-4A99-9F7C-FE5BBB6E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7E31-F895-4BC3-8A7D-D358806F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458-956D-4C5A-9DC3-E072F524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5EC6-45B1-426A-93FB-513F7965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9959-2645-4CCE-8623-8A61BA5E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9710-E079-4D26-9D03-D81988A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7CDD-4432-4735-887D-467C4700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EDDB-0000-4C54-A6FE-7453B54A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55A-2705-4CB2-A3DD-D1FD5C54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3F5-C0F6-4F2F-855E-69458284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B9C-C5EC-44B2-99A0-58DB810D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CA5-862F-49EF-8345-CDA8B305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9A8-8113-4F3F-B1D4-D1FD202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836-8E7A-4389-BBC9-57AF34C7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B30-16D5-4E29-BE51-D3007347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8BA2E-DABF-44C4-92E7-B68C9659F8C2}" type="slidenum">
              <a:rPr b="0" lang="es-E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D9AF36-76A7-4E56-8A00-BD921D3F9EA4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ODALIDADES ORACIONALE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11280" y="2708280"/>
          <a:ext cx="8235360" cy="2733480"/>
        </p:xfrm>
        <a:graphic>
          <a:graphicData uri="http://schemas.openxmlformats.org/drawingml/2006/table">
            <a:tbl>
              <a:tblPr/>
              <a:tblGrid>
                <a:gridCol w="8235360"/>
              </a:tblGrid>
              <a:tr h="3520080">
                <a:tc>
                  <a:txBody>
                    <a:bodyPr lIns="90000" rIns="90000" tIns="140760" bIns="4680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demos clasificar las oraciones según la modalidad, es decir, según la actitud del hablante, tanto en relación con el oyente como respecto a lo que dice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ODALIDAD: DEFINICIÓN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11280" y="1628640"/>
          <a:ext cx="8235720" cy="4653000"/>
        </p:xfrm>
        <a:graphic>
          <a:graphicData uri="http://schemas.openxmlformats.org/drawingml/2006/table">
            <a:tbl>
              <a:tblPr/>
              <a:tblGrid>
                <a:gridCol w="8235720"/>
              </a:tblGrid>
              <a:tr h="5190480">
                <a:tc>
                  <a:txBody>
                    <a:bodyPr lIns="90000" rIns="90000" tIns="140760" bIns="4680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demos clasificar las oraciones según la “modalidad”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modalidad indica la actitud del hablante, tanto en relación con el oyente como respecto a lo que dice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cisamente, cuando hablamos del “modo” en los verbos (indicativo, subjuntivo, imperativo), también nos referimos a la actitud del hablante.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ón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0600" y="1447920"/>
          <a:ext cx="8453520" cy="50292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502920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Verdana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unci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afirmativa o negativa): el hablante informa sobre algo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á lloviend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llamada también </a:t>
                      </a:r>
                      <a:r>
                        <a:rPr b="0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sider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: el hablante expresa un deseo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jalá llovies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lam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xpresa una emoción. Por ejemplo,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¡Qué bien! ¡Gracias a Dios que llueve!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bi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 emisor expresa duda. Por ejemplo,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Quizá llueva mañana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 emisor realiza una pregunt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hor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xpresa orden o mandat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50000">
                          <a:srgbClr val="559426"/>
                        </a:gs>
                        <a:gs pos="100000">
                          <a:srgbClr val="27441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es de interrogativa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484280"/>
          <a:ext cx="8453520" cy="50418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504180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Verdana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direc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s la forma de preguntar más usual. Por ejemplo,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Está lloviendo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indirec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la pregunta se plantea dentro de una oración subordinada, dependiendo de un verbo que indica entendimiento, sentido o lengua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No sé si lloverá esta tarde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tota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 la que se responde con sí o no: por ejemplo,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“¿Has estudiado mucho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parcial: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 la que pregunta por circunstancias: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A qué hora llegas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59426"/>
                        </a:gs>
                        <a:gs pos="100000">
                          <a:srgbClr val="27441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hortativa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484280"/>
          <a:ext cx="8453520" cy="48240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4824000">
                <a:tc>
                  <a:txBody>
                    <a:bodyPr lIns="90000" rIns="90000" tIns="81000" bIns="46800" anchor="t">
                      <a:noAutofit/>
                    </a:bodyPr>
                    <a:p>
                      <a:pPr marL="90360" algn="ctr">
                        <a:lnSpc>
                          <a:spcPct val="123000"/>
                        </a:lnSpc>
                        <a:spcAft>
                          <a:spcPts val="1687"/>
                        </a:spcAft>
                        <a:tabLst>
                          <a:tab algn="l" pos="0"/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resan consejo, ruego, o mandato.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indicar ruego, consejo o sugerencia podemos emplear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icional simpl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térito imperfecto de indica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térito imperfecto de subjun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solamente en –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 -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. Esta última posibilidad es muy formal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bía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habérselo dich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e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importaría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allart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Quisiera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edirte un favor.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Expresión de la orden o mandat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50920" y="1484280"/>
          <a:ext cx="8717040" cy="4995720"/>
        </p:xfrm>
        <a:graphic>
          <a:graphicData uri="http://schemas.openxmlformats.org/drawingml/2006/table">
            <a:tbl>
              <a:tblPr/>
              <a:tblGrid>
                <a:gridCol w="8717040"/>
              </a:tblGrid>
              <a:tr h="49957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da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órdenes o prohibiciones) pueden tener forma afirmativa o negativ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imperativo solo tiene dos forma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en segunda persona, y solamente en afirmaciones)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tú) –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tad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vosotros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otras personas, o con negación, empleamos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e de subjun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ígam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3ª persona singular, usted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lo haga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segunda persona singular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iéntese a 100ºC durante 10 m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3ª singular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resión de la orden o mandato I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060640"/>
          <a:ext cx="8309160" cy="3960360"/>
        </p:xfrm>
        <a:graphic>
          <a:graphicData uri="http://schemas.openxmlformats.org/drawingml/2006/table">
            <a:tbl>
              <a:tblPr/>
              <a:tblGrid>
                <a:gridCol w="8309160"/>
              </a:tblGrid>
              <a:tr h="39603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 posible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truir oraciones de valor imperativo con el futur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¡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rá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 que se te dice!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, e incluso el presente: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ú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ce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o y no se hable má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mbién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 puede emplear el infini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oraciones exhortativas dirigidas a un público indeterminado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Lav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agua fría.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 congel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spués de haber descongelad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resión de la orden o mandato II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3000" y="1757520"/>
          <a:ext cx="8453160" cy="4551120"/>
        </p:xfrm>
        <a:graphic>
          <a:graphicData uri="http://schemas.openxmlformats.org/drawingml/2006/table">
            <a:tbl>
              <a:tblPr/>
              <a:tblGrid>
                <a:gridCol w="8453160"/>
              </a:tblGrid>
              <a:tr h="45511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rece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infinitivo en oraciones en situaciones coloquiales, precedido de la preposición </a:t>
                      </a:r>
                      <a:r>
                        <a:rPr b="1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¡Niños,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 dormi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!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mbién podemos emplear diversas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frasis modales de obligación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con infinitivo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ienes que lav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s plato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y que recoge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a mes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bes hace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s deberes antes de sali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s de comportarte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ejo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9:38:06Z</dcterms:created>
  <dc:creator>Guillermo</dc:creator>
  <dc:description/>
  <dc:language>en-US</dc:language>
  <cp:lastModifiedBy>Guillermo</cp:lastModifiedBy>
  <dcterms:modified xsi:type="dcterms:W3CDTF">2014-07-19T11:54:48Z</dcterms:modified>
  <cp:revision>28</cp:revision>
  <dc:subject/>
  <dc:title>ADECUACIÓN Textos orales y escritos </dc:title>
</cp:coreProperties>
</file>