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AA9-7582-4B4D-BA6A-6B2FF4B5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614-1067-4B6F-B5C5-43631823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06B-1ABE-4773-9D35-8878D3F7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2AD-BD37-4596-A6B3-5FA8845D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A41-FA72-4DF9-A3C8-353965F3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1A56-ACBF-4382-A462-09A32DB7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0EE-BAB7-4065-8BBB-839B689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EB3-2CA7-424B-98F7-ABBED76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2EE-79FF-40A2-B6D7-A010287A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133-0C0E-42AA-B3C4-AFED6517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9CC0-D3DC-4685-A949-919EC4F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8E2-9316-4165-9B42-4C5C4A2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F78-F535-4483-A427-1DED793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FBA-66B8-41FA-ACCA-E08E51C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8826-7AAD-40AA-AC45-C681F8F6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E8C7-AC7A-4997-9094-7656DD5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1F40-C8FE-4381-922B-F0D0F3BE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681-AC33-40DD-900D-B46396C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A1E-669C-453E-A9D3-F7B8F8D3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106-944B-46E4-928E-4319A19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3C9-4878-457D-9276-F1DDA350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7D1-CC78-489B-A320-0F02C00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A61-13D9-45D3-BBD2-DF8065C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9B7-D5EA-416B-B8B2-B23EC4B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70B27F1-E77C-4604-A171-BC8C62F3F9AA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3E3C9E0-E82F-47D1-BDF6-D217C5BF9D84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EXPOSI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4720" y="1768320"/>
          <a:ext cx="9215280" cy="5035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54590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texto expositivo es un texto en el cual se presenta información sobre un determinado tema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 se pretende transmitir una opinión. Si se hace, entonces estamos ante un texto expositivo-argumentativ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domina la función representativa (también llamada “referencial”) del lenguaj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us características son la claridad, la precisión y la objetividad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124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ronológ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igue las pautas de una secuencia narrativa, presentando un proceso a lo largo del tiemp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recuencia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n la presentación de datos, es posible poner primero los aspectos más frecuentes o importantes, para luego pasar a indicar, en orden de frecuencia o importancia, el res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ntet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la exposición va de lo más particular a lo más general; se presenta una serie de datos o posibilidades para luego ofrecer generalizaciones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ste orden se denomina también “inductivo”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1835280"/>
          <a:ext cx="9577440" cy="554472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54472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aus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tos aspectos determinan otros, es decir, de ellos resultan consecu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mejanzas entre dos fenómenos. Puede ser útil para ejemplificar o aclara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traste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la inversa, señalamos las difer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ume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sentar los datos en una lista. Es una secuencia descriptiva.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Funcion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qué sirve una cosa, o una parte de esa 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blema-solu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te un problema dado, podemos señalar las soluciones que se han propuesto o llevado a cabo, sin tomar partid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1547640"/>
          <a:ext cx="9577440" cy="5896080"/>
        </p:xfrm>
        <a:graphic>
          <a:graphicData uri="http://schemas.openxmlformats.org/drawingml/2006/table">
            <a:tbl>
              <a:tblPr/>
              <a:tblGrid>
                <a:gridCol w="4464000"/>
                <a:gridCol w="5113440"/>
              </a:tblGrid>
              <a:tr h="13957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SU GRADO DE DIFICULTAD</a:t>
                      </a:r>
                      <a:r>
                        <a:rPr b="0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5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DIVULGATIV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público no es especializado. El lenguaje es sencillo, sin gran complicació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14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ESPECIALIZAD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úblico con conocimientos pre-vios en la materia. Lenguaje complicado, con tecnicismos propios de la materia tratada, fórmulas especiales, etc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0360" y="1835280"/>
          <a:ext cx="9217080" cy="4968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464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3408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ferenci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televis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elediari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radiofón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60360" y="1835280"/>
          <a:ext cx="9217080" cy="5400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500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SCR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36572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rabajo de investigac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bro de tex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rtículo informativo de un periód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nforme de procesos o resultad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cta de una reun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urrículum vita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visos informativ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claridad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claridad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ividir en párraf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ner subtítulos y emplear sistemas de enumeración (es decir, hacer list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cluir elementos gráficos: mapas, fotos, esquema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mplear un lenguaje adecuado, con oraciones brev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lantear aclaraciones y ejemplifica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tilizar los marcadores del discurso y conectores más conveni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288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precisió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precisión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n palabras monosémicas, es decir, de un solo significado. En textos científicos y técnicos aparecen los “tecnicismos”, palabras propias de una ciencia o técnic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xpresan muchas definiciones, para dejar claros los conceptos. Por ello, encontraremos muchas oraciones copulativas con el verbo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r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, que definirán los conceptos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7280" y="306360"/>
            <a:ext cx="9506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objetividad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7280" y="1908000"/>
          <a:ext cx="9433080" cy="515808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516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presentar objetividad, tengamos en cuenta qu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5292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los textos expositivos no se expresa la opinión del autor, ni sus gustos, sentimientos, o preferencias. Por el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. Hay pocos adjetivos, en general con valor especifica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 el modo indicativo, con valor intemporal (es decir, que vale para todo tiempo y lugar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utiliza la tercera persona, en oraciones de modalidad enunciativ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recurre con frecuencia a oraciones impersonales o de pasiva refleja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onectores y marcadores del discurso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4720" y="1768320"/>
          <a:ext cx="9215280" cy="4819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98496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ganización tex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34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gene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primer lugar, en segundo lugar, en resumen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espaci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el exterior, en el interior, dentro, fuera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tempo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imero, luego, después, mientras, al final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4720" y="1768320"/>
          <a:ext cx="9072720" cy="5073840"/>
        </p:xfrm>
        <a:graphic>
          <a:graphicData uri="http://schemas.openxmlformats.org/drawingml/2006/table">
            <a:tbl>
              <a:tblPr/>
              <a:tblGrid>
                <a:gridCol w="9072720"/>
              </a:tblGrid>
              <a:tr h="78732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2908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adición y enume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emás, y, tambié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aus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que, ya que, dado que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mpa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o, al igual que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di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secuenci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tanto, por ell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traste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ero, en cambio, sin embarg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6013440" indent="-252360" algn="ctr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(Sig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79640" y="1908000"/>
          <a:ext cx="7993080" cy="42357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8768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48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jemplifica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ejemplo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xplicación: 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otras palabras, es decir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inalidad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fin de, para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posi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unque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general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1763640"/>
          <a:ext cx="9433080" cy="546732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560916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n texto expositivo se divide en introducción, desarrollo y cierre o conclusión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roducc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e concreta y presenta el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sarroll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(también llamado "cuerpo de la exposición"): explicación de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74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re o conclus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breve resumen o recapitulación; a veces puede faltar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6000" y="1908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lfabét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s el orden más sencillo, propio de glosarios, 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l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descripción de las diversas partes en que se compone alg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lasificatori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presenta tipos o clases, que reúnen elementos que tienen algo en común, que define la clase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criterio analizante, y el clasificatorio, se pueden incluir en una categoría más general: la estructura "deductiva", llamada así porque pasa de lo más general a lo más particula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11:38:53Z</dcterms:modified>
  <cp:revision>17</cp:revision>
  <dc:subject/>
  <dc:title>EL TEXTO DESCRIPTIVO  </dc:title>
</cp:coreProperties>
</file>