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CE15-157F-471B-9975-5CE861174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ADA4-0349-4EE4-A442-C833BAA7D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172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6063-8421-4C25-981F-98FA4D714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7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18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7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18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3E39-50A0-440E-AAAB-963A0EBCC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B6201-63C1-4DF4-925F-4DB185500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3E139-DFBD-4D27-8602-3A7230194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1254A-6881-4569-A04A-948E15CEA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64FBD-29C3-4209-81E6-81B880E0B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4DC67-A686-449E-ADC6-E1326EE6E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6840" y="277560"/>
            <a:ext cx="8224920" cy="52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85300-A3C6-43E1-B743-DC68018BF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CA634-BD05-4CAF-AFDC-0744ACB3E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F735-C887-409E-BEEF-AEC487608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172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2FDED-9048-42C5-8E83-4320EC5F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E6401-9987-4C1F-AC2B-CE7829F9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3C6FF-20AD-441F-9E8B-0FEE8933B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172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14A4A-A897-4A07-8967-277E6080D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7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18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7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18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40576-D663-49F1-97DF-5B9DADC28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5E6E-CA96-4CB1-90D4-EC6CC1794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84F8-3B9F-49BE-B1C8-27C6816C5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A34E-7A78-433E-8D0A-0EC601C6C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6840" y="277560"/>
            <a:ext cx="8224920" cy="52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E02F-CA3D-4217-994D-2D888EC4F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4B99-3FD1-4188-934E-9AE67E89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172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0310-C542-40E8-8BF8-36A910F2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E558-4570-4AF1-8652-6B2ADFC4E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9320" cy="6929280"/>
            <a:chOff x="0" y="0"/>
            <a:chExt cx="9139320" cy="692928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87720" cy="312264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48000" cy="254160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18320" cy="149220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39720" cy="189216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5200" cy="359280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3920" cy="238932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0600" cy="127476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4920" cy="16524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46840" cy="117792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39320" cy="452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39320" cy="52848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39320" cy="452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56200" cy="320832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398760" cy="283212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4880" cy="375120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27200" cy="306540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286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21290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DEA988-CFAC-449A-BE6E-FAD5ECEBFA44}" type="slidenum">
              <a:rPr b="0" lang="es-E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39320" cy="6929280"/>
            <a:chOff x="0" y="0"/>
            <a:chExt cx="9139320" cy="692928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87720" cy="312264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48000" cy="254160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18320" cy="149220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39720" cy="189216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5200" cy="359280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3920" cy="238932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0600" cy="127476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4920" cy="16524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46840" cy="117792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39320" cy="452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39320" cy="52848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39320" cy="452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56200" cy="320832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398760" cy="283212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4880" cy="375120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27200" cy="306540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1828440"/>
            <a:ext cx="776772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286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1290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0AF8D5F-9981-466B-8864-D3BE8543375C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300" spc="-1" strike="noStrike">
                <a:solidFill>
                  <a:srgbClr val="ffffff"/>
                </a:solidFill>
                <a:latin typeface="Comic Sans MS"/>
              </a:rPr>
              <a:t>ADECUACIÓN (I)</a:t>
            </a:r>
            <a:br>
              <a:rPr sz="2300"/>
            </a:br>
            <a:r>
              <a:rPr b="1" lang="es-ES" sz="2300" spc="-1" strike="noStrike">
                <a:solidFill>
                  <a:srgbClr val="ffffff"/>
                </a:solidFill>
                <a:latin typeface="Comic Sans MS"/>
              </a:rPr>
              <a:t>Textos orales y escritos</a:t>
            </a: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68360" y="1628640"/>
          <a:ext cx="8128080" cy="4621320"/>
        </p:xfrm>
        <a:graphic>
          <a:graphicData uri="http://schemas.openxmlformats.org/drawingml/2006/table">
            <a:tbl>
              <a:tblPr/>
              <a:tblGrid>
                <a:gridCol w="2989080"/>
                <a:gridCol w="2781360"/>
                <a:gridCol w="2357640"/>
              </a:tblGrid>
              <a:tr h="427320">
                <a:tc>
                  <a:txBody>
                    <a:bodyPr lIns="90000" rIns="90000" tIns="1126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ASGOS FORMAL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1126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GISTRO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1126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INAL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465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spcBef>
                          <a:spcPts val="400"/>
                        </a:spcBef>
                        <a:buSzPct val="100000"/>
                        <a:buBlip>
                          <a:blip r:embed="rId1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ipografía</a:t>
                      </a:r>
                      <a:r>
                        <a:rPr b="0" lang="es-ES" sz="21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(tipo de letra, negrita, cur-siva, etc.) 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spcBef>
                          <a:spcPts val="400"/>
                        </a:spcBef>
                        <a:buSzPct val="100000"/>
                        <a:buBlip>
                          <a:blip r:embed="rId2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tografía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spcBef>
                          <a:spcPts val="400"/>
                        </a:spcBef>
                        <a:buSzPct val="100000"/>
                        <a:buBlip>
                          <a:blip r:embed="rId3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sposición</a:t>
                      </a:r>
                      <a:r>
                        <a:rPr b="0" lang="es-ES" sz="21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(már-genes, espaciados, columnas,…) 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spcBef>
                          <a:spcPts val="400"/>
                        </a:spcBef>
                        <a:buSzPct val="100000"/>
                        <a:buBlip>
                          <a:blip r:embed="rId4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mágenes y signos</a:t>
                      </a:r>
                      <a:r>
                        <a:rPr b="0" lang="es-ES" sz="21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especiales (numera-ción, emoticonos, etc)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spcBef>
                          <a:spcPts val="499"/>
                        </a:spcBef>
                        <a:buSzPct val="100000"/>
                        <a:buBlip>
                          <a:blip r:embed="rId5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lación entre emisor y receptor</a:t>
                      </a:r>
                      <a:r>
                        <a:rPr b="0" lang="es-ES" sz="21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(jefe-empleado, profesor-alumno, padres-hijos)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spcBef>
                          <a:spcPts val="499"/>
                        </a:spcBef>
                        <a:buSzPct val="100000"/>
                        <a:buBlip>
                          <a:blip r:embed="rId6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rcunstancias</a:t>
                      </a:r>
                      <a:r>
                        <a:rPr b="0" lang="es-ES" sz="21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en que se produce la comunicación: formal e informal.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tención comunicativa: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buSzPct val="100000"/>
                        <a:buBlip>
                          <a:blip r:embed="rId7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forma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buSzPct val="100000"/>
                        <a:buBlip>
                          <a:blip r:embed="rId8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xpone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buSzPct val="100000"/>
                        <a:buBlip>
                          <a:blip r:embed="rId9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clara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buSzPct val="100000"/>
                        <a:buBlip>
                          <a:blip r:embed="rId10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gunta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buSzPct val="100000"/>
                        <a:buBlip>
                          <a:blip r:embed="rId11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rgumenta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buSzPct val="100000"/>
                        <a:buBlip>
                          <a:blip r:embed="rId12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dena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buSzPct val="100000"/>
                        <a:buBlip>
                          <a:blip r:embed="rId13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di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300" spc="-1" strike="noStrike">
                <a:solidFill>
                  <a:srgbClr val="ffffff"/>
                </a:solidFill>
                <a:latin typeface="Comic Sans MS"/>
              </a:rPr>
              <a:t>ADECUACIÓN (II)</a:t>
            </a:r>
            <a:br>
              <a:rPr sz="2300"/>
            </a:br>
            <a:r>
              <a:rPr b="1" lang="es-ES" sz="2300" spc="-1" strike="noStrike">
                <a:solidFill>
                  <a:srgbClr val="ffffff"/>
                </a:solidFill>
                <a:latin typeface="Comic Sans MS"/>
              </a:rPr>
              <a:t>Textos orales y escritos</a:t>
            </a: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87280" y="1628640"/>
          <a:ext cx="8502840" cy="4537080"/>
        </p:xfrm>
        <a:graphic>
          <a:graphicData uri="http://schemas.openxmlformats.org/drawingml/2006/table">
            <a:tbl>
              <a:tblPr/>
              <a:tblGrid>
                <a:gridCol w="3176640"/>
                <a:gridCol w="3094200"/>
                <a:gridCol w="2232000"/>
              </a:tblGrid>
              <a:tr h="455040">
                <a:tc>
                  <a:txBody>
                    <a:bodyPr lIns="90000" rIns="90000" tIns="1126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ASGOS FORMAL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1126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GISTRO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1126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INAL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408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buSzPct val="100000"/>
                        <a:buBlip>
                          <a:blip r:embed="rId1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urnos de palabra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buSzPct val="100000"/>
                        <a:buBlip>
                          <a:blip r:embed="rId2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laboración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entre emisor y receptor.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buSzPct val="100000"/>
                        <a:buBlip>
                          <a:blip r:embed="rId3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ocimientos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del mundo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buSzPct val="100000"/>
                        <a:buBlip>
                          <a:blip r:embed="rId4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oximidad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(cerca-nía o distancia emo-cional)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buSzPct val="100000"/>
                        <a:buBlip>
                          <a:blip r:embed="rId5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nal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(hablado, es-crito, en un SMS, en un foro de internet, etc.)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buSzPct val="100000"/>
                        <a:buBlip>
                          <a:blip r:embed="rId6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forma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buSzPct val="100000"/>
                        <a:buBlip>
                          <a:blip r:embed="rId7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xpone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buSzPct val="100000"/>
                        <a:buBlip>
                          <a:blip r:embed="rId8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clara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buSzPct val="100000"/>
                        <a:buBlip>
                          <a:blip r:embed="rId9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gunta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buSzPct val="100000"/>
                        <a:buBlip>
                          <a:blip r:embed="rId10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rgumenta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buSzPct val="100000"/>
                        <a:buBlip>
                          <a:blip r:embed="rId11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dena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buSzPct val="100000"/>
                        <a:buBlip>
                          <a:blip r:embed="rId12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di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300" spc="-1" strike="noStrike">
                <a:solidFill>
                  <a:srgbClr val="ffffff"/>
                </a:solidFill>
                <a:latin typeface="Comic Sans MS"/>
              </a:rPr>
              <a:t>COHERENCIA</a:t>
            </a:r>
            <a:br>
              <a:rPr sz="2300"/>
            </a:br>
            <a:r>
              <a:rPr b="1" lang="es-ES" sz="2300" spc="-1" strike="noStrike">
                <a:solidFill>
                  <a:srgbClr val="ffffff"/>
                </a:solidFill>
                <a:latin typeface="Comic Sans MS"/>
              </a:rPr>
              <a:t>Textos orales y escritos</a:t>
            </a: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24000" y="1628640"/>
          <a:ext cx="8642160" cy="4824720"/>
        </p:xfrm>
        <a:graphic>
          <a:graphicData uri="http://schemas.openxmlformats.org/drawingml/2006/table">
            <a:tbl>
              <a:tblPr/>
              <a:tblGrid>
                <a:gridCol w="1977840"/>
                <a:gridCol w="1749600"/>
                <a:gridCol w="2178000"/>
                <a:gridCol w="2736720"/>
              </a:tblGrid>
              <a:tr h="395640">
                <a:tc>
                  <a:txBody>
                    <a:bodyPr lIns="90000" rIns="90000" tIns="1126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ORMA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1126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1126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TRUCTUR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1126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AL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456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spcBef>
                          <a:spcPts val="499"/>
                        </a:spcBef>
                        <a:buSzPct val="100000"/>
                        <a:buBlip>
                          <a:blip r:embed="rId1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leccionar 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o que quere-mos comuni-car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spcBef>
                          <a:spcPts val="499"/>
                        </a:spcBef>
                        <a:buSzPct val="100000"/>
                        <a:buBlip>
                          <a:blip r:embed="rId2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ganizar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la infor- mación de acuerdo con nuestro propósito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buSzPct val="100000"/>
                        <a:buBlip>
                          <a:blip r:embed="rId3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nidad temática 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 todos los enuncia-dos. Un eje temático, sin  des-viarnos de nuestro objetivo.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buSzPct val="100000"/>
                        <a:buBlip>
                          <a:blip r:embed="rId4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ógica 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 los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nunciados; sin  contradic-ciones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buSzPct val="100000"/>
                        <a:buBlip>
                          <a:blip r:embed="rId5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den y je-rarquía 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 las ideas, desde las más gene-rales a las más particulares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spcBef>
                          <a:spcPts val="1100"/>
                        </a:spcBef>
                        <a:buSzPct val="100000"/>
                        <a:buBlip>
                          <a:blip r:embed="rId6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ramatical: 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ay que tener en cuen-ta las normas gra-maticales de la len-gua empleada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spcBef>
                          <a:spcPts val="1100"/>
                        </a:spcBef>
                        <a:buSzPct val="100000"/>
                        <a:buBlip>
                          <a:blip r:embed="rId7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éxica: 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bemos emplear un léxico, variado, preciso y adecuado a la te-mática del texto.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300" spc="-1" strike="noStrike">
                <a:solidFill>
                  <a:srgbClr val="ffffff"/>
                </a:solidFill>
                <a:latin typeface="Comic Sans MS"/>
              </a:rPr>
              <a:t>COHESIÓN (I)</a:t>
            </a:r>
            <a:br>
              <a:rPr sz="2300"/>
            </a:br>
            <a:r>
              <a:rPr b="1" lang="es-ES" sz="2300" spc="-1" strike="noStrike">
                <a:solidFill>
                  <a:srgbClr val="ffffff"/>
                </a:solidFill>
                <a:latin typeface="Comic Sans MS"/>
              </a:rPr>
              <a:t>Textos orales y escritos</a:t>
            </a: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24000" y="1628640"/>
          <a:ext cx="8643960" cy="4829400"/>
        </p:xfrm>
        <a:graphic>
          <a:graphicData uri="http://schemas.openxmlformats.org/drawingml/2006/table">
            <a:tbl>
              <a:tblPr/>
              <a:tblGrid>
                <a:gridCol w="3960720"/>
                <a:gridCol w="4683240"/>
              </a:tblGrid>
              <a:tr h="482040">
                <a:tc>
                  <a:txBody>
                    <a:bodyPr lIns="90000" rIns="90000" tIns="1126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ÍCTIC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1126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ÉXIC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434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37000"/>
                        </a:lnSpc>
                        <a:spcBef>
                          <a:spcPts val="400"/>
                        </a:spcBef>
                        <a:buSzPct val="100000"/>
                        <a:buBlip>
                          <a:blip r:embed="rId1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onombres 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rsonales, demostrativos, indefinidos, posesivos,…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37000"/>
                        </a:lnSpc>
                        <a:spcBef>
                          <a:spcPts val="400"/>
                        </a:spcBef>
                        <a:buSzPct val="100000"/>
                        <a:buBlip>
                          <a:blip r:embed="rId2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terminantes: 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rtículos, posesivos, demostrativos,…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37000"/>
                        </a:lnSpc>
                        <a:spcBef>
                          <a:spcPts val="400"/>
                        </a:spcBef>
                        <a:buSzPct val="100000"/>
                        <a:buBlip>
                          <a:blip r:embed="rId3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dverbios 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 tiempo, lu-gar, modo,…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37000"/>
                        </a:lnSpc>
                        <a:spcBef>
                          <a:spcPts val="400"/>
                        </a:spcBef>
                        <a:buSzPct val="100000"/>
                        <a:buBlip>
                          <a:blip r:embed="rId4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3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petición 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 palabras idénticas o de la misma clase gramatical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37000"/>
                        </a:lnSpc>
                        <a:spcBef>
                          <a:spcPts val="400"/>
                        </a:spcBef>
                        <a:buSzPct val="100000"/>
                        <a:buBlip>
                          <a:blip r:embed="rId5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ustitución 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 palabras por otras de significado equivalente o próximo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37000"/>
                        </a:lnSpc>
                        <a:spcBef>
                          <a:spcPts val="400"/>
                        </a:spcBef>
                        <a:buSzPct val="100000"/>
                        <a:buBlip>
                          <a:blip r:embed="rId6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lipsis 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 omisión de palabras que se sobreentienden por el contexto.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LA COHESIÓN (II) </a:t>
            </a:r>
            <a:br>
              <a:rPr sz="2400"/>
            </a:b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Textos orales y escritos</a:t>
            </a: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79280" y="1413000"/>
          <a:ext cx="8454960" cy="4968720"/>
        </p:xfrm>
        <a:graphic>
          <a:graphicData uri="http://schemas.openxmlformats.org/drawingml/2006/table">
            <a:tbl>
              <a:tblPr/>
              <a:tblGrid>
                <a:gridCol w="2521080"/>
                <a:gridCol w="3394080"/>
                <a:gridCol w="2539800"/>
              </a:tblGrid>
              <a:tr h="395640">
                <a:tc>
                  <a:txBody>
                    <a:bodyPr lIns="90000" rIns="90000" tIns="1126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EXTOS ORALES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 gridSpan="2">
                  <a:txBody>
                    <a:bodyPr lIns="90000" rIns="90000" tIns="1126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EXTOS ORALES Y ESCRITOS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>
                  <a:txBody>
                    <a:bodyPr lIns="90000" rIns="90000" tIns="10476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ECTORES DE FUNCIÓN FÁTICA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 MOD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10476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ECTOR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10476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GANIZADOR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387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4000"/>
                        </a:lnSpc>
                        <a:spcBef>
                          <a:spcPts val="286"/>
                        </a:spcBef>
                        <a:buSzPct val="100000"/>
                        <a:buBlip>
                          <a:blip r:embed="rId1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s-ES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erteza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laro,…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4000"/>
                        </a:lnSpc>
                        <a:spcBef>
                          <a:spcPts val="286"/>
                        </a:spcBef>
                        <a:buSzPct val="100000"/>
                        <a:buBlip>
                          <a:blip r:embed="rId2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cuerdo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ale,…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4000"/>
                        </a:lnSpc>
                        <a:spcBef>
                          <a:spcPts val="286"/>
                        </a:spcBef>
                        <a:buSzPct val="100000"/>
                        <a:buBlip>
                          <a:blip r:embed="rId3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rticipación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ye,…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buSzPct val="100000"/>
                        <a:buBlip>
                          <a:blip r:embed="rId4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claración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ueno,...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buSzPct val="100000"/>
                        <a:buBlip>
                          <a:blip r:embed="rId5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dición: </a:t>
                      </a:r>
                      <a:r>
                        <a:rPr b="0" i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demás, también,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buSzPct val="100000"/>
                        <a:buBlip>
                          <a:blip r:embed="rId6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traste: </a:t>
                      </a:r>
                      <a:r>
                        <a:rPr b="0" i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ro, en cambio,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buSzPct val="100000"/>
                        <a:buBlip>
                          <a:blip r:embed="rId7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bjeción: </a:t>
                      </a:r>
                      <a:r>
                        <a:rPr b="0" i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unque, a pesar de que,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buSzPct val="100000"/>
                        <a:buBlip>
                          <a:blip r:embed="rId8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usa: </a:t>
                      </a:r>
                      <a:r>
                        <a:rPr b="0" i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rque, ya que,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buSzPct val="100000"/>
                        <a:buBlip>
                          <a:blip r:embed="rId9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secuencia:</a:t>
                      </a:r>
                      <a:r>
                        <a:rPr b="1" i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i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r lo tanto, por consiguiente,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buSzPct val="100000"/>
                        <a:buBlip>
                          <a:blip r:embed="rId10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claración:</a:t>
                      </a:r>
                      <a:r>
                        <a:rPr b="1" i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i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r ejemplo, es decir,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buSzPct val="100000"/>
                        <a:buBlip>
                          <a:blip r:embed="rId11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iempo:</a:t>
                      </a:r>
                      <a:r>
                        <a:rPr b="1" i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i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imero, luego, 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buSzPct val="100000"/>
                        <a:buBlip>
                          <a:blip r:embed="rId12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erteza:</a:t>
                      </a:r>
                      <a:r>
                        <a:rPr b="1" i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i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r supuesto, natu-ralmente,…</a:t>
                      </a:r>
                      <a:r>
                        <a:rPr b="1" i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buSzPct val="100000"/>
                        <a:buBlip>
                          <a:blip r:embed="rId13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dición:</a:t>
                      </a:r>
                      <a:r>
                        <a:rPr b="1" i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i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, siempre y cuando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buSzPct val="100000"/>
                        <a:buBlip>
                          <a:blip r:embed="rId14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 apertura: </a:t>
                      </a:r>
                      <a:r>
                        <a:rPr b="0" i="1" lang="es-ES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ra empezar, en primer lugar,…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4000"/>
                        </a:lnSpc>
                        <a:spcBef>
                          <a:spcPts val="286"/>
                        </a:spcBef>
                        <a:buSzPct val="100000"/>
                        <a:buBlip>
                          <a:blip r:embed="rId15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es-ES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 distribución: </a:t>
                      </a:r>
                      <a:r>
                        <a:rPr b="0" i="1" lang="es-ES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r una parte, por otra (parte),…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buSzPct val="100000"/>
                        <a:buBlip>
                          <a:blip r:embed="rId16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es-ES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 cierre: </a:t>
                      </a:r>
                      <a:r>
                        <a:rPr b="0" i="1" lang="es-ES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n de-finitiva, por último,…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2T19:38:06Z</dcterms:created>
  <dc:creator>Guillermo</dc:creator>
  <dc:description/>
  <dc:language>en-US</dc:language>
  <cp:lastModifiedBy>Guillermo</cp:lastModifiedBy>
  <dcterms:modified xsi:type="dcterms:W3CDTF">2014-07-19T06:58:13Z</dcterms:modified>
  <cp:revision>18</cp:revision>
  <dc:subject/>
  <dc:title>ADECUACIÓN Textos orales y escritos </dc:title>
</cp:coreProperties>
</file>